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B70-6BBB-4DBA-96E9-711C31902F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BD2E-81AE-4116-9A6C-8A1BBA85FF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882-63BB-4825-AA8E-36F7F390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F50-761B-4EE7-A6A3-322BE36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8C7-C8D2-4D86-B09E-00BB382D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6FE-248D-444A-8A28-32385066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FC4-52A9-486D-AB60-AB81629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7E1-C712-4CD5-BEA3-BF5B2226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77B-1DD1-4515-ABA5-510DB03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F88-A093-4FFE-8A34-1DF8F72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579-1935-4139-A030-B64CB8F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6A8-2C6A-4B0A-9EF1-D21E1EA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706-CBD9-4F99-A236-D0E78B0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048-F476-429F-A0BC-218B190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3AE-1DA5-4D07-97AF-53A850F1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116000" y="1628640"/>
            <a:ext cx="691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楷体_GB2312"/>
              </a:rPr>
              <a:t>世界儿童和平条约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3300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700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想要一个没有战争和武器的星球，我们要除掉疾病和破坏，我们再也不要憎恨和饥饿，我们不想无家可归，我们要废除这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42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用“想要”、“要”、“不要”、“不想”表现了世界儿童对战争、疾病和饥饿的憎恶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ēng wù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从侧面表达了他们对和平的强烈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小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00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大地给予我们足够的食品，我们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共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天空给予我们遍地的彩虹，我们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保卫它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河水给予我们不朽的生命，我们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保持它们的洁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要共同游戏，共同欢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互相学习，一起探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要提高大家的生活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366920" y="5950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战火中的儿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859280" y="5589720"/>
            <a:ext cx="361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饥饿中的儿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2916360" y="1413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203ba5bf7"/>
          <p:cNvPicPr/>
          <p:nvPr/>
        </p:nvPicPr>
        <p:blipFill>
          <a:blip r:embed="rId1"/>
          <a:stretch/>
        </p:blipFill>
        <p:spPr>
          <a:xfrm>
            <a:off x="826920" y="189000"/>
            <a:ext cx="7201080" cy="475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50760" y="515772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2003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日，在加沙地带南部一难民营，一名巴勒斯坦儿童躲在被以军炸毁的家园里向外张望，他的眼中充满了惊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1203ba50e5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45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95280" y="4869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透过炮弹炸开的墙壁看得见外边的风景与硝烟，可是，家已经没有了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名利比里亚政府军士兵奋力保卫一座桥梁 "/>
          <p:cNvPicPr/>
          <p:nvPr/>
        </p:nvPicPr>
        <p:blipFill>
          <a:blip r:embed="rId1"/>
          <a:stretch/>
        </p:blipFill>
        <p:spPr>
          <a:xfrm>
            <a:off x="0" y="0"/>
            <a:ext cx="9468000" cy="6772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55640" y="53737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利比里亚政府军士兵奋力保卫一座桥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564280" y="549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日本广岛原子弹后尸横遍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中东在浓烟闪光》 一个巴勒斯坦青年躲在燃烧着的路障后面，用他的小弹弓向以色列士兵射击 "/>
          <p:cNvPicPr/>
          <p:nvPr/>
        </p:nvPicPr>
        <p:blipFill>
          <a:blip r:embed="rId1"/>
          <a:stretch/>
        </p:blipFill>
        <p:spPr>
          <a:xfrm>
            <a:off x="324000" y="189000"/>
            <a:ext cx="5111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94720" y="260280"/>
            <a:ext cx="1277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一个巴勒斯坦青年躲在燃烧着的路障后面，用他的小弹弓向以色列士兵射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24000" y="5516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在伊拉克战争中失去儿子的母亲在一双标有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儿子姓名的靴子旁哭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9246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268280"/>
            <a:ext cx="7848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条约</a:t>
            </a:r>
            <a:r>
              <a:rPr b="0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国与国之间签定的有关政治、军事等方面的权利与义务的文书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5280" y="1197000"/>
            <a:ext cx="83534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十世纪全球战争的罪恶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一次世界大战死亡人数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00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次世界大战死亡人数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570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946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983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世界上因战争死亡人数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3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在本世纪因战争死亡人数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000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布隆迪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99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2000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七年内战死亡人数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难民人数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阿富汗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1979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2000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因战争造成难民人数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00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全球挨饿人口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800000000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主要原因是战争和内乱所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占世界总人口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41300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世界的儿童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宣告未来的和平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想要一个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战争和武器的星球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要除掉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疾病和破坏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再也不要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憎恨和饥饿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再也不要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家可归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要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消灭这一切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104840" y="4727520"/>
            <a:ext cx="79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1700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的大地给予我们足够的食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享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的天空给予我们遍地的彩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保卫他们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的河水给予我们不朽的生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保持他们洁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要共同欢笑，共同游玩，共同工作，互相学习，探索和提高大家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是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平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现在的和平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久的和平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大家的和平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24000" y="1916280"/>
            <a:ext cx="8424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仿说句子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   ）给予我们（ 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将（    ）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17DC-0715-4629-8A58-BBA655758A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170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986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年为联合国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国际和平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这一年，全世界围绕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和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一主题，开展了一系列活动。其中之一就是签定一项公约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——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世界儿童和平条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同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全世界儿童聚集在美国纽约，分别代表本国儿童在条约上签字。代表中国在条约上签字的是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岁的小学生刘玉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界儿童和平条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全世界纯洁善良的儿童一齐发出的宣告，他们用稚嫩但又坚定的声音向着世界的主宰者发出最深情的恳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 flipV="1" rot="10827000">
            <a:off x="705240" y="1657800"/>
            <a:ext cx="7929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自由读课文：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把自己认为难懂的词句做上记号，联系实际想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1052640"/>
            <a:ext cx="58323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zēnɡ</a:t>
            </a: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j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憎 恨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给 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讨论，请合作解决以下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歌共有几小节，每小节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界儿童和平条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达了世界各国儿童们怎样的美好愿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哪些语句表现了世界儿童对和平和幸福的渴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诗歌共有几小节，每小节的主要内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小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小节：点明了未来的世界应该和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全世界的儿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宣告未来的和平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想要一个没有战争和武器的星球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要除掉疾病和破坏，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再也不要憎恨和饥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不想无家可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要废除这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句子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全世界的儿童，宣告未来的和平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句话点明中心，体现了全世界儿童渴望和平的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1:42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08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