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96FA7-004B-4A24-B691-92F7849C20E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3.xml"/><Relationship Id="rId24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5491D-1F34-41BB-88A0-FE4A61EC400E}" type="slidenum">
              <a:rPr b="0" lang="zh-CN" sz="12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6A3E-BFF0-46C7-B916-6D1AE1463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0F14-AE72-412B-AC8A-1F883F9A5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0625-F967-4340-97CC-522972BC7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C856-2DF5-4B17-B0CC-3C5F27E06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AA04E-40B0-4F2E-B81A-D9B07181A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F6B77-4BC5-4D05-AE01-920128EE0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E0541-719C-4A7C-837C-2103E2954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C158D-1540-443E-9B53-954778506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B731D-064E-4214-9FAD-BDC69437D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B6892-316B-4CA3-98A8-EB27D3169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E98BC-7F9A-4734-920B-3BE81B9D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B349-1C27-4941-9703-549699010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8BB47-F6D4-40A7-AB11-9BB8689A0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F0DA0-B08C-4176-A63A-34E3229FC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59530-FC42-46EE-972E-70CE7A92B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001A0-F5EC-476B-A0DE-6D409D530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C5A39-8AA8-42BF-8720-83494F74D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F5D7-BAF7-4809-9DDE-0146838C0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C3F5-963F-494B-A5FC-8102BCD88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8BE4-249A-4AB6-B7CF-6C700EA55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25D0-D2B4-46AB-B7F9-B70662762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A26D-B744-4105-A337-1C5B1A09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AE67-F3FC-48F6-A55F-A9E7C762F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B056-05E6-4BCB-B4A2-55E95A1F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c1e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000"/>
              <a:chOff x="6273360" y="-21240"/>
              <a:chExt cx="2870280" cy="226800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000"/>
                <a:chOff x="6273360" y="-21240"/>
                <a:chExt cx="2867400" cy="226800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3960" y="843120"/>
                  <a:ext cx="1064520" cy="1140840"/>
                  <a:chOff x="7833960" y="843120"/>
                  <a:chExt cx="1064520" cy="114084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160" y="113328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560" y="1601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7960" y="906120"/>
                  <a:ext cx="1064160" cy="1141560"/>
                  <a:chOff x="6537960" y="906120"/>
                  <a:chExt cx="1064160" cy="114156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524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84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200"/>
                  <a:ext cx="608040" cy="784440"/>
                  <a:chOff x="7111800" y="16200"/>
                  <a:chExt cx="60804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4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600" y="103680"/>
                    <a:ext cx="30312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560"/>
                  <a:chOff x="7665480" y="-11160"/>
                  <a:chExt cx="497520" cy="79056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432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600" y="38160"/>
                  <a:ext cx="785880" cy="747720"/>
                  <a:chOff x="7662600" y="38160"/>
                  <a:chExt cx="785880" cy="74772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0840" y="454680"/>
                    <a:ext cx="59256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08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080"/>
                  <a:ext cx="177840" cy="745920"/>
                  <a:chOff x="7708680" y="-1080"/>
                  <a:chExt cx="177840" cy="74592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52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080" cy="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0760" y="930240"/>
                  <a:ext cx="912960" cy="1248840"/>
                  <a:chOff x="6710760" y="93024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6400"/>
                    <a:ext cx="88452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2920" y="1787760"/>
                    <a:ext cx="47448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960" y="979200"/>
                  <a:ext cx="615600" cy="1248480"/>
                  <a:chOff x="7014960" y="979200"/>
                  <a:chExt cx="61560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560" y="1307880"/>
                    <a:ext cx="81792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5160" y="1851120"/>
                    <a:ext cx="43884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3240" cy="1217880"/>
                  <a:chOff x="7312680" y="1001160"/>
                  <a:chExt cx="36324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280" y="1328400"/>
                    <a:ext cx="785520" cy="143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280" y="1877040"/>
                    <a:ext cx="421200" cy="226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50760" cy="1229040"/>
                  <a:chOff x="7798680" y="909360"/>
                  <a:chExt cx="95076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440"/>
                    <a:ext cx="47484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240" cy="1262160"/>
                  <a:chOff x="7786800" y="956160"/>
                  <a:chExt cx="732240" cy="126216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880"/>
                    <a:ext cx="846360" cy="15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79840" y="1841040"/>
                    <a:ext cx="4539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1640"/>
                  <a:chOff x="7756920" y="1005120"/>
                  <a:chExt cx="510120" cy="124164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920" y="1907640"/>
                    <a:ext cx="44028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2880" y="1378080"/>
                    <a:ext cx="754560" cy="125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440"/>
                    <a:ext cx="40500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600" y="1077480"/>
                  <a:ext cx="276120" cy="1131840"/>
                  <a:chOff x="7500600" y="1077480"/>
                  <a:chExt cx="276120" cy="113184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0760"/>
                    <a:ext cx="7372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880"/>
                    <a:ext cx="395640" cy="15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5F8EA-4070-4D22-AFF4-912E92F1CF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c1e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1840"/>
            <a:chOff x="2010960" y="245520"/>
            <a:chExt cx="6896160" cy="545184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1840"/>
              <a:chOff x="2010960" y="245520"/>
              <a:chExt cx="6896160" cy="545184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1840"/>
                <a:chOff x="2010960" y="245520"/>
                <a:chExt cx="6891120" cy="545184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1840"/>
                  <a:chOff x="2010960" y="245520"/>
                  <a:chExt cx="6891120" cy="545184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360"/>
                    <a:ext cx="2558160" cy="2742840"/>
                    <a:chOff x="5762160" y="2322360"/>
                    <a:chExt cx="255816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320" y="3019680"/>
                      <a:ext cx="212652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3400" y="4145040"/>
                      <a:ext cx="114084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720" y="2474640"/>
                    <a:ext cx="2556720" cy="2740680"/>
                    <a:chOff x="2646720" y="2474640"/>
                    <a:chExt cx="2556720" cy="274068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3680" y="3172320"/>
                      <a:ext cx="21268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2080" y="4296240"/>
                      <a:ext cx="114084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7320" y="335520"/>
                    <a:ext cx="1460520" cy="1885680"/>
                    <a:chOff x="4027320" y="335520"/>
                    <a:chExt cx="1460520" cy="18856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960"/>
                      <a:ext cx="13561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720" y="546480"/>
                      <a:ext cx="72900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120" y="537840"/>
                    <a:ext cx="680400" cy="28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6080" y="270000"/>
                    <a:ext cx="1196280" cy="1901160"/>
                    <a:chOff x="5356080" y="27000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7520" y="1418400"/>
                      <a:ext cx="1308600" cy="22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800" y="388800"/>
                    <a:ext cx="1891080" cy="1796400"/>
                    <a:chOff x="5347800" y="388800"/>
                    <a:chExt cx="1891080" cy="179640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720" y="1389240"/>
                      <a:ext cx="142380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7320" cy="1795320"/>
                    <a:chOff x="5458320" y="292680"/>
                    <a:chExt cx="42732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600" y="1445760"/>
                      <a:ext cx="1175040" cy="10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2480" y="532800"/>
                      <a:ext cx="630360" cy="1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520" y="2530800"/>
                    <a:ext cx="2195280" cy="3002400"/>
                    <a:chOff x="3062520" y="2530800"/>
                    <a:chExt cx="2195280" cy="300240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9280" y="3314880"/>
                      <a:ext cx="212652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360" y="4591800"/>
                      <a:ext cx="114084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8600" y="3439440"/>
                      <a:ext cx="19656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4000" y="4745160"/>
                      <a:ext cx="10548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8280" y="2703600"/>
                    <a:ext cx="875160" cy="2926800"/>
                    <a:chOff x="4508280" y="2703600"/>
                    <a:chExt cx="875160" cy="292680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6720" y="3489840"/>
                      <a:ext cx="1887480" cy="345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5720" y="4809240"/>
                      <a:ext cx="1012680" cy="54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7560" y="2483280"/>
                    <a:ext cx="2280960" cy="2953080"/>
                    <a:chOff x="5677560" y="2483280"/>
                    <a:chExt cx="2280960" cy="295308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480" y="3250440"/>
                      <a:ext cx="212652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400" y="4497840"/>
                      <a:ext cx="114084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440"/>
                    <a:ext cx="1757880" cy="3032640"/>
                    <a:chOff x="5648400" y="2593440"/>
                    <a:chExt cx="1757880" cy="303264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360" y="3395520"/>
                      <a:ext cx="2033280" cy="36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20320"/>
                      <a:ext cx="1090800" cy="57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4360" cy="2986560"/>
                    <a:chOff x="5576400" y="2710800"/>
                    <a:chExt cx="1224360" cy="298656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360" y="4881960"/>
                      <a:ext cx="105912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7320" cy="2778120"/>
                    <a:chOff x="5521320" y="2840760"/>
                    <a:chExt cx="697320" cy="277812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8280"/>
                      <a:ext cx="1812960" cy="30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920" y="4865040"/>
                      <a:ext cx="97380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1160" y="2887200"/>
                    <a:ext cx="663480" cy="2717640"/>
                    <a:chOff x="4961160" y="288720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2400" y="3663720"/>
                      <a:ext cx="1770840" cy="23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6360" y="4931280"/>
                      <a:ext cx="950040" cy="36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31936-FB56-4223-B665-F9C7BA6B8F18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4" descr="7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4419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微软雅黑"/>
                <a:ea typeface="微软雅黑"/>
              </a:rPr>
              <a:t>森林气象站</a:t>
            </a:r>
            <a:endParaRPr b="0" lang="en-US" sz="6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Text Box 7"/>
          <p:cNvSpPr/>
          <p:nvPr/>
        </p:nvSpPr>
        <p:spPr>
          <a:xfrm>
            <a:off x="609480" y="56844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湘教版二年级语文上册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0" name="矩形 6"/>
          <p:cNvSpPr/>
          <p:nvPr/>
        </p:nvSpPr>
        <p:spPr>
          <a:xfrm>
            <a:off x="1827000" y="598788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28240" y="-304920"/>
            <a:ext cx="29718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 Black"/>
              </a:rPr>
              <a:t>我会认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152280" y="19047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Black"/>
              </a:rPr>
              <a:t>外婆        蘑  菇          缩头缩脑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Black"/>
              </a:rPr>
              <a:t>吱吱        刮  风          损 坏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grpSp>
        <p:nvGrpSpPr>
          <p:cNvPr id="381" name="Group 6"/>
          <p:cNvGrpSpPr/>
          <p:nvPr/>
        </p:nvGrpSpPr>
        <p:grpSpPr>
          <a:xfrm>
            <a:off x="844920" y="1828800"/>
            <a:ext cx="4996440" cy="2135520"/>
            <a:chOff x="844920" y="1828800"/>
            <a:chExt cx="4996440" cy="2135520"/>
          </a:xfrm>
        </p:grpSpPr>
        <p:sp>
          <p:nvSpPr>
            <p:cNvPr id="382" name="Text Box 4"/>
            <p:cNvSpPr/>
            <p:nvPr/>
          </p:nvSpPr>
          <p:spPr>
            <a:xfrm>
              <a:off x="844920" y="1828800"/>
              <a:ext cx="4996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 Black"/>
                </a:rPr>
                <a:t>p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ó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 Black"/>
                </a:rPr>
                <a:t>      m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ó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 Black"/>
                </a:rPr>
                <a:t> gū       suō</a:t>
              </a:r>
              <a:r>
                <a:rPr b="0" lang="en-US" sz="1800" spc="-1" strike="noStrike">
                  <a:solidFill>
                    <a:srgbClr val="ffcc00"/>
                  </a:solidFill>
                  <a:latin typeface="Arial Black"/>
                </a:rPr>
                <a:t>  </a:t>
              </a: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383" name="Text Box 5"/>
            <p:cNvSpPr/>
            <p:nvPr/>
          </p:nvSpPr>
          <p:spPr>
            <a:xfrm>
              <a:off x="1052280" y="3260880"/>
              <a:ext cx="4707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 Black"/>
                </a:rPr>
                <a:t>zī       guā          sǔn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  </a:t>
              </a: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304920" y="914040"/>
            <a:ext cx="7772400" cy="25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 Black"/>
              </a:rPr>
              <a:t>再读课文，说说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 Black"/>
              </a:rPr>
              <a:t>森林气象站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Arial Black"/>
              </a:rPr>
              <a:t>里有哪些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 Black"/>
              </a:rPr>
              <a:t>气象员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Arial Black"/>
              </a:rPr>
              <a:t>。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 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5" name="Text Box 4"/>
          <p:cNvSpPr/>
          <p:nvPr/>
        </p:nvSpPr>
        <p:spPr>
          <a:xfrm>
            <a:off x="1829880" y="3048120"/>
            <a:ext cx="4874400" cy="20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 Black"/>
              </a:rPr>
              <a:t>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Arial Black"/>
              </a:rPr>
              <a:t>森林气象站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4000" spc="-1" strike="noStrike">
                <a:solidFill>
                  <a:srgbClr val="000000"/>
                </a:solidFill>
                <a:latin typeface="Arial Black"/>
              </a:rPr>
              <a:t>里的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Arial Black"/>
              </a:rPr>
              <a:t>气象员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4000" spc="-1" strike="noStrike">
                <a:solidFill>
                  <a:srgbClr val="000000"/>
                </a:solidFill>
                <a:latin typeface="Arial Black"/>
              </a:rPr>
              <a:t>有麻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 Black"/>
              </a:rPr>
              <a:t>雀、乌鸦。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 Black"/>
              </a:rPr>
              <a:t>探究解疑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1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 Black"/>
              </a:rPr>
              <a:t>森林气象站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Arial Black"/>
              </a:rPr>
              <a:t>里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 Black"/>
              </a:rPr>
              <a:t>气象员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Arial Black"/>
              </a:rPr>
              <a:t>是怎样预报天气的？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Black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  <a:ea typeface="楷体_GB2312"/>
              </a:rPr>
              <a:t>默读课文，把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  <a:ea typeface="楷体_GB2312"/>
              </a:rPr>
              <a:t>气象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  <a:ea typeface="楷体_GB2312"/>
              </a:rPr>
              <a:t>怎样预报天气的句子画上记号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-90360" y="1295280"/>
            <a:ext cx="755784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Arial Black"/>
              </a:rPr>
              <a:t>为什么麻雀在草地上跳来跳去，还在唱歌，就是晴天，而麻雀缩头缩脑，发出吱吱声，多半要下雨呢？</a:t>
            </a:r>
            <a:r>
              <a:rPr b="1" lang="zh-CN" sz="3600" spc="-1" strike="noStrike">
                <a:solidFill>
                  <a:srgbClr val="000000"/>
                </a:solidFill>
                <a:latin typeface="Arial Black"/>
                <a:ea typeface="楷体_GB2312"/>
              </a:rPr>
              <a:t>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8" name="Text Box 3"/>
          <p:cNvSpPr/>
          <p:nvPr/>
        </p:nvSpPr>
        <p:spPr>
          <a:xfrm>
            <a:off x="2083320" y="4419720"/>
            <a:ext cx="5118480" cy="21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Black"/>
              </a:rPr>
              <a:t>因为天气晴朗，麻雀感觉舒服，就愿意多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Black"/>
              </a:rPr>
              <a:t>活动，而天要下雨前，麻雀感觉到气温下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Black"/>
              </a:rPr>
              <a:t>降，气压加大，它不舒服，所以就不愿意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Black"/>
              </a:rPr>
              <a:t>活动。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0" y="2209320"/>
            <a:ext cx="7772400" cy="30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 Black"/>
              </a:rPr>
              <a:t>为什么能根据乌鸦站的方向判断风向呢？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0" name="WordArt 4"/>
          <p:cNvSpPr txBox="1"/>
          <p:nvPr/>
        </p:nvSpPr>
        <p:spPr>
          <a:xfrm>
            <a:off x="1143000" y="609480"/>
            <a:ext cx="40384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动脑筋想一想</a:t>
            </a:r>
            <a:endParaRPr b="0" lang="en-US" sz="18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91" name="Text Box 5"/>
          <p:cNvSpPr/>
          <p:nvPr/>
        </p:nvSpPr>
        <p:spPr>
          <a:xfrm>
            <a:off x="1918440" y="3733920"/>
            <a:ext cx="383832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乌鸦总是朝着风吹来的方向站着，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这样可以让风顺着羽毛吹，保护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羽毛不受损坏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228240" y="1447560"/>
            <a:ext cx="7628040" cy="41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你还知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森林气象站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中的哪些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气象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？它们是怎样预报天气的呢？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3" name="Text Box 4"/>
          <p:cNvSpPr/>
          <p:nvPr/>
        </p:nvSpPr>
        <p:spPr>
          <a:xfrm>
            <a:off x="3709080" y="3124080"/>
            <a:ext cx="40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Black"/>
              </a:rPr>
              <a:t>蚂蚁搬家，是要下雨。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Black"/>
              </a:rPr>
              <a:t>燕子低飞，也是要下雨。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-76320" y="1904760"/>
            <a:ext cx="7848720" cy="40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       </a:t>
            </a:r>
            <a:r>
              <a:rPr b="0" lang="zh-CN" sz="4400" spc="-1" strike="noStrike">
                <a:solidFill>
                  <a:srgbClr val="000000"/>
                </a:solidFill>
                <a:latin typeface="Arial Black"/>
              </a:rPr>
              <a:t>当你来到森林里，你怎么才能知道天气情况？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 Black"/>
              </a:rPr>
              <a:t>         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5" name="WordArt 4"/>
          <p:cNvSpPr txBox="1"/>
          <p:nvPr/>
        </p:nvSpPr>
        <p:spPr>
          <a:xfrm>
            <a:off x="1752480" y="685800"/>
            <a:ext cx="2819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思维拓展</a:t>
            </a:r>
            <a:endParaRPr b="0" lang="en-US" sz="1800" spc="1" strike="noStrike">
              <a:ln w="12600">
                <a:solidFill>
                  <a:srgbClr val="b2b2b2"/>
                </a:solidFill>
                <a:round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96" name="Text Box 5"/>
          <p:cNvSpPr/>
          <p:nvPr/>
        </p:nvSpPr>
        <p:spPr>
          <a:xfrm>
            <a:off x="2849760" y="4608360"/>
            <a:ext cx="273168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Black"/>
              </a:rPr>
              <a:t>仔细观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 Black"/>
              </a:rPr>
              <a:t>气象员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Arial Black"/>
              </a:rPr>
              <a:t>的预报。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10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295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                 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Black"/>
              </a:rPr>
              <a:t>一、组词。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外（　　　）（　　　）   麻（　　　）（　　　）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肯（　　　）（　　　）   冲（　　　）（　　　）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定（　　　）（　　　）   雀（　　　）（　　　）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8" name="WordArt 4"/>
          <p:cNvSpPr txBox="1"/>
          <p:nvPr/>
        </p:nvSpPr>
        <p:spPr>
          <a:xfrm>
            <a:off x="1676520" y="304920"/>
            <a:ext cx="335268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小试身手</a:t>
            </a:r>
            <a:endParaRPr b="0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9144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二、连一连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Black"/>
                <a:ea typeface="方正楷体_GBK"/>
              </a:rPr>
              <a:t>麻雀缩头缩脑　　　　是晴天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Black"/>
                <a:ea typeface="方正楷体_GBK"/>
              </a:rPr>
              <a:t>麻雀跳来跳去　　　　要下雨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Black"/>
                <a:ea typeface="方正楷体_GBK"/>
              </a:rPr>
              <a:t>乌鸦头朝东　　　　　刮南风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Black"/>
                <a:ea typeface="方正楷体_GBK"/>
              </a:rPr>
              <a:t>乌鸦头朝南　　　　　刮东风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0" name="WordArt 4"/>
          <p:cNvSpPr txBox="1"/>
          <p:nvPr/>
        </p:nvSpPr>
        <p:spPr>
          <a:xfrm>
            <a:off x="3657600" y="457200"/>
            <a:ext cx="2057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我最棒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01" name="Line 6"/>
          <p:cNvSpPr/>
          <p:nvPr/>
        </p:nvSpPr>
        <p:spPr>
          <a:xfrm>
            <a:off x="3429000" y="3124080"/>
            <a:ext cx="1828800" cy="60984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2" name="Line 7"/>
          <p:cNvSpPr/>
          <p:nvPr/>
        </p:nvSpPr>
        <p:spPr>
          <a:xfrm flipV="1">
            <a:off x="3352680" y="3047760"/>
            <a:ext cx="1905120" cy="68580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3" name="Line 8"/>
          <p:cNvSpPr/>
          <p:nvPr/>
        </p:nvSpPr>
        <p:spPr>
          <a:xfrm>
            <a:off x="3048120" y="4267080"/>
            <a:ext cx="2057400" cy="53352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4" name="Line 9"/>
          <p:cNvSpPr/>
          <p:nvPr/>
        </p:nvSpPr>
        <p:spPr>
          <a:xfrm flipV="1">
            <a:off x="3048120" y="4343400"/>
            <a:ext cx="2133360" cy="53352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30492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三、读读下面的句子，再仿照着写一写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Black"/>
              </a:rPr>
              <a:t>如果是晴天，我就放风筝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Black"/>
              </a:rPr>
              <a:t>如果下雨，我就去采蘑菇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Black"/>
              </a:rPr>
              <a:t>如果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 Black"/>
              </a:rPr>
              <a:t>　　　　　</a:t>
            </a:r>
            <a:r>
              <a:rPr b="0" lang="zh-CN" sz="3200" spc="-1" strike="noStrike">
                <a:solidFill>
                  <a:srgbClr val="000000"/>
                </a:solidFill>
                <a:latin typeface="Arial Black"/>
              </a:rPr>
              <a:t>，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 Black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 Black"/>
              </a:rPr>
              <a:t>就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 Black"/>
              </a:rPr>
              <a:t>　　　   </a:t>
            </a:r>
            <a:r>
              <a:rPr b="0" lang="zh-CN" sz="3200" spc="-1" strike="noStrike">
                <a:solidFill>
                  <a:srgbClr val="000000"/>
                </a:solidFill>
                <a:latin typeface="Arial Black"/>
              </a:rPr>
              <a:t>。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6" name="WordArt 3"/>
          <p:cNvSpPr txBox="1"/>
          <p:nvPr/>
        </p:nvSpPr>
        <p:spPr>
          <a:xfrm>
            <a:off x="838080" y="609480"/>
            <a:ext cx="19814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我能行</a:t>
            </a:r>
            <a:endParaRPr b="0" lang="en-US" sz="18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学习目标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习本课的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生字，会写其中的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生字；能正确、流利、有感情地朗读课文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理解课文内容，知道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森林气象站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指的是什么；知道乌鸦、麻雀是怎样预报天气和风向的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2" name="文本框 1"/>
          <p:cNvSpPr/>
          <p:nvPr/>
        </p:nvSpPr>
        <p:spPr>
          <a:xfrm>
            <a:off x="1674720" y="5718240"/>
            <a:ext cx="611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cc00"/>
                </a:solidFill>
                <a:latin typeface="Arial Black"/>
              </a:rPr>
              <a:t>更多免费</a:t>
            </a:r>
            <a:r>
              <a:rPr b="0" lang="zh-CN" sz="1800" spc="-1" strike="noStrike">
                <a:solidFill>
                  <a:srgbClr val="ffcc00"/>
                </a:solidFill>
                <a:latin typeface="Arial Black"/>
              </a:rPr>
              <a:t>PPT</a:t>
            </a:r>
            <a:r>
              <a:rPr b="0" lang="zh-CN" sz="1800" spc="-1" strike="noStrike">
                <a:solidFill>
                  <a:srgbClr val="ffcc00"/>
                </a:solidFill>
                <a:latin typeface="Arial Black"/>
              </a:rPr>
              <a:t>模板下载：</a:t>
            </a:r>
            <a:r>
              <a:rPr b="0" lang="zh-CN" sz="1800" spc="-1" strike="noStrike">
                <a:solidFill>
                  <a:srgbClr val="ffcc00"/>
                </a:solidFill>
                <a:latin typeface="Arial Black"/>
              </a:rPr>
              <a:t>http://www.eeppt.com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438280" y="2209320"/>
            <a:ext cx="3276720" cy="266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ffffff"/>
                </a:solidFill>
                <a:latin typeface="Arial Black"/>
                <a:ea typeface="黑体"/>
              </a:rPr>
              <a:t>再 见</a:t>
            </a:r>
            <a:endParaRPr b="0" lang="en-US" sz="10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c1e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 Black"/>
              </a:rPr>
              <a:t>使用规范说明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站点介绍：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 Black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 Black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 Black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 Black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 Black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 Black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 Black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 Black"/>
              </a:rPr>
              <a:t> </a:t>
            </a:r>
            <a:r>
              <a:rPr b="0" lang="zh-CN" sz="1400" spc="-1" strike="noStrike" u="sng">
                <a:solidFill>
                  <a:srgbClr val="ff3399"/>
                </a:solidFill>
                <a:uFillTx/>
                <a:latin typeface="Arial Black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ff3399"/>
                </a:solidFill>
                <a:uFillTx/>
                <a:latin typeface="Arial Black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 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特别说明：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栏目推荐：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99"/>
                </a:solidFill>
                <a:uFillTx/>
                <a:latin typeface="Arial Black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             </a:t>
            </a:r>
            <a:r>
              <a:rPr b="0" lang="zh-CN" sz="1200" spc="-1" strike="noStrike" u="sng">
                <a:solidFill>
                  <a:srgbClr val="ff3399"/>
                </a:solidFill>
                <a:uFillTx/>
                <a:latin typeface="Arial Black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http://www.eeppt.com/dongtai/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99"/>
                </a:solidFill>
                <a:uFillTx/>
                <a:latin typeface="Arial Black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http://www.eeppt.com/moban/           </a:t>
            </a:r>
            <a:r>
              <a:rPr b="0" lang="zh-CN" sz="1200" spc="-1" strike="noStrike" u="sng">
                <a:solidFill>
                  <a:srgbClr val="ff3399"/>
                </a:solidFill>
                <a:uFillTx/>
                <a:latin typeface="Arial Black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http://www.eeppt.com/moban/chuangyi/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99"/>
                </a:solidFill>
                <a:uFillTx/>
                <a:latin typeface="Arial Black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f3399"/>
                </a:solidFill>
                <a:uFillTx/>
                <a:latin typeface="Arial Black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http://www.eeppt.com/moban/gongzuo/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99"/>
                </a:solidFill>
                <a:uFillTx/>
                <a:latin typeface="Arial Black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f3399"/>
                </a:solidFill>
                <a:uFillTx/>
                <a:latin typeface="Arial Black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 Black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kejian/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99"/>
                </a:solidFill>
                <a:uFillTx/>
                <a:latin typeface="Arial Black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f3399"/>
                </a:solidFill>
                <a:uFillTx/>
                <a:latin typeface="Arial Black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http://www.eeppt.com/moban/shangwu/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99"/>
                </a:solidFill>
                <a:uFillTx/>
                <a:latin typeface="Arial Black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ff3399"/>
                </a:solidFill>
                <a:uFillTx/>
                <a:latin typeface="Arial Black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http://www.eeppt.com/sucai/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99"/>
                </a:solidFill>
                <a:uFillTx/>
                <a:latin typeface="Arial Black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ff3399"/>
                </a:solidFill>
                <a:uFillTx/>
                <a:latin typeface="Arial Black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http://www.eeppt.com/moban/fengjing/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http://www.eeppt.com/moban/jianjie/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http://www.eeppt.com/moban/jiaoyu/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http://www.eeppt.com/moban/lunwen/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http://www.eeppt.com/moban/yiliao/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cc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DBBB2-B27A-4EE9-86B5-C6077A5C454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0" y="2590560"/>
            <a:ext cx="7772400" cy="27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Arial Black"/>
                <a:ea typeface="方正楷体_GBK"/>
              </a:rPr>
              <a:t>森林里有个气象站，气象站里有许多气象员，它们能够准确地预报天气情况，你相信吗？今天我们就一起去森林气象站看看。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6" name="Picture 4" descr="麻雀1"/>
          <p:cNvPicPr/>
          <p:nvPr/>
        </p:nvPicPr>
        <p:blipFill>
          <a:blip r:embed="rId1"/>
          <a:stretch/>
        </p:blipFill>
        <p:spPr>
          <a:xfrm>
            <a:off x="0" y="0"/>
            <a:ext cx="96012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矩形 7"/>
          <p:cNvSpPr/>
          <p:nvPr/>
        </p:nvSpPr>
        <p:spPr>
          <a:xfrm>
            <a:off x="250920" y="20415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0" name="Picture 4" descr="麻雀2"/>
          <p:cNvPicPr/>
          <p:nvPr/>
        </p:nvPicPr>
        <p:blipFill>
          <a:blip r:embed="rId1"/>
          <a:stretch/>
        </p:blipFill>
        <p:spPr>
          <a:xfrm>
            <a:off x="0" y="0"/>
            <a:ext cx="10363320" cy="689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3" name="Picture 4" descr="渡鸦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6" name="Picture 4" descr="渡鸦2"/>
          <p:cNvPicPr/>
          <p:nvPr/>
        </p:nvPicPr>
        <p:blipFill>
          <a:blip r:embed="rId1"/>
          <a:stretch/>
        </p:blipFill>
        <p:spPr>
          <a:xfrm>
            <a:off x="0" y="0"/>
            <a:ext cx="10363320" cy="6916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304920" y="19047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         </a:t>
            </a:r>
            <a:r>
              <a:rPr b="1" lang="zh-CN" sz="3600" spc="-1" strike="noStrike">
                <a:solidFill>
                  <a:srgbClr val="ff0000"/>
                </a:solidFill>
                <a:latin typeface="Arial Black"/>
              </a:rPr>
              <a:t>初读课文，感知内容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1. </a:t>
            </a:r>
            <a:r>
              <a:rPr b="0" lang="zh-CN" sz="36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借助拼音朗读课文，注意读准字音。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看看课文中主要讲了什么事。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-686160" y="838080"/>
            <a:ext cx="89154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                   </a:t>
            </a:r>
            <a:r>
              <a:rPr b="1" lang="en-US" sz="6600" spc="-1" strike="noStrike">
                <a:solidFill>
                  <a:srgbClr val="000000"/>
                </a:solidFill>
                <a:latin typeface="宋体"/>
              </a:rPr>
              <a:t>wài  </a:t>
            </a:r>
            <a:r>
              <a:rPr b="0" lang="en-US" sz="6600" spc="-1" strike="noStrike">
                <a:solidFill>
                  <a:srgbClr val="000000"/>
                </a:solidFill>
                <a:latin typeface="Arial Black"/>
              </a:rPr>
              <a:t>m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6600" spc="-1" strike="noStrike">
                <a:solidFill>
                  <a:srgbClr val="000000"/>
                </a:solidFill>
                <a:latin typeface="宋体"/>
              </a:rPr>
              <a:t>  què  </a:t>
            </a:r>
            <a:endParaRPr b="0" lang="en-US" sz="6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6600" spc="-1" strike="noStrike">
                <a:solidFill>
                  <a:srgbClr val="000000"/>
                </a:solidFill>
                <a:latin typeface="宋体"/>
              </a:rPr>
              <a:t>外　 麻   雀</a:t>
            </a:r>
            <a:endParaRPr b="0" lang="en-US" sz="6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6600" spc="-1" strike="noStrike">
                <a:solidFill>
                  <a:srgbClr val="000000"/>
                </a:solidFill>
                <a:latin typeface="宋体"/>
              </a:rPr>
              <a:t>chōng kěn dìng  yǔ</a:t>
            </a:r>
            <a:endParaRPr b="0" lang="en-US" sz="6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6600" spc="-1" strike="noStrike">
                <a:solidFill>
                  <a:srgbClr val="000000"/>
                </a:solidFill>
                <a:latin typeface="宋体"/>
              </a:rPr>
              <a:t>冲　 肯   定　 羽</a:t>
            </a:r>
            <a:endParaRPr b="0" lang="en-US" sz="6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04:41:03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41:38Z</dcterms:modified>
  <cp:revision>1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NXTAG2">
    <vt:lpwstr>0008002c06000000000001024120</vt:lpwstr>
  </property>
  <property fmtid="{D5CDD505-2E9C-101B-9397-08002B2CF9AE}" pid="4" name="Version">
    <vt:r8>1</vt:r8>
  </property>
</Properties>
</file>