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C4A-F3D1-4D2C-9DD0-D7813D7420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6AFA-A139-4D60-8A85-433020AA0875}" type="slidenum">
              <a:rPr b="0" lang="zh-CN" sz="1200" spc="-1" strike="noStrike">
                <a:solidFill>
                  <a:srgbClr val="2f131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A670D-BE2D-4D31-9AD3-B82FE5D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67BEF-5834-4A2B-8BAD-884B7B4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92A6-B96A-48CF-9B58-4D95690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DD81-A25C-4B06-AF41-A59E898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C394-479C-4750-BB57-4540DD3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6390D-BC71-4FE0-8C95-D142308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5A5F-E83D-4521-9CCF-3F5FFC6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0769A-36B5-4401-AC01-1768C504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D8B9-BC71-4878-A744-EBE7A97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E81E-0F03-4FAE-A1EA-D1C94D34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0EE54-E5ED-4950-B387-16E9CA94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D7DE9-D3F1-4E69-9377-02E43E0E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A2BBB-ABD3-4EA9-8B57-32EF852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60C7D-1017-4194-96E6-D5C4345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AC94-2F81-48E5-89FF-CD92765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8A8C1-2FB8-420C-8CCD-375EA488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CC2B9-BB8C-421E-8F5A-365566C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911C-77CF-4B80-A95E-8C2DA49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CB1A-2B89-4576-BA3E-7A46B0F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B27B7-6573-478A-AB93-104B8F6B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6E3F2-3FD9-4317-A927-EE9571D5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D0555-3F85-42A6-B316-FD8D8111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3461-8F83-4853-96C4-241A01E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33853-6204-4634-BF17-600C389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929FF-53C6-43BA-965C-320747F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AE3F5-EC22-4574-9EF4-E7F0CD4F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A7A7A-B54F-46FA-950C-5EB2EBF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94BB-F478-4B35-A1DE-6A375D0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213F2-45D4-4E96-8A26-EE6B2E6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DDE04-698E-4224-A783-17C59B0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9E57-A68F-4996-8342-E83CA37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9FCD6-B82C-45D8-8E25-C0DD9164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D177-6226-41C9-9C48-7D9B6ADA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FD8DF-7D3D-4327-8A48-F58329C9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CF1C5-C0D3-4116-AADC-CD627933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FB6F3-4CCC-43AD-9D0B-DC29F48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91572-552E-4A1A-A131-1FDD9888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EA863-126B-4FCD-9445-52EBE57C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A8D58-1A35-49C0-931E-19A62B74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2796B-C8E6-4F48-8FA0-5139832A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9CEF9-48FB-42B6-857D-49988409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7E355-96E0-41D2-A05F-F074FE2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E1ACC-62AE-4A6E-9893-1AB8016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D53EB-7E8F-4737-AB90-1DA11424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BF625-7798-4567-B066-3C78DB9B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0B2-E065-4392-BA88-6B7D8064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8EC-714F-4D96-927B-5580824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8E5-90C5-4334-B65B-AC11B3E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26E-747A-44EC-B687-A42A5A0C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874-8049-4C50-89FA-7C02A42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07D-905A-4460-9A4B-0897F56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760-078D-4680-904C-E704092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F61-35B3-4C81-A7A4-7A999AB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A1B-F156-4961-A949-760053C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11E-8EB8-40E6-8507-884E647C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64D-C5BF-4F8B-BC62-38392F98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CD1-DDF8-4925-A0FA-59F26648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A629-0F46-4F9A-9C4C-77DD34F6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A31-8039-484F-BB6C-A09A65A5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1386-B65A-42F8-88B2-0B8CF61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BF7-9A9A-4868-8E7F-3CF1E36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D4D1-2A9D-4315-8598-00D3C4D9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220-A78F-4DAA-BFD2-8FCC7E4C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A602-8E58-4BD9-B206-FD24F15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239B-D9F9-4115-ADB1-8388A94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E5E6-928A-4882-80E4-D276702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F6C4-34EE-4D3A-8EC5-99E35B0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D2A-0655-4C0B-AD85-178279F9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246B-A2CA-48F3-93C7-AB2E008A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AE3C-57B2-4C65-A38D-E3012203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35E1-2AE8-4726-841E-DB7BE04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139FF-99AD-4F69-9621-CAE16F5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D5D1-CB9E-4580-822C-F4FC1B8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C3A9-6D19-4530-BDFD-CC0BACA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B20A-8B78-47A8-84A4-A15B40BF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16FC-A222-45E1-8A42-671C10B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9D21-4919-49CE-B9B0-E764BB9C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3B18-9808-41E9-9438-B7D87FFA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CE8C-4694-4E51-B1B4-64AB53CE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9FB5-7401-431B-90BC-93BDBD57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30910-DC0C-48BC-A76B-FBFA56ED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4368A-87DC-40D5-A0A8-07737E5C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4D0EA-2BC6-4D69-AADE-5FE89F6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0FF2-A7DF-42D1-B8A5-FBE297C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A3F4A-5FB4-4934-ABED-2022B0F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EFB8-A352-4A7C-B7D5-84A2DEBE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BBAC-36BC-4FF2-AD58-37837825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5CB0-BB51-4A0A-819C-05888BE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46C4-C4E7-4ECE-87F0-CD25E0F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3F5F-785D-4F6B-AF27-AFE0BCF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3070-AEE7-4626-90B0-834DCFD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764D-E063-4186-A76C-366C6D67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9D18-867D-419A-8F73-75F61D17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CD381-FB48-437F-BB9A-D7236CBE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ABB13-E62B-4722-8553-AEBA576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AE1E-2D46-480F-A885-33ABE80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A2B5-4FC0-412E-838F-CF7388C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F1B6-B8AE-4AB8-943D-8FE70C5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F8100-21DC-4ED3-84BB-FC479C0F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CF2CA-23A6-4C2B-A787-BA7DAF5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2722-2453-4745-BCFF-AA6B17D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12E2-19C0-4641-A980-8D5CC99C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BC4C-9845-4950-AD6B-06344D9F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4375-E70E-4B7A-9DF7-BD32AA9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DAF0-96C8-4D4D-9565-98A50BDF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368F-700A-40F7-AA04-5E750B80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4A14A-5F3A-41BA-9BA1-7CE8530E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6A76-1989-4E6C-B368-A9793D1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03C3-B7A9-4778-A05A-F8D1956B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80C1-801B-4399-9968-3BEDF34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2543-8F97-4EA2-BB61-25E5517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8EFF-09AE-47DD-A2C5-A591D31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665F-0FEA-489C-8C78-60DD663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982F-7926-48C6-BE11-1906483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6EB5C-6E83-4EFB-A6DC-F12BF4A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A8765-5171-495E-92E9-C81B4044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A5A0-2DA0-47B7-BF7C-845CE3CD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08464-1361-41C7-88B1-917F2968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F286-3B2E-4843-97A2-9983F37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FE3F-E73A-441B-A6A6-2F0AB8DA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E02C-8849-4C00-8C3E-658F16BA0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D82A-9A38-452B-8787-4824DC0FB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3015-70AA-491A-B209-97C5CB2DD475}" type="slidenum">
              <a:rPr b="0" lang="en-US" sz="24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760-6795-4CE2-A7ED-6D32143832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FD1-5C7D-4719-BA34-3C7B5EB86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FDDB-9F76-42FC-B1A2-2B88C9135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57A-DBA5-4563-ABAE-ADA357D790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2AA7-85E7-4FD7-8392-D8F490FBE0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CC7F-CCC8-4765-B258-29D6EB59C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A7D-2383-48DB-8469-4B1B5B7589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669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华文隶书"/>
                <a:ea typeface="华文隶书"/>
              </a:rPr>
              <a:t>赛马三月街</a:t>
            </a:r>
            <a:endParaRPr b="0" lang="en-US" sz="9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2" name="矩形 4"/>
          <p:cNvSpPr/>
          <p:nvPr/>
        </p:nvSpPr>
        <p:spPr>
          <a:xfrm>
            <a:off x="2426400" y="5516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539640" y="40464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１．你能用一到两个词语形容“三月街”吗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２．你觉得作者是一个怎样的人？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３．如果你遇到这件事，你会怎么办？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13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941-9563-4508-BF0F-3D4F5C0371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108000" y="549360"/>
            <a:ext cx="9036000" cy="58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相传南诏细奴罗时，观音于三月十五日到大理经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2f1311"/>
                </a:solidFill>
                <a:latin typeface="Arial"/>
              </a:rPr>
              <a:t>因此每年这个时候善男信女们便搭棚礼拜诵经并祭之。随着社会经济的发展，庙会逐渐演变成了滇西地方贸易集市和节日。传统三月街是物资交易以骡马、山货、药材、茶叶为大宗。白族要对歌跳舞，彝、白、回、藏各族还要赛马欢歌。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6" descr="服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-252720" y="-316080"/>
            <a:ext cx="939636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76" name="Picture 4" descr="赛马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huàng             bàn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ǒng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　　　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é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赚             拌            耸          腾</a:t>
            </a:r>
            <a:endParaRPr b="0" lang="en-US" sz="4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xiān           jiǎo</a:t>
            </a: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　　　</a:t>
            </a: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luó</a:t>
            </a: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　　</a:t>
            </a: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biān</a:t>
            </a:r>
            <a:endParaRPr b="0" lang="en-US" sz="4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掀　　　　搅　　　          　 鞭</a:t>
            </a:r>
            <a:endParaRPr b="0" lang="en-US" sz="4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shì</a:t>
            </a: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　　　 </a:t>
            </a:r>
            <a:r>
              <a:rPr b="0" lang="en-US" sz="4300" spc="-1" strike="noStrike">
                <a:solidFill>
                  <a:srgbClr val="2f1311"/>
                </a:solidFill>
                <a:latin typeface="Arial"/>
              </a:rPr>
              <a:t>wǔ</a:t>
            </a:r>
            <a:endParaRPr b="0" lang="en-US" sz="43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2f1311"/>
                </a:solidFill>
                <a:latin typeface="Arial"/>
              </a:rPr>
              <a:t>誓　　　</a:t>
            </a:r>
            <a:endParaRPr b="0" lang="en-US" sz="4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2813760" y="4365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宋体"/>
              </a:rPr>
              <a:t>捂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5406120" y="27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1311"/>
                </a:solidFill>
                <a:latin typeface="Arial"/>
                <a:ea typeface="宋体"/>
              </a:rPr>
              <a:t>锣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f1311"/>
                </a:solidFill>
                <a:latin typeface="Arial"/>
              </a:rPr>
              <a:t>　　央求</a:t>
            </a: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2f1311"/>
                </a:solidFill>
                <a:latin typeface="Arial"/>
              </a:rPr>
              <a:t>准备</a:t>
            </a:r>
            <a:r>
              <a:rPr b="0" lang="en-US" sz="4800" spc="-1" strike="noStrike">
                <a:solidFill>
                  <a:srgbClr val="2f1311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2f1311"/>
                </a:solidFill>
                <a:latin typeface="Arial"/>
              </a:rPr>
              <a:t>赛马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2425320" y="1197000"/>
            <a:ext cx="359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f1311"/>
                </a:solidFill>
                <a:latin typeface="Arial"/>
                <a:ea typeface="宋体"/>
              </a:rPr>
              <a:t>（盛大　　惊险）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2568240" y="4076640"/>
            <a:ext cx="359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f1311"/>
                </a:solidFill>
                <a:latin typeface="Arial"/>
                <a:ea typeface="宋体"/>
              </a:rPr>
              <a:t>（机智　　勇敢）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阿妈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特意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给阿爸打了二两酒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阿爸掏出烟，我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赶忙凑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上去给他点火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那就让他试试。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654360" y="549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Arial"/>
                <a:ea typeface="宋体"/>
              </a:rPr>
              <a:t>央求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枣红马跑的少了　　省些力气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偷偷的</a:t>
            </a: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在糠料里伴上鸡蛋　　喂红塘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结果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枣红马长的油光水滑的了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726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Arial"/>
                <a:ea typeface="宋体"/>
              </a:rPr>
              <a:t>准备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文本框 1"/>
          <p:cNvSpPr/>
          <p:nvPr/>
        </p:nvSpPr>
        <p:spPr>
          <a:xfrm>
            <a:off x="2898720" y="5529240"/>
            <a:ext cx="60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f1311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2f1311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684360" y="162828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溜出马队，不跑了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原地打转　誓不从命　急得我大汗直淌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调转马头　相反方向　飞奔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轰动　倒彩　来劲　跑得更快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醒过来　不含糊　拔旗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Arial"/>
              </a:rPr>
              <a:t>笑倒　笑弯了腰　捂着肚子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086360" y="404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Arial"/>
                <a:ea typeface="宋体"/>
              </a:rPr>
              <a:t>赛马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30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06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