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14D4-31E6-4F5E-95DB-5DACEF5D64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F2E-05F9-4FDC-8731-5086DB288D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DBB-CF8E-4B84-AE77-C2A10FBB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BC5-9E7C-4E34-9631-6718AE18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EE6-0355-4D93-AC70-275C91FA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159-C5FC-4F55-835A-00BABB62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4B4-673B-401B-BE39-D194950A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EA1-3BB1-4F19-AEF9-C345C90B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05C-5631-4430-98CA-1E066DF4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7BB-92DF-4B9D-8134-34F02FD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D6B-94FD-4895-A5BA-C258E752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EE7-19D5-4E0B-9541-B186F63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711-9BF8-4E13-B1CD-74F5A788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62B-9759-494F-9FF9-244DC09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E62D-AF01-4294-9CD9-137F6FE834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F1&#361;&amp;in=20576&amp;cl=2&amp;cm=1&amp;sc=0&amp;lm=-1&amp;pn=0&amp;rn=1&amp;di=232789524&amp;ln=200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神农尝百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二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f794cc32fca6a2fe5dd3b8a"/>
          <p:cNvPicPr/>
          <p:nvPr/>
        </p:nvPicPr>
        <p:blipFill>
          <a:blip r:embed="rId1"/>
          <a:stretch/>
        </p:blipFill>
        <p:spPr>
          <a:xfrm>
            <a:off x="3733920" y="2743200"/>
            <a:ext cx="406080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3400560" y="5943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下列的字组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治（      ） （       ）   病（     ）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尝（      ） （       ）   健（     ）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681120" y="149400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7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7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7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7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神农是为人类的健康而死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们永远纪念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400" spc="-1" strike="noStrike">
                <a:solidFill>
                  <a:srgbClr val="75f92b"/>
                </a:solidFill>
                <a:latin typeface="Arial"/>
              </a:rPr>
              <a:t>你能用上“因为”“所以”把这两个句子连起来吗</a:t>
            </a:r>
            <a:r>
              <a:rPr b="0" lang="zh-CN" sz="4400" spc="-1" strike="noStrike">
                <a:solidFill>
                  <a:srgbClr val="75f92b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67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67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67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67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神农氏是传说中的农业和医药的发明者。远古人民过着采集和渔猎的生活，他发明制作木耒、木耜，教会人民农业生产。反映中国原始时代由采集渔猎向农耕生产进步的情况。又传说他遍尝百草，发现药材，教会人民医治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继伏羲以后，神农氏是又一个对中华民族颇多贡献的传奇人物。除了发明农耕技术外，还发明了医术，制定了历法，开创九井相连的水利灌溉技术等。因为他发明农耕技术而号神农氏，因以火德王，故称炎帝、赤帝、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山氏，则又成了与黄帝相争天下的首领。长期以来，对于神农氏是否是炎帝这个问题，一直悬而难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传说神农一生下来就是个“水晶肚”，几乎是全透明的，五脏六腑全都能看得见，还能看得见吃进去的东西。那时候，人们经常因乱吃东西而生病，甚至丧命。神农为此决心尝遍百草，能食用的放在身体左边的袋子里，介绍给别人吃，用作药用；不能够食用的就放在身体的右边袋子里，提醒人们注意不可以食用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7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7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7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7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2279520" y="1523880"/>
            <a:ext cx="5105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AC65-DE90-4D2B-8CB8-E5CC2C8253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62012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神农的科学态度和献身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7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7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7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7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2149421960,3882329984&amp;fm=0&amp;gp=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1981080"/>
            <a:ext cx="196380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9464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代传说中，有一位太阳神炎帝，他发现了稻、稷、豆、黍、麦等五谷，还制作了农具，教人们耕种和收割，人们尊他为神农。今天我们来学习有关神农的故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67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67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67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67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1905120" y="16765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4724280" cy="609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24280" y="762120"/>
            <a:ext cx="4419720" cy="502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4648320" y="5524560"/>
            <a:ext cx="4495680" cy="133344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3657600" y="152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文欣赏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80213"/>
                </a:solidFill>
                <a:latin typeface="宋体"/>
              </a:rPr>
              <a:t>品尝   炎帝    健康    治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宋体"/>
              </a:rPr>
              <a:t>制  耕   贡   茎    寒   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宋体"/>
              </a:rPr>
              <a:t>幸   亏    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657600" y="91440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生字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神 农 祭 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3f794cc32fca6a2fe5dd3b8a"/>
          <p:cNvPicPr/>
          <p:nvPr/>
        </p:nvPicPr>
        <p:blipFill>
          <a:blip r:embed="rId1"/>
          <a:stretch/>
        </p:blipFill>
        <p:spPr>
          <a:xfrm>
            <a:off x="1295280" y="1523880"/>
            <a:ext cx="6381720" cy="479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67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67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67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67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人们为什么又把太阳神炎帝叫做“神农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因为他发现了五谷，制作了农具，还教人们耕种收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神农对人类还有一个什么重要贡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他发现了治病的各种草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7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7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7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7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农是怎样发现这些草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神农有一次一天里中毒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次，幸亏他及时吃下了解药，才得以活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这里你觉得神农是个怎么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67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67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67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67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807696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最后一句话，你想对神农说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67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67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67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67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5:01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6:34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