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20.gif" ContentType="image/gif"/>
  <Override PartName="/ppt/media/image18.gif" ContentType="image/gif"/>
  <Override PartName="/ppt/media/image13.gif" ContentType="image/gif"/>
  <Override PartName="/ppt/media/image12.jpeg" ContentType="image/jpeg"/>
  <Override PartName="/ppt/media/image34.png" ContentType="image/png"/>
  <Override PartName="/ppt/media/image1.jpeg" ContentType="image/jpeg"/>
  <Override PartName="/ppt/media/image7.png" ContentType="image/png"/>
  <Override PartName="/ppt/media/cashreg.wav" ContentType="audio/x-wav"/>
  <Override PartName="/ppt/media/image9.png" ContentType="image/png"/>
  <Override PartName="/ppt/media/image22.jpeg" ContentType="image/jpeg"/>
  <Override PartName="/ppt/media/image30.wmf" ContentType="image/x-wmf"/>
  <Override PartName="/ppt/media/image33.jpeg" ContentType="image/jpeg"/>
  <Override PartName="/ppt/media/image29.wmf" ContentType="image/x-wmf"/>
  <Override PartName="/ppt/media/push.wav" ContentType="audio/x-wav"/>
  <Override PartName="/ppt/media/image2.jpeg" ContentType="image/jpeg"/>
  <Override PartName="/ppt/media/image23.jpeg" ContentType="image/jpeg"/>
  <Override PartName="/ppt/media/type.wav" ContentType="audio/x-wav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10.jpeg" ContentType="image/jpeg"/>
  <Override PartName="/ppt/media/image8.gif" ContentType="image/gif"/>
  <Override PartName="/ppt/media/image4.jpeg" ContentType="image/jpeg"/>
  <Override PartName="/ppt/media/image25.jpeg" ContentType="image/jpeg"/>
  <Override PartName="/ppt/media/image14.gif" ContentType="image/gif"/>
  <Override PartName="/ppt/media/image31.jpeg" ContentType="image/jpeg"/>
  <Override PartName="/ppt/media/image3.jpeg" ContentType="image/jpeg"/>
  <Override PartName="/ppt/media/image15.jpeg" ContentType="image/jpeg"/>
  <Override PartName="/ppt/media/image16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B19-7A89-4875-910E-7E2E417D46E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1AED-B8EA-4B29-9993-7EDA7DE16B02}" type="slidenum">
              <a:rPr b="0" lang="zh-CN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C28B-70B0-4CE3-822D-14935A2A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A84C-FD2F-42DD-8654-28C11C6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7407-37AD-4528-94CC-824CE0F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90FE-0CEC-4C68-BCA4-C04EC2CB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2DC2-9EFC-4DEC-958C-5BF21B45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1E6-F33B-4156-B258-3552590D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F644-206A-4156-8725-53A764C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C788-1EE9-4820-95A7-87DFC20B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EB41-7D7B-4679-A884-2A04D08F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7CD8-0C90-4D55-88A2-6ED3FA1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F498-510E-4AFD-8D76-9707BC3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F45D-270A-4816-A398-9AC3EC76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F2F-835E-487C-ACEA-04D2C9F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8D4F-3404-4413-8952-AA75253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A2C-4BC7-4A33-96E5-95C0236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BAF-24F8-4612-AB24-16FBB4E0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7484-CFA3-4F88-A755-3B41839B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22BD-D444-46B3-86D4-065BEAEF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3AC8-A17F-4D06-B6C3-D0275E4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1DBE-39F3-4E1D-A583-5C8367F5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1CD9-3933-4C62-BB08-CD44650C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3D99-3B85-4551-814A-5986AA9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E761-FDB5-4D25-8D09-C169260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A7D1-CD49-4E31-980E-18E8CA5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0C0-A98B-4DD9-9E41-E196249B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857-FD98-4F90-922C-A253FA9FD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6.gif"/><Relationship Id="rId5" Type="http://schemas.openxmlformats.org/officeDocument/2006/relationships/image" Target="../media/image18.gif"/><Relationship Id="rId6" Type="http://schemas.openxmlformats.org/officeDocument/2006/relationships/image" Target="../media/image16.gif"/><Relationship Id="rId7" Type="http://schemas.openxmlformats.org/officeDocument/2006/relationships/image" Target="../media/image19.jpeg"/><Relationship Id="rId8" Type="http://schemas.openxmlformats.org/officeDocument/2006/relationships/image" Target="../media/image16.gif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upian.hudong.com/a0_27_20_01300000362797124037204718804_jpg.html?prd=zhengwenye_left_neirong_tupian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upian.hudong.com/a3_17_58_01300000240273129172586706401_jpg.html?prd=zhengwenye_left_neirong_tupia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1817640" y="2205000"/>
            <a:ext cx="5788080" cy="3652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028960" y="70632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Garamond"/>
                <a:ea typeface="楷体_GB2312"/>
              </a:rPr>
              <a:t>少年闰土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790280" y="6021360"/>
            <a:ext cx="5879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ic_270746"/>
          <p:cNvPicPr/>
          <p:nvPr/>
        </p:nvPicPr>
        <p:blipFill>
          <a:blip r:embed="rId1"/>
          <a:stretch/>
        </p:blipFill>
        <p:spPr>
          <a:xfrm>
            <a:off x="539640" y="3141720"/>
            <a:ext cx="2376720" cy="2743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闰土给“我”讲了好多“希奇的事”。他给“我”讲了哪些希奇的事？</a:t>
            </a:r>
            <a:r>
              <a:rPr b="1" lang="zh-CN" sz="4000" spc="-1" strike="noStrike">
                <a:solidFill>
                  <a:srgbClr val="ffff00"/>
                </a:solidFill>
                <a:latin typeface="Garamond"/>
              </a:rPr>
              <a:t>默读课文然后用小标题概括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47640" y="2878200"/>
            <a:ext cx="487836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雪地捕鸟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海边拾贝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Garamond"/>
                <a:ea typeface="黑体"/>
              </a:rPr>
              <a:t>月夜</a:t>
            </a:r>
            <a:r>
              <a:rPr b="1" lang="zh-CN" sz="4800" spc="-1" strike="noStrike">
                <a:solidFill>
                  <a:srgbClr val="ffcc00"/>
                </a:solidFill>
                <a:latin typeface="黑体"/>
                <a:ea typeface="黑体"/>
              </a:rPr>
              <a:t>刺猹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Garamond"/>
              </a:rPr>
              <a:t>潮汛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看鱼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7" descr="200511100223855"/>
          <p:cNvPicPr/>
          <p:nvPr/>
        </p:nvPicPr>
        <p:blipFill>
          <a:blip r:embed="rId2"/>
          <a:stretch/>
        </p:blipFill>
        <p:spPr>
          <a:xfrm>
            <a:off x="6705720" y="4495680"/>
            <a:ext cx="1619280" cy="154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1360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在这几件希奇事中，你对哪件事最感兴趣？为什么？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请说出你最感兴趣的那件事，然后有声有色地朗读你喜欢的段落，读出你的感悟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1219320" y="404640"/>
            <a:ext cx="5638680" cy="1390680"/>
            <a:chOff x="1219320" y="404640"/>
            <a:chExt cx="5638680" cy="1390680"/>
          </a:xfrm>
        </p:grpSpPr>
        <p:sp>
          <p:nvSpPr>
            <p:cNvPr id="161" name="WordArt 4"/>
            <p:cNvSpPr txBox="1"/>
            <p:nvPr/>
          </p:nvSpPr>
          <p:spPr>
            <a:xfrm>
              <a:off x="2971800" y="480960"/>
              <a:ext cx="388620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黑体"/>
                </a:rPr>
                <a:t>读一读，说一说</a:t>
              </a:r>
              <a:endParaRPr b="1" lang="en-US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162" name="Picture 5" descr="20059180627600"/>
            <p:cNvPicPr/>
            <p:nvPr/>
          </p:nvPicPr>
          <p:blipFill>
            <a:blip r:embed="rId1"/>
            <a:stretch/>
          </p:blipFill>
          <p:spPr>
            <a:xfrm>
              <a:off x="1219320" y="404640"/>
              <a:ext cx="1542960" cy="1390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6"/>
          <p:cNvGrpSpPr/>
          <p:nvPr/>
        </p:nvGrpSpPr>
        <p:grpSpPr>
          <a:xfrm>
            <a:off x="5292720" y="189000"/>
            <a:ext cx="3240000" cy="2663640"/>
            <a:chOff x="5292720" y="189000"/>
            <a:chExt cx="3240000" cy="2663640"/>
          </a:xfrm>
        </p:grpSpPr>
        <p:pic>
          <p:nvPicPr>
            <p:cNvPr id="164" name="Picture 13" descr="pic_270744b"/>
            <p:cNvPicPr/>
            <p:nvPr/>
          </p:nvPicPr>
          <p:blipFill>
            <a:blip r:embed="rId1"/>
            <a:stretch/>
          </p:blipFill>
          <p:spPr>
            <a:xfrm>
              <a:off x="5554080" y="502200"/>
              <a:ext cx="2653920" cy="20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" descr="x1pIuxx1VYmtQtN0XzG83IKmYdbYBDTsJqoZ556Fzs-HXsKj8gf5-WHUcZrHlidH8CiCyKTKM4Pwbv_ClzqtcIkqhjnZ7Eyh1fvxsfBmPfyKBs7Do1vf1mPoCan74pVNPLW"/>
            <p:cNvPicPr/>
            <p:nvPr/>
          </p:nvPicPr>
          <p:blipFill>
            <a:blip r:embed="rId2"/>
            <a:stretch/>
          </p:blipFill>
          <p:spPr>
            <a:xfrm>
              <a:off x="5292720" y="189000"/>
              <a:ext cx="3240000" cy="26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1"/>
          <p:cNvGrpSpPr/>
          <p:nvPr/>
        </p:nvGrpSpPr>
        <p:grpSpPr>
          <a:xfrm>
            <a:off x="468360" y="189000"/>
            <a:ext cx="3240000" cy="2663640"/>
            <a:chOff x="468360" y="189000"/>
            <a:chExt cx="3240000" cy="2663640"/>
          </a:xfrm>
        </p:grpSpPr>
        <p:pic>
          <p:nvPicPr>
            <p:cNvPr id="167" name="Picture 4" descr="pic_30169"/>
            <p:cNvPicPr/>
            <p:nvPr/>
          </p:nvPicPr>
          <p:blipFill>
            <a:blip r:embed="rId3"/>
            <a:stretch/>
          </p:blipFill>
          <p:spPr>
            <a:xfrm>
              <a:off x="676440" y="398160"/>
              <a:ext cx="2770200" cy="21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x1pIuxx1VYmtQtN0XzG83IKmYdbYBDTsJqoZ556Fzs-HXsKj8gf5-WHUcZrHlidH8CiCyKTKM4Pwbv_ClzqtcIkqhjnZ7Eyh1fvxsfBmPfyKBs7Do1vf1mPoCan74pVNPLW"/>
            <p:cNvPicPr/>
            <p:nvPr/>
          </p:nvPicPr>
          <p:blipFill>
            <a:blip r:embed="rId4"/>
            <a:stretch/>
          </p:blipFill>
          <p:spPr>
            <a:xfrm>
              <a:off x="468360" y="189000"/>
              <a:ext cx="3240000" cy="26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Rectangle 12"/>
          <p:cNvSpPr/>
          <p:nvPr/>
        </p:nvSpPr>
        <p:spPr>
          <a:xfrm>
            <a:off x="75564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雪天捕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5867280" y="2852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夜刺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1" name="Group 19"/>
          <p:cNvGrpSpPr/>
          <p:nvPr/>
        </p:nvGrpSpPr>
        <p:grpSpPr>
          <a:xfrm>
            <a:off x="5292720" y="3645000"/>
            <a:ext cx="3240000" cy="2663640"/>
            <a:chOff x="5292720" y="3645000"/>
            <a:chExt cx="3240000" cy="2663640"/>
          </a:xfrm>
        </p:grpSpPr>
        <p:pic>
          <p:nvPicPr>
            <p:cNvPr id="172" name="Picture 18" descr="cj3-002"/>
            <p:cNvPicPr/>
            <p:nvPr/>
          </p:nvPicPr>
          <p:blipFill>
            <a:blip r:embed="rId5"/>
            <a:stretch/>
          </p:blipFill>
          <p:spPr>
            <a:xfrm>
              <a:off x="5364000" y="3743280"/>
              <a:ext cx="3168360" cy="23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5" descr="x1pIuxx1VYmtQtN0XzG83IKmYdbYBDTsJqoZ556Fzs-HXsKj8gf5-WHUcZrHlidH8CiCyKTKM4Pwbv_ClzqtcIkqhjnZ7Eyh1fvxsfBmPfyKBs7Do1vf1mPoCan74pVNPLW"/>
            <p:cNvPicPr/>
            <p:nvPr/>
          </p:nvPicPr>
          <p:blipFill>
            <a:blip r:embed="rId6"/>
            <a:stretch/>
          </p:blipFill>
          <p:spPr>
            <a:xfrm>
              <a:off x="5292720" y="3645000"/>
              <a:ext cx="3240000" cy="26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Rectangle 20"/>
          <p:cNvSpPr/>
          <p:nvPr/>
        </p:nvSpPr>
        <p:spPr>
          <a:xfrm>
            <a:off x="5797440" y="6183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夏日拾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468360" y="3645000"/>
            <a:ext cx="3240000" cy="2663640"/>
            <a:chOff x="468360" y="3645000"/>
            <a:chExt cx="3240000" cy="2663640"/>
          </a:xfrm>
        </p:grpSpPr>
        <p:pic>
          <p:nvPicPr>
            <p:cNvPr id="176" name="Picture 23" descr="U1043P1T1D14574489F21DT20071221145214"/>
            <p:cNvPicPr/>
            <p:nvPr/>
          </p:nvPicPr>
          <p:blipFill>
            <a:blip r:embed="rId7"/>
            <a:stretch/>
          </p:blipFill>
          <p:spPr>
            <a:xfrm>
              <a:off x="612720" y="3933720"/>
              <a:ext cx="3024360" cy="20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6" descr="x1pIuxx1VYmtQtN0XzG83IKmYdbYBDTsJqoZ556Fzs-HXsKj8gf5-WHUcZrHlidH8CiCyKTKM4Pwbv_ClzqtcIkqhjnZ7Eyh1fvxsfBmPfyKBs7Do1vf1mPoCan74pVNPLW"/>
            <p:cNvPicPr/>
            <p:nvPr/>
          </p:nvPicPr>
          <p:blipFill>
            <a:blip r:embed="rId8"/>
            <a:stretch/>
          </p:blipFill>
          <p:spPr>
            <a:xfrm>
              <a:off x="468360" y="3645000"/>
              <a:ext cx="3240000" cy="26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21"/>
          <p:cNvSpPr/>
          <p:nvPr/>
        </p:nvSpPr>
        <p:spPr>
          <a:xfrm>
            <a:off x="755640" y="618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潮汛看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2832120" y="4940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18" descr="x1pbglk-vqL4BvPH5Zdx0rr_sQ3C-1Q9Rg7gvrYV8H7aJvEVwT4m7sGd0h-xh86NRbCswE9tdWVa8tlaK24NK4T91h4zKGw4YIOYw2oB01lDRg4Sr4vrrPtFd5CGh0OrQwSEGgSygf406wjM7VA5S"/>
          <p:cNvPicPr/>
          <p:nvPr/>
        </p:nvPicPr>
        <p:blipFill>
          <a:blip r:embed="rId9"/>
          <a:stretch/>
        </p:blipFill>
        <p:spPr>
          <a:xfrm>
            <a:off x="3132000" y="1773360"/>
            <a:ext cx="2927520" cy="3035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9"/>
          <p:cNvSpPr/>
          <p:nvPr/>
        </p:nvSpPr>
        <p:spPr>
          <a:xfrm>
            <a:off x="3708360" y="256392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Times New Roman"/>
                <a:ea typeface="楷体_GB2312"/>
              </a:rPr>
              <a:t>你能复述吗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62000" y="260280"/>
            <a:ext cx="898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   第二日，我便要他捕鸟。他说：“这不能。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须大雪下了才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，我们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沙地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上，下了雪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扫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出一块空地来，用短棒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起一个大竹匾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撒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下秕谷，看鸟雀来吃时，我远远地将缚在棒上的绳子一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那鸟雀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罩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竹匾下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什么都有：稻鸡，角鸡，鹁鸪，蓝背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……”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于是又很盼望下雪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68360" y="5734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0" y="522936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雪地捕鸟表现出闰土是一个</a:t>
            </a:r>
            <a:r>
              <a:rPr b="0" lang="zh-CN" sz="6000" spc="-1" strike="noStrike">
                <a:solidFill>
                  <a:srgbClr val="ffffff"/>
                </a:solidFill>
                <a:latin typeface="Garamond"/>
              </a:rPr>
              <a:t>＿ ＿ ＿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的孩子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58808089084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24000" y="333360"/>
            <a:ext cx="826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闰土又对我说：“现在太冷，你夏天到我们这里来。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我们日里到海边捡贝壳去，红的绿的都有，鬼见怕也有，观音手也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晚上我和爹管四瓜去，你也去。”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019240" y="4005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贝壳五颜六色、奇形怪状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022480" y="4869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从海边拾贝我们可以看出闰土的生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35120" y="580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丰富多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8388360" y="6308640"/>
            <a:ext cx="755640" cy="54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iecool"/>
          <p:cNvPicPr/>
          <p:nvPr/>
        </p:nvPicPr>
        <p:blipFill>
          <a:blip r:embed="rId1"/>
          <a:stretch/>
        </p:blipFill>
        <p:spPr>
          <a:xfrm>
            <a:off x="5219640" y="189000"/>
            <a:ext cx="3384720" cy="32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75dda78b4bfdcbcafc1f1040"/>
          <p:cNvPicPr/>
          <p:nvPr/>
        </p:nvPicPr>
        <p:blipFill>
          <a:blip r:embed="rId2"/>
          <a:stretch/>
        </p:blipFill>
        <p:spPr>
          <a:xfrm>
            <a:off x="324000" y="189000"/>
            <a:ext cx="3311280" cy="3384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656520" y="404640"/>
            <a:ext cx="11552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鬼    见    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7" descr="1a988e791540898964492"/>
          <p:cNvPicPr/>
          <p:nvPr/>
        </p:nvPicPr>
        <p:blipFill>
          <a:blip r:embed="rId3"/>
          <a:stretch/>
        </p:blipFill>
        <p:spPr>
          <a:xfrm>
            <a:off x="5435640" y="3860640"/>
            <a:ext cx="3311640" cy="273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200761214822714_2"/>
          <p:cNvPicPr/>
          <p:nvPr/>
        </p:nvPicPr>
        <p:blipFill>
          <a:blip r:embed="rId4"/>
          <a:stretch/>
        </p:blipFill>
        <p:spPr>
          <a:xfrm>
            <a:off x="250920" y="3789360"/>
            <a:ext cx="3457440" cy="266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3800880" y="3933720"/>
            <a:ext cx="11552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观    音    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936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管贼吗？”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“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不是。走路的人口渴了摘一个瓜吃，我们这里是不算偷的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要管的是獾猪，刺猬，猹。</a:t>
            </a: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月亮地下，你听，啦啦地响了，猹在咬瓜了。你便捏了胡叉，轻轻地走去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……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那时并不知道这所谓刺猬是怎么一件东西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便是现在也不知道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只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端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觉得状如小狗而很凶猛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不咬人吗？”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“有胡叉呢。走到了，</a:t>
            </a: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看见猹了，你便刺。这畜生很伶俐，倒向你奔来，反从胯下窜了。它的皮毛是油一般的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c2f02009e3c1d4b42fddd456"/>
          <p:cNvPicPr/>
          <p:nvPr/>
        </p:nvPicPr>
        <p:blipFill>
          <a:blip r:embed="rId1"/>
          <a:stretch/>
        </p:blipFill>
        <p:spPr>
          <a:xfrm>
            <a:off x="0" y="0"/>
            <a:ext cx="4356000" cy="5157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003640" y="220860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Garamond"/>
              </a:rPr>
              <a:t>月亮地下，你听，啦啦地响了，猹在咬瓜了。你便捏了胡叉，轻轻地走去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……”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它不咬人吗？”</a:t>
            </a:r>
            <a:br>
              <a:rPr sz="3200"/>
            </a:b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　</a:t>
            </a:r>
            <a:r>
              <a:rPr b="1" lang="zh-CN" sz="1600" spc="-1" strike="noStrike">
                <a:solidFill>
                  <a:srgbClr val="66ff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“有胡叉呢。走到了，看见猹了，你便刺。这畜生很伶俐，倒向你奔来，反从胯下窜了。它的皮毛是油一般的滑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…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79280" y="587700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从看瓜刺猹我们可以看出闰土是一个：</a:t>
            </a:r>
            <a:r>
              <a:rPr b="0" lang="zh-CN" sz="4800" spc="-1" strike="noStrike">
                <a:solidFill>
                  <a:srgbClr val="ffffff"/>
                </a:solidFill>
                <a:latin typeface="Garamond"/>
              </a:rPr>
              <a:t>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的孩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3333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素不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道天下有这许多新鲜事：海边有如许五色的贝壳；西瓜有这样危险的经历，我先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单知道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它在水果店里出卖罢了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　“我们沙地里，潮流要来的时候，就有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许多跳鱼儿只是跳，都有青蛙似的两只脚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……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5013360"/>
            <a:ext cx="577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看跳鱼儿表明闰土的生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03360" y="5954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丰富多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8172360" y="6237360"/>
            <a:ext cx="831960" cy="62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352760" y="260280"/>
            <a:ext cx="479124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鲁迅（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88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936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原名周树人，字豫才，浙江绍兴人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中国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Garamond"/>
                <a:ea typeface="宋体"/>
              </a:rPr>
              <a:t>文学家、思想家、革命家和教育家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鲁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92360" cy="32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鲁迅纪念邮票"/>
          <p:cNvPicPr/>
          <p:nvPr/>
        </p:nvPicPr>
        <p:blipFill>
          <a:blip r:embed="rId3"/>
          <a:stretch/>
        </p:blipFill>
        <p:spPr>
          <a:xfrm>
            <a:off x="8286840" y="6276960"/>
            <a:ext cx="857160" cy="581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鲁迅※南腔北调集"/>
          <p:cNvPicPr/>
          <p:nvPr/>
        </p:nvPicPr>
        <p:blipFill>
          <a:blip r:embed="rId4"/>
          <a:stretch/>
        </p:blipFill>
        <p:spPr>
          <a:xfrm>
            <a:off x="0" y="3429000"/>
            <a:ext cx="341964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5060160" y="458136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aramond"/>
                <a:ea typeface="宋体"/>
              </a:rPr>
              <a:t>横眉冷对千夫指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aramond"/>
                <a:ea typeface="宋体"/>
              </a:rPr>
              <a:t>俯首甘为孺子牛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968040" y="58572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闰土的形象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79480" y="1595520"/>
            <a:ext cx="82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觉得闰土是个怎样的人？请结合课文中的具体内容进行分析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08200" y="2960640"/>
            <a:ext cx="70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闰土是一个（         ）的孩子，我从（             ）可以看出来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716360" y="555480"/>
            <a:ext cx="44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闰土是个活泼可爱的少年，作者是从哪些方面去写闰土的？请同学们画出有关句子，读一读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3" descr="闰土2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09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358640" y="122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外貌描写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39640" y="1413000"/>
            <a:ext cx="80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其间有一个十一二岁的少年，项戴银圈，手捏一柄钢叉，向一匹猹用力地刺去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95280" y="3213000"/>
            <a:ext cx="84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他正在厨房里，紫色的圆脸，头戴一顶小毡帽，颈上套一个明晃晃的银项圈，这可见他的父亲十分爱他，怕他死去，所以在神佛面前许下愿心，用圈子将他套住了。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358640" y="338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作描写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751200" y="1413000"/>
            <a:ext cx="182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手捏一柄钢叉，向一匹猹用力地刺去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31840" y="2571840"/>
            <a:ext cx="89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他见人很怕羞，只是不怕我，没有旁人的时候，便和我说话，于是不到半日，我们便熟识了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160160" y="515772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他也躲到厨房里，哭着不肯出门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431720" y="50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语言描写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1160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他</a:t>
            </a: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说：“这不能。须大雪下了才好，我们沙地上，下了雪，我扫出一块空地来，用短棒支起一个大竹匾，撒下秕谷，看鸟雀来吃时，我远远地将缚在棒上的绳子一拉，那鸟雀就罩在竹匾下了。什么都有：稻鸡，角鸡，鹁鸪，蓝背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……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3120" y="3795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0920" y="386064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0" y="400536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</a:rPr>
              <a:t>闰土又对我说：“现在太冷，你夏天到我们这里来。我们日里到海边捡贝壳去，红的绿的都有，鬼见怕也有，观音手也有。晚上我和爹管四瓜去，你也去。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61972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</a:rPr>
              <a:t>谈一谈对这句话的理解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69228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啊！闰土的心里有无穷无尽的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希奇的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都是我往常的朋友所不知道的。他们不知道一些事，闰土在海边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们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都和我一样只看见院子里高墙上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角的天空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24000" y="3500280"/>
            <a:ext cx="83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”和“往常的朋友”都是富家子弟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整天生活在大院里，很少接触大自然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像井底之蛙。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表达了“我”对自己所处的环境不满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流露出“我”对农村丰富多彩生活的向往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6948360" y="0"/>
            <a:ext cx="2195640" cy="981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020000" y="1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黑体"/>
              </a:rPr>
              <a:t>课堂检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39640" y="170028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闰土的心里有无穷无尽的稀奇事，这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稀奇事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指闰土给我讲的（        ）、（        ）、（        ）、（        ），他在作者心目中是一个（                      ）的少年。文章表达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  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   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的友谊及对他的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    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 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之情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chatu1"/>
          <p:cNvPicPr/>
          <p:nvPr/>
        </p:nvPicPr>
        <p:blipFill>
          <a:blip r:embed="rId1"/>
          <a:stretch/>
        </p:blipFill>
        <p:spPr>
          <a:xfrm>
            <a:off x="-108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"/>
          <p:cNvSpPr/>
          <p:nvPr/>
        </p:nvSpPr>
        <p:spPr>
          <a:xfrm>
            <a:off x="179280" y="1628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深蓝的的天空中挂着一轮金黄的的圆月，下面是无边的沙地，都种着一望无际的碧绿的西瓜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。其间有一个十一二岁的少年，项带银圈，手捏一柄钢叉，向一匹猹尽力地刺去。那猹却将身一扭，反从他的胯下逃走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AutoShape 3"/>
          <p:cNvSpPr/>
          <p:nvPr/>
        </p:nvSpPr>
        <p:spPr>
          <a:xfrm flipH="1">
            <a:off x="6300720" y="5705640"/>
            <a:ext cx="2448000" cy="1152360"/>
          </a:xfrm>
          <a:prstGeom prst="cloudCallout">
            <a:avLst>
              <a:gd name="adj1" fmla="val 75939"/>
              <a:gd name="adj2" fmla="val -36226"/>
            </a:avLst>
          </a:prstGeom>
          <a:solidFill>
            <a:srgbClr val="ffff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732720" y="57340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作者用了怎样的描写方法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502640" y="417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朗读第一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闰土2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5435640" y="476280"/>
            <a:ext cx="3456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认真读读课文的最后一自然段，仔细观察这幅图，想象“我”和闰土是怎样话别的，可以自己说一说，也可与同桌分角色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639280" y="6354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252880" y="544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难舍难分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回顾课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1557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课文先写我 ＿＿＿＿    闰土  ，接着写我和闰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＿＿＿＿、  ＿＿＿＿、 ＿＿＿＿、＿＿＿＿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我的情感也随之变化。先是＿＿  闰土，知道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要来时十分的＿＿＿相见后＿＿＿＿，相处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对闰土十分＿＿＿，离别时很＿＿＿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14480" y="155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记忆中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91080" y="212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相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204360" y="2171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相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38380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相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2852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相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531252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怀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007440" y="436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盼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475240" y="450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十分欢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648520" y="54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钦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888520" y="551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难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5"/>
          <p:cNvSpPr/>
          <p:nvPr/>
        </p:nvSpPr>
        <p:spPr>
          <a:xfrm>
            <a:off x="1476360" y="3129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moban/                  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beijing/                   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xiazai/                     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ziliao/                 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shiti/                   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yuwen/  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yingyu/  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kexue/   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huaxue/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dili/          </a:t>
            </a:r>
            <a:r>
              <a:rPr b="0" lang="zh-CN" sz="100" spc="-1" strike="noStrike">
                <a:solidFill>
                  <a:srgbClr val="003399"/>
                </a:solidFill>
                <a:latin typeface="Garamond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003399"/>
                </a:solidFill>
                <a:latin typeface="Garamond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284720" y="189000"/>
            <a:ext cx="431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品有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呐喊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彷徨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论文集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坟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散文诗集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野草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散文集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朝花夕拾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杂文集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热风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华盖集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、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华盖集续编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等专集。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6" descr="鲁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22120"/>
            <a:ext cx="3924360" cy="626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457200" y="65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e5e5ff"/>
                </a:solidFill>
                <a:latin typeface="Times New Roman"/>
              </a:rPr>
              <a:t>练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39640" y="18446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e5e5ff"/>
                </a:solidFill>
                <a:latin typeface="Times New Roman"/>
              </a:rPr>
              <a:t>摘录描写闰土外貌的句子。再用一段话写一个人的外貌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09480" y="3048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86e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d1b03"/>
                </a:solidFill>
                <a:latin typeface="宋体"/>
              </a:rPr>
              <a:t>他正在厨房里，紫色的圆脸，头戴一顶小毡帽，颈上套一个明晃晃的银项圈，这可见他的父亲十分爱他，怕他死去，所以在神佛面前许下心愿，用圈子将他套住了。</a:t>
            </a:r>
            <a:r>
              <a:rPr b="1" lang="zh-CN" sz="3200" spc="-1" strike="noStrike">
                <a:solidFill>
                  <a:srgbClr val="fd1b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539640" y="16286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5e5ff"/>
                </a:solidFill>
                <a:latin typeface="Times New Roman"/>
              </a:rPr>
              <a:t>倩倩不到两岁，胖墩墩的。红朴朴的脸蛋上，有一双水灵灵的眼睛。小辫子朝天翘着，粉红色的发带在头上一颠一颠的，像两只飞舞的彩蝶。尤其逗人喜爱的，是她那张伶俐的小嘴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3" descr="BS00580_"/>
          <p:cNvPicPr/>
          <p:nvPr/>
        </p:nvPicPr>
        <p:blipFill>
          <a:blip r:embed="rId1"/>
          <a:stretch/>
        </p:blipFill>
        <p:spPr>
          <a:xfrm>
            <a:off x="5651640" y="4159080"/>
            <a:ext cx="3203280" cy="2698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826920" y="90792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50920" y="12034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e5e5ff"/>
                </a:solidFill>
                <a:latin typeface="Times New Roman"/>
              </a:rPr>
              <a:t>她的头发短短的，身着运动衫，足登球鞋，看上去像小男孩。她的名字叫张颖，颖是聪颖的颖。这个名字饱含着父母对她的希望，当然她也没辜负父母的期望，还有点儿小聪明。她不但长得像个小男孩，性格也像小男孩。她爱和男孩子们玩打仗，也爱和表哥在地下摔跤，更爱和男孩子们放炮竹，捉蟋蟀。她说：“和男孩子玩，他们不爱生气，不爱哭，玩着痛快！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3" descr="BD07153_"/>
          <p:cNvPicPr/>
          <p:nvPr/>
        </p:nvPicPr>
        <p:blipFill>
          <a:blip r:embed="rId1"/>
          <a:stretch/>
        </p:blipFill>
        <p:spPr>
          <a:xfrm>
            <a:off x="687708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539640" y="404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826920" y="549360"/>
            <a:ext cx="707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后，闰土是什么样子呢？“我”和闰土见面是怎样的情景呢？展开你丰富的想象，看谁想象最合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Picture 3" descr="20071221594988"/>
          <p:cNvPicPr/>
          <p:nvPr/>
        </p:nvPicPr>
        <p:blipFill>
          <a:blip r:embed="rId1"/>
          <a:stretch/>
        </p:blipFill>
        <p:spPr>
          <a:xfrm rot="20570400">
            <a:off x="1115640" y="3068640"/>
            <a:ext cx="2498760" cy="333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1066523_b"/>
          <p:cNvPicPr/>
          <p:nvPr/>
        </p:nvPicPr>
        <p:blipFill>
          <a:blip r:embed="rId2"/>
          <a:stretch/>
        </p:blipFill>
        <p:spPr>
          <a:xfrm>
            <a:off x="3995640" y="3068640"/>
            <a:ext cx="2414520" cy="3263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yd07082367"/>
          <p:cNvPicPr/>
          <p:nvPr/>
        </p:nvPicPr>
        <p:blipFill>
          <a:blip r:embed="rId3"/>
          <a:stretch/>
        </p:blipFill>
        <p:spPr>
          <a:xfrm rot="769200">
            <a:off x="6300720" y="3429000"/>
            <a:ext cx="1825560" cy="313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79280" y="189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新舒体简体"/>
              </a:rPr>
              <a:t>中年闰土的形象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9640" y="1628640"/>
            <a:ext cx="806472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一眼就认出走进来的人，灰黄的皮肤，尖长的脸，又肿又红的眼睛，配着一张毫无生气的脸，他就是闰土。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节选自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故乡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4" descr="4B257585647"/>
          <p:cNvPicPr/>
          <p:nvPr/>
        </p:nvPicPr>
        <p:blipFill>
          <a:blip r:embed="rId1"/>
          <a:stretch/>
        </p:blipFill>
        <p:spPr>
          <a:xfrm>
            <a:off x="324000" y="620640"/>
            <a:ext cx="3671640" cy="51300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1"/>
          <p:cNvSpPr/>
          <p:nvPr/>
        </p:nvSpPr>
        <p:spPr>
          <a:xfrm>
            <a:off x="-22320" y="6029280"/>
            <a:ext cx="66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更多免费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模板尽在：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Garamond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Garamond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29FE-2031-4C13-BBA6-C848AFF3F1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640" y="549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检查预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niǔ         k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   c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      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扭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 身      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胯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 下      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厨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 房       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套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 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      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       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                cu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Garamond"/>
              </a:rPr>
              <a:t>   </a:t>
            </a:r>
            <a:r>
              <a:rPr b="1" lang="zh-CN" sz="4000" spc="-1" strike="noStrike">
                <a:solidFill>
                  <a:srgbClr val="0099cc"/>
                </a:solidFill>
                <a:latin typeface="Garamond"/>
              </a:rPr>
              <a:t>刺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 猬</a:t>
            </a:r>
            <a:r>
              <a:rPr b="0" lang="zh-CN" sz="4000" spc="-1" strike="noStrike">
                <a:solidFill>
                  <a:srgbClr val="0099cc"/>
                </a:solidFill>
                <a:latin typeface="Garamond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        畜 </a:t>
            </a:r>
            <a:r>
              <a:rPr b="0" lang="zh-CN" sz="4000" spc="-1" strike="noStrike">
                <a:solidFill>
                  <a:srgbClr val="0099cc"/>
                </a:solidFill>
                <a:latin typeface="Garamond"/>
              </a:rPr>
              <a:t>生 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       </a:t>
            </a:r>
            <a:r>
              <a:rPr b="0" lang="zh-CN" sz="4000" spc="-1" strike="noStrike">
                <a:solidFill>
                  <a:srgbClr val="0099cc"/>
                </a:solidFill>
                <a:latin typeface="Garamond"/>
              </a:rPr>
              <a:t>逃</a:t>
            </a:r>
            <a:r>
              <a:rPr b="0" lang="zh-CN" sz="4000" spc="-1" strike="noStrike">
                <a:solidFill>
                  <a:srgbClr val="ff0000"/>
                </a:solidFill>
                <a:latin typeface="Garamond"/>
              </a:rPr>
              <a:t> 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84360" y="6206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词语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1628640"/>
            <a:ext cx="85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碧绿  郑重  允许  仿佛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厨房  刺猬  畜生  胯下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图片3"/>
          <p:cNvPicPr/>
          <p:nvPr/>
        </p:nvPicPr>
        <p:blipFill>
          <a:blip r:embed="rId1"/>
          <a:stretch/>
        </p:blipFill>
        <p:spPr>
          <a:xfrm>
            <a:off x="4643280" y="4508640"/>
            <a:ext cx="3456000" cy="216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4046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注意读音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42920" y="4797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银项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圈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895480" y="21477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允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762440" y="2147760"/>
            <a:ext cx="18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毡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15280" y="2147760"/>
            <a:ext cx="20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颈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上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979640" y="34290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畜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生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505320" y="4738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五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行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缺土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66680" y="214776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正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月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708360" y="3429000"/>
            <a:ext cx="261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仿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佛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477120" y="344340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空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地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1280" y="1557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z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ē</a:t>
            </a: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743200" y="16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ǔ</a:t>
            </a:r>
            <a:r>
              <a:rPr b="1" lang="en-US" sz="3600" spc="-1" strike="noStrike">
                <a:solidFill>
                  <a:srgbClr val="a886e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724280" y="16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z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477120" y="161460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j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ǐ</a:t>
            </a: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1116000" y="295416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c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99564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f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ú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6248520" y="29541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ò</a:t>
            </a: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1905120" y="42051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qu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4038480" y="42051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x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í</a:t>
            </a:r>
            <a:r>
              <a:rPr b="1" lang="en-US" sz="3600" spc="-1" strike="noStrike">
                <a:solidFill>
                  <a:srgbClr val="a886e0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3" descr="BD21313_"/>
          <p:cNvPicPr/>
          <p:nvPr/>
        </p:nvPicPr>
        <p:blipFill>
          <a:blip r:embed="rId1"/>
          <a:stretch/>
        </p:blipFill>
        <p:spPr>
          <a:xfrm>
            <a:off x="539640" y="1197000"/>
            <a:ext cx="2438640" cy="15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图片5"/>
          <p:cNvPicPr/>
          <p:nvPr/>
        </p:nvPicPr>
        <p:blipFill>
          <a:blip r:embed="rId2"/>
          <a:stretch/>
        </p:blipFill>
        <p:spPr>
          <a:xfrm rot="1942800">
            <a:off x="5724360" y="43657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360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问题探讨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630440"/>
            <a:ext cx="83534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闰土这个名字是怎样来的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2.“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我”和闰土初次见面是怎样的情景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闰土给“我”讲了好多“希奇的事”。他给“我”讲了哪些希奇的事呢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４</a:t>
            </a:r>
            <a:r>
              <a:rPr b="1" lang="en-US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你觉得闰土是个怎样的孩子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7" descr="g_cha_p_08"/>
          <p:cNvPicPr/>
          <p:nvPr/>
        </p:nvPicPr>
        <p:blipFill>
          <a:blip r:embed="rId1"/>
          <a:stretch/>
        </p:blipFill>
        <p:spPr>
          <a:xfrm>
            <a:off x="611280" y="189000"/>
            <a:ext cx="1257120" cy="144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4121211432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１</a:t>
            </a:r>
            <a:r>
              <a:rPr b="0" i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.“</a:t>
            </a:r>
            <a:r>
              <a:rPr b="0" i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闰土”名字的由来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5040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他和我仿佛年纪，闰月生的，五行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（五行指水、金、火、木、土。）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缺土，所以他的父亲叫他闰土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5029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初次见面的情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836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课文在写“我”与闰土初次见面的情景时主要是对人物的什么方面进行描写呢？在这里闰土给你留下了怎样的印象呢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2411280" y="313380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中宋"/>
              </a:rPr>
              <a:t>外貌描写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4005000"/>
            <a:ext cx="52560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他正在厨房里，紫色的圆脸，头戴一顶小毡帽，颈上套一个明晃晃的银项圈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035760" y="6095880"/>
            <a:ext cx="31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健康、可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7" descr="runtu"/>
          <p:cNvPicPr/>
          <p:nvPr/>
        </p:nvPicPr>
        <p:blipFill>
          <a:blip r:embed="rId1"/>
          <a:stretch/>
        </p:blipFill>
        <p:spPr>
          <a:xfrm>
            <a:off x="5867280" y="2781360"/>
            <a:ext cx="2880000" cy="331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"/>
                            </p:stCondLst>
                            <p:childTnLst>
                              <p:par>
                                <p:cTn id="7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6:47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7:31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