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9034-C04B-4CAC-A481-30F9409700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3D29-E9AE-4EF6-964A-2F8254D599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91E-EE23-4F2E-B966-2AB28BB0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28B-2F63-4CCE-B752-6A0B0C6C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CB7-D977-4533-8B97-7795A712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1A4-1E08-4466-98A2-013C98C9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599-EEA1-43AA-AB83-3A4BDD3E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C1E-90CE-45D5-A2AB-0C5DDE2E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C32-369F-4E8D-9FB7-CB842E27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419-49D2-4BB9-8F68-34D1DE9E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72A-ABE1-4F6A-A223-CA5074F3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F82-5813-427B-8A38-0EDD635A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1BF-752D-4B87-97CB-C07A4720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977-1DB4-49FE-AE33-4D26F0F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FF27-78D6-4FA2-80C4-174B929B5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.mop.com/xuewu12124/photo/showphoto.do?a=index&amp;p=54913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hnce.com.cn/newscenter/national/2008/4/12/94547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221.2.163.143:8000/oblog4/u/tcxx_liuyang/archives/2007/2159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" descr="md_11400137021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1092240" y="1523880"/>
            <a:ext cx="69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000"/>
                </a:solidFill>
                <a:latin typeface="华文中宋"/>
                <a:ea typeface="华文中宋"/>
              </a:rPr>
              <a:t> </a:t>
            </a:r>
            <a:r>
              <a:rPr b="1" lang="zh-CN" sz="8000" spc="-1" strike="noStrike">
                <a:solidFill>
                  <a:srgbClr val="ffc000"/>
                </a:solidFill>
                <a:latin typeface="华文中宋"/>
                <a:ea typeface="华文中宋"/>
              </a:rPr>
              <a:t>神 奇 的 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609480" y="4572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Arial"/>
              </a:rPr>
              <a:t>湘教版二年级语文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750680" y="58672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造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术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84360" y="1989000"/>
            <a:ext cx="3168720" cy="291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627280" y="191628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专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2484360" y="3429000"/>
            <a:ext cx="316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067280" y="19890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54200" y="1599840"/>
            <a:ext cx="7929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塑料桥是用又薄又结实的塑料管子做的，充进了空气就架起一座桥，如果把气放掉，它会自动折叠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698920" y="380880"/>
            <a:ext cx="36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塑料桥是什么样子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兰兰一边看花一边往前走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一边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一边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边框1"/>
          <p:cNvPicPr/>
          <p:nvPr/>
        </p:nvPicPr>
        <p:blipFill>
          <a:blip r:embed="rId1"/>
          <a:stretch/>
        </p:blipFill>
        <p:spPr>
          <a:xfrm>
            <a:off x="228600" y="228600"/>
            <a:ext cx="3513240" cy="1297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2514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比一比，再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兰（      ）    吓（      ）    玻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（      ）    下（      ）    坡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照样子，我也会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：一（条）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（    ）桥      一（    ）花    一 （    ）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（    ）专家  一（    ）小河 一（    ）铅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插上想象的翅膀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你能设计一座未来的桥吗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向大家说说它的样子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347400"/>
            <a:ext cx="4114800" cy="19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神奇的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6854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未来，有一种神奇的桥，这种桥建在海上，一共有四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层，有两条弯弯曲曲的柏油公路，第一条是通往山村的，把山村和城市连接在一起，称为“友谊之路”；第二条是通往未来与回到古代的路，它带你去未来，让你大饱眼福；各种高科技带你回到古代，见证人类的起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称为“时光之路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层，是一个神奇的地方。至今还没有通车，虽然有人去调查，但从没有人回来过。因为他们至今都还在那里面玩着“模拟太空”的游戏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层，是鸟的天堂，树木的天堂。成群的鸟儿成双对，桃花朵朵开！门上有一组机关，有春、夏、秋、冬四个按钮，供人们选择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桥是用玻璃做的，可以防任何自然灾害，所以很安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好了，这种桥将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12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使用！什么，你问第四层有什么？不告诉你，嘿嘿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003E-8465-4589-B49B-5006992909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流利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把桥的故事讲给别人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00841294682421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"/>
          <p:cNvSpPr/>
          <p:nvPr/>
        </p:nvSpPr>
        <p:spPr>
          <a:xfrm>
            <a:off x="1389240" y="52380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 rot="5400000">
            <a:off x="-609840" y="2438280"/>
            <a:ext cx="3276720" cy="2057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3200400" y="6095880"/>
            <a:ext cx="4572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0492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án          xià           bō     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兰  兰       吓  得       玻   璃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ào     mó   shù    zhu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建  造        魔  术         专    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429000" y="152280"/>
            <a:ext cx="2448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00a34"/>
                </a:solidFill>
                <a:latin typeface="Arial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684360" y="2057400"/>
            <a:ext cx="3168360" cy="292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兰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吓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49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6:44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0c06000000000001024120</vt:lpwstr>
  </property>
  <property fmtid="{D5CDD505-2E9C-101B-9397-08002B2CF9AE}" pid="4" name="Version">
    <vt:r8>1</vt:r8>
  </property>
</Properties>
</file>