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gif" ContentType="image/gif"/>
  <Override PartName="/ppt/media/image9.png" ContentType="image/png"/>
  <Override PartName="/ppt/media/type.wav" ContentType="audio/x-wav"/>
  <Override PartName="/ppt/media/image7.jpeg" ContentType="image/jpeg"/>
  <Override PartName="/ppt/media/image11.png" ContentType="image/png"/>
  <Override PartName="/ppt/media/image8.gif" ContentType="image/gif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8313-B627-4AB1-B681-2D39F29703C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FC4B-8141-4405-9913-E19BFB241944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887-3473-4757-9EE1-7477E713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D0F-7C14-48D1-B910-BF8EA9D5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5E2-E87C-49E7-A9A6-EF87BA64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A62C-F08D-48DE-B9D5-7FFC769D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EDA-8870-4049-9EF8-DB874306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87CD-3527-4A75-B2C9-1B9D0AA0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D790-6605-4AFB-A645-65BB75ED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AB12-FED8-41E1-A9CB-4AEC91EF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C3E9-7516-4976-B2E7-CAA413B5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CB9B-E7AA-42AB-A95B-A3691830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9F33-AE06-4608-8070-613B8C2B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A9E-1434-4BF1-A41F-5FFF115A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4702-4B0D-4BFB-A38E-B91AA9A96E61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"/>
          <p:cNvSpPr txBox="1"/>
          <p:nvPr/>
        </p:nvSpPr>
        <p:spPr>
          <a:xfrm>
            <a:off x="2013120" y="2276640"/>
            <a:ext cx="489744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微软雅黑"/>
              </a:rPr>
              <a:t>山青青</a:t>
            </a:r>
            <a:endParaRPr b="1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189684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读了课文，你想说什么？现在，你想用自己的什么方式来赞美一下美丽的春天？（可以唱一支赞美春天的歌；可以朗诵一首描写春天的诗；可以说几句赞美春天的话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832360" cy="4381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picture15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1"/>
          <p:cNvSpPr/>
          <p:nvPr/>
        </p:nvSpPr>
        <p:spPr>
          <a:xfrm>
            <a:off x="1981080" y="6308640"/>
            <a:ext cx="64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1692360" y="1176480"/>
            <a:ext cx="5437080" cy="4252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61280" cy="5600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C038-0F8B-4F91-9A19-4A1B2F6660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认识本课生字。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正确、流利地朗读课文，背诵课文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在阅读中积累语言，感受春天大自然的美丽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21977e5457a2f14f574e0045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42" descr=""/>
          <p:cNvPicPr/>
          <p:nvPr/>
        </p:nvPicPr>
        <p:blipFill>
          <a:blip r:embed="rId1"/>
          <a:stretch/>
        </p:blipFill>
        <p:spPr>
          <a:xfrm>
            <a:off x="781200" y="652320"/>
            <a:ext cx="7581600" cy="5553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31"/>
          <p:cNvSpPr/>
          <p:nvPr/>
        </p:nvSpPr>
        <p:spPr>
          <a:xfrm>
            <a:off x="-15228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00da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5" name="Picture 1032" descr="t21"/>
          <p:cNvPicPr/>
          <p:nvPr/>
        </p:nvPicPr>
        <p:blipFill>
          <a:blip r:embed="rId2"/>
          <a:stretch/>
        </p:blipFill>
        <p:spPr>
          <a:xfrm>
            <a:off x="8228160" y="5791320"/>
            <a:ext cx="915840" cy="82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33" descr="t21"/>
          <p:cNvPicPr/>
          <p:nvPr/>
        </p:nvPicPr>
        <p:blipFill>
          <a:blip r:embed="rId3"/>
          <a:stretch/>
        </p:blipFill>
        <p:spPr>
          <a:xfrm>
            <a:off x="7848720" y="6031080"/>
            <a:ext cx="915840" cy="826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34"/>
          <p:cNvSpPr/>
          <p:nvPr/>
        </p:nvSpPr>
        <p:spPr>
          <a:xfrm>
            <a:off x="826920" y="1628640"/>
            <a:ext cx="32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8" name="Picture 1040" descr="图片10"/>
          <p:cNvPicPr/>
          <p:nvPr/>
        </p:nvPicPr>
        <p:blipFill>
          <a:blip r:embed="rId4"/>
          <a:stretch/>
        </p:blipFill>
        <p:spPr>
          <a:xfrm>
            <a:off x="7451640" y="189000"/>
            <a:ext cx="1400400" cy="1247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5"/>
          <p:cNvSpPr/>
          <p:nvPr/>
        </p:nvSpPr>
        <p:spPr>
          <a:xfrm>
            <a:off x="3348000" y="3483000"/>
            <a:ext cx="735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0" name="Picture 5" descr="106808_1190964137090"/>
          <p:cNvPicPr/>
          <p:nvPr/>
        </p:nvPicPr>
        <p:blipFill>
          <a:blip r:embed="rId1"/>
          <a:stretch/>
        </p:blipFill>
        <p:spPr>
          <a:xfrm>
            <a:off x="1547640" y="1481040"/>
            <a:ext cx="6120000" cy="4243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02920" y="2742840"/>
            <a:ext cx="68389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这么美丽的景色是什么季节的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3638520" y="155736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设置情境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33" descr="D0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35"/>
          <p:cNvSpPr/>
          <p:nvPr/>
        </p:nvSpPr>
        <p:spPr>
          <a:xfrm>
            <a:off x="3924360" y="1341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鸣叫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Rectangle 1036"/>
          <p:cNvSpPr/>
          <p:nvPr/>
        </p:nvSpPr>
        <p:spPr>
          <a:xfrm>
            <a:off x="2956320" y="24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苗青青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Rectangle 1037"/>
          <p:cNvSpPr/>
          <p:nvPr/>
        </p:nvSpPr>
        <p:spPr>
          <a:xfrm>
            <a:off x="5762880" y="2560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笑盈盈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Text Box 1041"/>
          <p:cNvSpPr/>
          <p:nvPr/>
        </p:nvSpPr>
        <p:spPr>
          <a:xfrm>
            <a:off x="29358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绿蒙蒙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Text Box 1042"/>
          <p:cNvSpPr/>
          <p:nvPr/>
        </p:nvSpPr>
        <p:spPr>
          <a:xfrm>
            <a:off x="57438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草青青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读课文，思考！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小声读课文，边读边想：课文写了哪些景物？用横线画出来。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你觉得哪些景物最美？请你先挑选你喜欢的这一句话认真、反复地读一读，直到能把这一句话美美地读出来为止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28" descr="t21"/>
          <p:cNvPicPr/>
          <p:nvPr/>
        </p:nvPicPr>
        <p:blipFill>
          <a:blip r:embed="rId1"/>
          <a:stretch/>
        </p:blipFill>
        <p:spPr>
          <a:xfrm>
            <a:off x="228600" y="5791320"/>
            <a:ext cx="915840" cy="826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29" descr="t21"/>
          <p:cNvPicPr/>
          <p:nvPr/>
        </p:nvPicPr>
        <p:blipFill>
          <a:blip r:embed="rId2"/>
          <a:stretch/>
        </p:blipFill>
        <p:spPr>
          <a:xfrm>
            <a:off x="5257800" y="5867280"/>
            <a:ext cx="915840" cy="827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30" descr="t21"/>
          <p:cNvPicPr/>
          <p:nvPr/>
        </p:nvPicPr>
        <p:blipFill>
          <a:blip r:embed="rId3"/>
          <a:stretch/>
        </p:blipFill>
        <p:spPr>
          <a:xfrm>
            <a:off x="1447920" y="5791320"/>
            <a:ext cx="915840" cy="826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31" descr="t21"/>
          <p:cNvPicPr/>
          <p:nvPr/>
        </p:nvPicPr>
        <p:blipFill>
          <a:blip r:embed="rId4"/>
          <a:stretch/>
        </p:blipFill>
        <p:spPr>
          <a:xfrm>
            <a:off x="2895480" y="5791320"/>
            <a:ext cx="916200" cy="826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32" descr="t21"/>
          <p:cNvPicPr/>
          <p:nvPr/>
        </p:nvPicPr>
        <p:blipFill>
          <a:blip r:embed="rId5"/>
          <a:stretch/>
        </p:blipFill>
        <p:spPr>
          <a:xfrm>
            <a:off x="4038480" y="5867280"/>
            <a:ext cx="916200" cy="827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33" descr="t21"/>
          <p:cNvPicPr/>
          <p:nvPr/>
        </p:nvPicPr>
        <p:blipFill>
          <a:blip r:embed="rId6"/>
          <a:stretch/>
        </p:blipFill>
        <p:spPr>
          <a:xfrm>
            <a:off x="7543800" y="5791320"/>
            <a:ext cx="915840" cy="826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34" descr="t21"/>
          <p:cNvPicPr/>
          <p:nvPr/>
        </p:nvPicPr>
        <p:blipFill>
          <a:blip r:embed="rId7"/>
          <a:stretch/>
        </p:blipFill>
        <p:spPr>
          <a:xfrm>
            <a:off x="6477120" y="5791320"/>
            <a:ext cx="915840" cy="826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35"/>
          <p:cNvSpPr/>
          <p:nvPr/>
        </p:nvSpPr>
        <p:spPr>
          <a:xfrm>
            <a:off x="1187280" y="22766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山青青，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水青青， 鸟儿鸣叫一声声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Text Box 1036"/>
          <p:cNvSpPr/>
          <p:nvPr/>
        </p:nvSpPr>
        <p:spPr>
          <a:xfrm>
            <a:off x="2248920" y="3325680"/>
            <a:ext cx="43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cc00cc"/>
                </a:solidFill>
                <a:latin typeface="Times New Roman"/>
              </a:rPr>
              <a:t>树青青，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cc00cc"/>
                </a:solidFill>
                <a:latin typeface="Times New Roman"/>
              </a:rPr>
              <a:t>草青青， 山花朵朵笑盈盈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WordArt 1037"/>
          <p:cNvSpPr txBox="1"/>
          <p:nvPr/>
        </p:nvSpPr>
        <p:spPr>
          <a:xfrm>
            <a:off x="2340000" y="333360"/>
            <a:ext cx="4114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朗读感悟</a:t>
            </a:r>
            <a:endParaRPr b="1" lang="en-US" sz="8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81" name="Picture 1039" descr="167"/>
          <p:cNvPicPr/>
          <p:nvPr/>
        </p:nvPicPr>
        <p:blipFill>
          <a:blip r:embed="rId8"/>
          <a:stretch/>
        </p:blipFill>
        <p:spPr>
          <a:xfrm>
            <a:off x="1258920" y="765000"/>
            <a:ext cx="657360" cy="7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40" descr="167"/>
          <p:cNvPicPr/>
          <p:nvPr/>
        </p:nvPicPr>
        <p:blipFill>
          <a:blip r:embed="rId9"/>
          <a:stretch/>
        </p:blipFill>
        <p:spPr>
          <a:xfrm>
            <a:off x="6877080" y="836640"/>
            <a:ext cx="65736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05:40:3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9:09Z</dcterms:modified>
  <cp:revision>6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