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4438-C4F3-4675-BC91-B4C9E417AA7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4AC0-5E62-4E17-A59B-0BC3C67D99C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8287-8F7C-4880-8513-17BB5ECD2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EF76-4EB0-43FB-921B-512232CC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2510-28A5-4CE4-A9F2-E6FA3FA12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C539-90CD-43D8-9FEF-835B369F7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F92D-83A8-4FFB-9E35-BE5B0ED1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B31A-642C-49DF-A581-F1CB898B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FC73-5EFF-4BFB-ACB7-D1D5F37C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D2E0-EEBD-48AB-988E-7C4451F7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2185-B74F-41A1-924D-33A205EC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8F08-8E6D-48F6-AF06-A11020C6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9B37-B315-41CF-B214-0CECAFA7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D2E8-56C2-4371-8824-E3BA75B6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E7D2-DBE6-4AC6-AFB7-3BDF03D60A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49" name="WordArt 7"/>
          <p:cNvSpPr txBox="1"/>
          <p:nvPr/>
        </p:nvSpPr>
        <p:spPr>
          <a:xfrm>
            <a:off x="1293840" y="1916280"/>
            <a:ext cx="6624720" cy="2217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华文中宋"/>
              </a:rPr>
              <a:t>树上的橘子</a:t>
            </a:r>
            <a:endParaRPr b="1" lang="en-US" sz="8000" spc="1" strike="noStrike">
              <a:ln w="93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华文中宋"/>
              <a:ea typeface="华文中宋"/>
            </a:endParaRPr>
          </a:p>
        </p:txBody>
      </p:sp>
      <p:sp>
        <p:nvSpPr>
          <p:cNvPr id="50" name="矩形 10"/>
          <p:cNvSpPr/>
          <p:nvPr/>
        </p:nvSpPr>
        <p:spPr>
          <a:xfrm>
            <a:off x="1924560" y="5861160"/>
            <a:ext cx="587952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8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395280" y="155736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当她们发现舅舅还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打算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摘第二个时，一齐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喊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道：“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不，不要摘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------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468360" y="47628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3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179280" y="40766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转眼工夫，三盆橘树只剩下了</a:t>
            </a:r>
            <a:r>
              <a:rPr b="1" lang="zh-CN" sz="4800" spc="-1" strike="noStrike">
                <a:solidFill>
                  <a:srgbClr val="008000"/>
                </a:solidFill>
                <a:latin typeface="Arial"/>
              </a:rPr>
              <a:t>墨绿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的叶子，三个橘子已经放在三个女孩儿的手里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SC20090428132832265"/>
          <p:cNvPicPr/>
          <p:nvPr/>
        </p:nvPicPr>
        <p:blipFill>
          <a:blip r:embed="rId2"/>
          <a:srcRect l="0" t="-502" r="0" b="0"/>
          <a:stretch/>
        </p:blipFill>
        <p:spPr>
          <a:xfrm>
            <a:off x="34920" y="46080"/>
            <a:ext cx="2881440" cy="4116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SC20090428132832265"/>
          <p:cNvPicPr/>
          <p:nvPr/>
        </p:nvPicPr>
        <p:blipFill>
          <a:blip r:embed="rId3"/>
          <a:srcRect l="0" t="-502" r="0" b="0"/>
          <a:stretch/>
        </p:blipFill>
        <p:spPr>
          <a:xfrm>
            <a:off x="5796000" y="46080"/>
            <a:ext cx="2881440" cy="4116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SC20090428132832265"/>
          <p:cNvPicPr/>
          <p:nvPr/>
        </p:nvPicPr>
        <p:blipFill>
          <a:blip r:embed="rId4"/>
          <a:stretch/>
        </p:blipFill>
        <p:spPr>
          <a:xfrm>
            <a:off x="1044720" y="692280"/>
            <a:ext cx="1089000" cy="912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SC20090428132832265"/>
          <p:cNvPicPr/>
          <p:nvPr/>
        </p:nvPicPr>
        <p:blipFill>
          <a:blip r:embed="rId5"/>
          <a:stretch/>
        </p:blipFill>
        <p:spPr>
          <a:xfrm>
            <a:off x="6661080" y="765000"/>
            <a:ext cx="1089000" cy="911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SC20090428132832265"/>
          <p:cNvPicPr/>
          <p:nvPr/>
        </p:nvPicPr>
        <p:blipFill>
          <a:blip r:embed="rId6"/>
          <a:srcRect l="0" t="-502" r="0" b="0"/>
          <a:stretch/>
        </p:blipFill>
        <p:spPr>
          <a:xfrm>
            <a:off x="2916360" y="44280"/>
            <a:ext cx="2871720" cy="4105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SC20090428132832265"/>
          <p:cNvPicPr/>
          <p:nvPr/>
        </p:nvPicPr>
        <p:blipFill>
          <a:blip r:embed="rId7"/>
          <a:stretch/>
        </p:blipFill>
        <p:spPr>
          <a:xfrm>
            <a:off x="3780000" y="692280"/>
            <a:ext cx="1090440" cy="91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7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468360" y="333360"/>
            <a:ext cx="79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默读第四段，想一想，你感受到女孩们什么的心情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"/>
          <p:cNvSpPr/>
          <p:nvPr/>
        </p:nvSpPr>
        <p:spPr>
          <a:xfrm>
            <a:off x="1563840" y="6280200"/>
            <a:ext cx="618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11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-684360" y="333360"/>
            <a:ext cx="846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描写人神态的词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95280" y="141300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高兴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395280" y="328464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伤心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2268360" y="1341360"/>
            <a:ext cx="65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手舞足蹈、眉开眼笑、微微一笑、开怀大笑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2238480" y="3290760"/>
            <a:ext cx="6516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垂头丧气、眼含泪花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没精打采、紧皱眉头。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216000" y="3068640"/>
            <a:ext cx="892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女孩             望着手中的橘子，一个女孩小声说：“              ”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1258920" y="765000"/>
            <a:ext cx="70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垂头丧气、眼含泪花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382760" y="3068640"/>
            <a:ext cx="338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      ）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1403280" y="1989000"/>
            <a:ext cx="77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没精打采、紧皱眉头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1116000" y="189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hu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2340000" y="189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à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4859280" y="155736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zhò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8D9A-D604-45AB-98DD-891D92E2713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8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1162080" y="544680"/>
            <a:ext cx="6819840" cy="416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橘树  真假   舅舅  盆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毫不犹豫     拧下  愣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打算   墨绿   满目鲜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眼睛发亮  金灿灿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4479840" y="4730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539640" y="148428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324000" y="1844640"/>
            <a:ext cx="84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舅舅带着她们来到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花圃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的一个暖房里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200864165252196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12"/>
          <p:cNvSpPr/>
          <p:nvPr/>
        </p:nvSpPr>
        <p:spPr>
          <a:xfrm>
            <a:off x="4421160" y="2840040"/>
            <a:ext cx="733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0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8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04C12A6DBEA683BE0E130A135A62AD00"/>
          <p:cNvPicPr/>
          <p:nvPr/>
        </p:nvPicPr>
        <p:blipFill>
          <a:blip r:embed="rId2"/>
          <a:stretch/>
        </p:blipFill>
        <p:spPr>
          <a:xfrm>
            <a:off x="108000" y="44280"/>
            <a:ext cx="8856720" cy="58327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252360" y="18900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花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39640" y="4292640"/>
            <a:ext cx="8064720" cy="1740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从寒风中走进暖房里，</a:t>
            </a:r>
            <a:r>
              <a:rPr b="1" lang="zh-CN" sz="5400" spc="-1" strike="noStrike">
                <a:solidFill>
                  <a:srgbClr val="008000"/>
                </a:solidFill>
                <a:latin typeface="Arial"/>
              </a:rPr>
              <a:t>满目鲜绿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立刻使孩子们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眼睛发亮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>
            <a:off x="3419640" y="6021360"/>
            <a:ext cx="1368360" cy="0"/>
          </a:xfrm>
          <a:prstGeom prst="line">
            <a:avLst/>
          </a:prstGeom>
          <a:ln w="38160">
            <a:solidFill>
              <a:srgbClr val="d60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7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395280" y="1628640"/>
            <a:ext cx="84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看到那</a:t>
            </a:r>
            <a:r>
              <a:rPr b="1" lang="zh-CN" sz="5400" spc="-1" strike="noStrike">
                <a:solidFill>
                  <a:srgbClr val="d60093"/>
                </a:solidFill>
                <a:latin typeface="Arial"/>
              </a:rPr>
              <a:t>三盆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橘树</a:t>
            </a:r>
            <a:r>
              <a:rPr b="1" lang="zh-CN" sz="5400" spc="-1" strike="noStrike">
                <a:solidFill>
                  <a:srgbClr val="d60093"/>
                </a:solidFill>
                <a:latin typeface="Arial"/>
              </a:rPr>
              <a:t>盆景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时，女孩儿们发出了欢呼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1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SC20090428132832265"/>
          <p:cNvPicPr/>
          <p:nvPr/>
        </p:nvPicPr>
        <p:blipFill>
          <a:blip r:embed="rId2"/>
          <a:stretch/>
        </p:blipFill>
        <p:spPr>
          <a:xfrm>
            <a:off x="5996160" y="189000"/>
            <a:ext cx="3054240" cy="3781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SC20090428132832265"/>
          <p:cNvPicPr/>
          <p:nvPr/>
        </p:nvPicPr>
        <p:blipFill>
          <a:blip r:embed="rId3"/>
          <a:stretch/>
        </p:blipFill>
        <p:spPr>
          <a:xfrm>
            <a:off x="49320" y="160200"/>
            <a:ext cx="3076560" cy="3811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SC20090428132832265"/>
          <p:cNvPicPr/>
          <p:nvPr/>
        </p:nvPicPr>
        <p:blipFill>
          <a:blip r:embed="rId4"/>
          <a:stretch/>
        </p:blipFill>
        <p:spPr>
          <a:xfrm>
            <a:off x="2925720" y="160200"/>
            <a:ext cx="3076560" cy="38116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8"/>
          <p:cNvSpPr/>
          <p:nvPr/>
        </p:nvSpPr>
        <p:spPr>
          <a:xfrm>
            <a:off x="1835280" y="465300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三    橘树盆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2627280" y="4581360"/>
            <a:ext cx="151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3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"/>
          <p:cNvSpPr/>
          <p:nvPr/>
        </p:nvSpPr>
        <p:spPr>
          <a:xfrm>
            <a:off x="2124000" y="1341360"/>
            <a:ext cx="2303640" cy="935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900000" y="404640"/>
            <a:ext cx="846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金灿灿的橘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900000" y="1341360"/>
            <a:ext cx="846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黄澄澄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的梨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684360" y="2421000"/>
            <a:ext cx="84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的小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684360" y="3429000"/>
            <a:ext cx="84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的苹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684360" y="4508640"/>
            <a:ext cx="84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的积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2050920" y="2276640"/>
            <a:ext cx="28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000"/>
                </a:solidFill>
                <a:latin typeface="Arial"/>
              </a:rPr>
              <a:t>绿油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2050920" y="3213000"/>
            <a:ext cx="28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红彤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1763640" y="4292640"/>
            <a:ext cx="2665440" cy="1008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白茫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9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430200" y="148428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见到孩子们喜欢，舅舅毫不犹豫地拧下一个橘子，女孩儿们一下子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愣住了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>
            <a:off x="539640" y="3213000"/>
            <a:ext cx="26640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7"/>
          <p:cNvSpPr/>
          <p:nvPr/>
        </p:nvSpPr>
        <p:spPr>
          <a:xfrm>
            <a:off x="3924360" y="3213000"/>
            <a:ext cx="792000" cy="0"/>
          </a:xfrm>
          <a:prstGeom prst="line">
            <a:avLst/>
          </a:prstGeom>
          <a:ln w="57240">
            <a:solidFill>
              <a:srgbClr val="d60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4:09:3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0:12Z</dcterms:modified>
  <cp:revision>1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