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865C-12FA-4F93-A5B2-3291BEE5B7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2479-4B3D-4611-8E0F-D3425181FE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AC4-2CD8-4A1F-8C78-85AAA65A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EED-8CAD-4E65-B441-7D169D70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680-501E-4F24-85DB-B51D4C61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CAE-C01D-4832-A72D-FBB0CE48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C75-F3CC-4081-947B-CBA8050A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F44-9FAA-4E93-9BFD-B9138144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3FA-7103-4E9A-BF2E-E5989C9C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FFF-25DF-47E2-AF14-6BF6F8DA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4FB-F934-4715-A5C0-BEAE8960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724-0966-46E3-81AA-1AA946B8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575-FFB0-422F-9CC5-3008636D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736-A189-47AC-93A6-875219DA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DB42-126B-464B-997D-0DAAC2367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滩上的童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315880" y="5732640"/>
            <a:ext cx="4804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2905920"/>
            <a:ext cx="777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说，课文中炸城堡的方法会伤害公主，同学们，你们有什么好方法也能攻下城堡救出公主？用你的方法也来编一个童话故事。注意：把攻城堡的方法说清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533520" y="6199200"/>
            <a:ext cx="64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bei jing-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056720" cy="49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ccff"/>
                </a:solidFill>
                <a:latin typeface="Arial"/>
              </a:rPr>
              <a:t>堡垒  城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堡</a:t>
            </a:r>
            <a:r>
              <a:rPr b="1" lang="zh-CN" sz="7200" spc="-1" strike="noStrike">
                <a:solidFill>
                  <a:srgbClr val="66ccff"/>
                </a:solidFill>
                <a:latin typeface="Arial"/>
              </a:rPr>
              <a:t>  凶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狠</a:t>
            </a:r>
            <a:br>
              <a:rPr sz="7200"/>
            </a:b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商</a:t>
            </a:r>
            <a:r>
              <a:rPr b="1" lang="zh-CN" sz="7200" spc="-1" strike="noStrike">
                <a:solidFill>
                  <a:srgbClr val="66ccff"/>
                </a:solidFill>
                <a:latin typeface="Arial"/>
              </a:rPr>
              <a:t>量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攻</a:t>
            </a:r>
            <a:r>
              <a:rPr b="1" lang="zh-CN" sz="7200" spc="-1" strike="noStrike">
                <a:solidFill>
                  <a:srgbClr val="66ccff"/>
                </a:solidFill>
                <a:latin typeface="Arial"/>
              </a:rPr>
              <a:t>打  赞赏</a:t>
            </a:r>
            <a:br>
              <a:rPr sz="7200"/>
            </a:b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轰</a:t>
            </a:r>
            <a:r>
              <a:rPr b="1" lang="zh-CN" sz="7200" spc="-1" strike="noStrike">
                <a:solidFill>
                  <a:srgbClr val="66ccff"/>
                </a:solidFill>
                <a:latin typeface="Arial"/>
              </a:rPr>
              <a:t>塌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建</a:t>
            </a:r>
            <a:r>
              <a:rPr b="1" lang="zh-CN" sz="7200" spc="-1" strike="noStrike">
                <a:solidFill>
                  <a:srgbClr val="66ccff"/>
                </a:solidFill>
                <a:latin typeface="Arial"/>
              </a:rPr>
              <a:t>造  相约</a:t>
            </a:r>
            <a:br>
              <a:rPr sz="7200"/>
            </a:br>
            <a:r>
              <a:rPr b="1" lang="zh-CN" sz="7200" spc="-1" strike="noStrike">
                <a:solidFill>
                  <a:srgbClr val="66ccff"/>
                </a:solidFill>
                <a:latin typeface="Arial"/>
              </a:rPr>
              <a:t>围墙  欢呼  驾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bei jing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207080" y="690840"/>
            <a:ext cx="668196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辨析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狠（        ）保（        ）功（        ）踏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狼（        ）堡（        ）攻（        ）塌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填上合适的词语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：（凶恶）的魔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     ）的童话    （      ）的城堡  （      ）的公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：（攻打）魔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     ）童话        （      ）城堡        （      ）公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06CD-87F2-40D7-9250-63CFD631F3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360" y="4762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沙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95280" y="2734920"/>
            <a:ext cx="8344080" cy="10688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是我们快乐的天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放学以后，我们就偷偷地相约来到这里，把书包一扔，开始了我们有趣的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95280" y="4421880"/>
            <a:ext cx="8399520" cy="1068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沙滩上，我们垒起城堡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起围墙，围墙外还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了干树枝，那是我们的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403280" y="183348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1403280" y="306864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6372360" y="4005360"/>
            <a:ext cx="187308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3"/>
          <p:cNvSpPr/>
          <p:nvPr/>
        </p:nvSpPr>
        <p:spPr>
          <a:xfrm>
            <a:off x="611280" y="189000"/>
            <a:ext cx="8208720" cy="554508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>
            <a:off x="1332000" y="4046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围绕着这座用沙子垒起的城堡，孩子们编了什么童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1"/>
          <p:cNvSpPr/>
          <p:nvPr/>
        </p:nvSpPr>
        <p:spPr>
          <a:xfrm>
            <a:off x="1258920" y="1844640"/>
            <a:ext cx="745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知谁说了一句：“这城堡里住着一个凶狠的魔王。”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接着又有人补充：“他抢去了美丽的公主！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个小伙伴说：“你们快听，公主在城堡里哭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1"/>
          <p:cNvSpPr/>
          <p:nvPr/>
        </p:nvSpPr>
        <p:spPr>
          <a:xfrm>
            <a:off x="1258920" y="1841400"/>
            <a:ext cx="745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知谁说了一句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这城堡里住着一个凶狠的魔王。”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接着又有人补充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他抢去了美丽的公主！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个小伙伴说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你们快听，公主在城堡里哭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4"/>
          <p:cNvSpPr/>
          <p:nvPr/>
        </p:nvSpPr>
        <p:spPr>
          <a:xfrm>
            <a:off x="684360" y="620640"/>
            <a:ext cx="8064360" cy="3384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55640" y="836640"/>
            <a:ext cx="763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一个伙伴说：“驾驶飞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机去轰炸。”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我说：“挖地道，从地下装上火药，把城堡炸平。”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41240" y="1484280"/>
            <a:ext cx="3830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ff"/>
                </a:solidFill>
                <a:latin typeface="Times New Roman"/>
              </a:rPr>
              <a:t>机去轰</a:t>
            </a:r>
            <a:r>
              <a:rPr b="1" lang="zh-CN" sz="4500" spc="-1" strike="noStrike">
                <a:solidFill>
                  <a:srgbClr val="ff0000"/>
                </a:solidFill>
                <a:latin typeface="Times New Roman"/>
              </a:rPr>
              <a:t>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57080" y="2852640"/>
            <a:ext cx="7054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装</a:t>
            </a:r>
            <a:r>
              <a:rPr b="1" lang="zh-CN" sz="4500" spc="-1" strike="noStrike">
                <a:solidFill>
                  <a:srgbClr val="0000ff"/>
                </a:solidFill>
                <a:latin typeface="Times New Roman"/>
              </a:rPr>
              <a:t>上火药，把城堡炸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924360" y="2190600"/>
            <a:ext cx="302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Times New Roman"/>
              </a:rPr>
              <a:t>挖</a:t>
            </a:r>
            <a:r>
              <a:rPr b="1" lang="zh-CN" sz="4500" spc="-1" strike="noStrike">
                <a:solidFill>
                  <a:srgbClr val="0000ff"/>
                </a:solidFill>
                <a:latin typeface="Times New Roman"/>
              </a:rPr>
              <a:t>地道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199200" y="2205000"/>
            <a:ext cx="2693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ff"/>
                </a:solidFill>
                <a:latin typeface="Times New Roman"/>
              </a:rPr>
              <a:t>从地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5622840" y="808200"/>
            <a:ext cx="3270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Times New Roman"/>
              </a:rPr>
              <a:t>驾驶</a:t>
            </a:r>
            <a:r>
              <a:rPr b="1" lang="zh-CN" sz="4500" spc="-1" strike="noStrike">
                <a:solidFill>
                  <a:srgbClr val="0000ff"/>
                </a:solidFill>
                <a:latin typeface="Times New Roman"/>
              </a:rPr>
              <a:t>飞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未命名"/>
          <p:cNvPicPr/>
          <p:nvPr/>
        </p:nvPicPr>
        <p:blipFill>
          <a:blip r:embed="rId2"/>
          <a:stretch/>
        </p:blipFill>
        <p:spPr>
          <a:xfrm>
            <a:off x="5508720" y="4011480"/>
            <a:ext cx="36352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250920" y="549360"/>
            <a:ext cx="8424720" cy="532764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6520" y="54900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方法得到了大家的赞赏。于是我们趴在沙滩上，从四面八方挖着地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挖呀，挖呀，我们终于挖到了城堡下面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把手往上一抬，就把城堡轰塌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2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826920" y="2943360"/>
            <a:ext cx="79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我们（　　　）地道，从地下（　　　）上火药，把城堡（　　　）平，（　　）出了被困的公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050920" y="227664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55640" y="2924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0" y="3645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042920" y="357336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9"/>
          <p:cNvPicPr/>
          <p:nvPr/>
        </p:nvPicPr>
        <p:blipFill>
          <a:blip r:embed="rId2"/>
          <a:stretch/>
        </p:blipFill>
        <p:spPr>
          <a:xfrm>
            <a:off x="0" y="242100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9"/>
          <p:cNvPicPr/>
          <p:nvPr/>
        </p:nvPicPr>
        <p:blipFill>
          <a:blip r:embed="rId3"/>
          <a:stretch/>
        </p:blipFill>
        <p:spPr>
          <a:xfrm>
            <a:off x="0" y="4653000"/>
            <a:ext cx="9144000" cy="2492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84000" y="2420640"/>
            <a:ext cx="7343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我们欢呼胜利，欢呼炸死了魔王，欢呼救出了公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噢，公主被我们救出来了！在这儿，在这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大家跟着我一起叫喊着、欢呼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476360" y="765000"/>
            <a:ext cx="561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们你一言，我一句地欢呼起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250920" y="620640"/>
            <a:ext cx="8353440" cy="5400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5280" y="907920"/>
            <a:ext cx="843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忽然，我发现妈妈就站在我们身后。她也许站了很久了。她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微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着望着我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大声说：“噢，公主被我们救出来了！在这儿，在这儿！”我抱住了妈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家跟着我一起叫喊着、欢呼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770360" y="19749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噢，公主被我们救出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242720" y="2522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了！在这儿，在这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539640" y="4508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的，那时侯，连我自己也忘记了她就是我的妈妈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41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041"/>
          <p:cNvPicPr/>
          <p:nvPr/>
        </p:nvPicPr>
        <p:blipFill>
          <a:blip r:embed="rId2"/>
          <a:stretch/>
        </p:blipFill>
        <p:spPr>
          <a:xfrm>
            <a:off x="0" y="242100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041"/>
          <p:cNvPicPr/>
          <p:nvPr/>
        </p:nvPicPr>
        <p:blipFill>
          <a:blip r:embed="rId3"/>
          <a:stretch/>
        </p:blipFill>
        <p:spPr>
          <a:xfrm>
            <a:off x="0" y="465300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92" name="WordArt 6" descr=""/>
          <p:cNvPicPr/>
          <p:nvPr/>
        </p:nvPicPr>
        <p:blipFill>
          <a:blip r:embed="rId4"/>
          <a:stretch/>
        </p:blipFill>
        <p:spPr>
          <a:xfrm>
            <a:off x="1757520" y="1335240"/>
            <a:ext cx="1131840" cy="3349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7"/>
          <p:cNvSpPr txBox="1"/>
          <p:nvPr/>
        </p:nvSpPr>
        <p:spPr>
          <a:xfrm>
            <a:off x="3419640" y="5373720"/>
            <a:ext cx="1523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66"/>
                </a:solidFill>
                <a:latin typeface="华文楷体"/>
              </a:rPr>
              <a:t>轰塌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66"/>
              </a:solidFill>
              <a:latin typeface="华文楷体"/>
              <a:ea typeface="华文楷体"/>
            </a:endParaRPr>
          </a:p>
        </p:txBody>
      </p:sp>
      <p:sp>
        <p:nvSpPr>
          <p:cNvPr id="94" name="WordArt 10"/>
          <p:cNvSpPr txBox="1"/>
          <p:nvPr/>
        </p:nvSpPr>
        <p:spPr>
          <a:xfrm>
            <a:off x="3419640" y="2276640"/>
            <a:ext cx="1523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66"/>
                </a:solidFill>
                <a:latin typeface="华文楷体"/>
              </a:rPr>
              <a:t>攻打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66"/>
              </a:solidFill>
              <a:latin typeface="华文楷体"/>
              <a:ea typeface="华文楷体"/>
            </a:endParaRPr>
          </a:p>
        </p:txBody>
      </p:sp>
      <p:sp>
        <p:nvSpPr>
          <p:cNvPr id="95" name="WordArt 11"/>
          <p:cNvSpPr txBox="1"/>
          <p:nvPr/>
        </p:nvSpPr>
        <p:spPr>
          <a:xfrm>
            <a:off x="3419640" y="765000"/>
            <a:ext cx="15238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66"/>
                </a:solidFill>
                <a:latin typeface="华文楷体"/>
              </a:rPr>
              <a:t>建造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66"/>
              </a:solidFill>
              <a:latin typeface="华文楷体"/>
              <a:ea typeface="华文楷体"/>
            </a:endParaRPr>
          </a:p>
        </p:txBody>
      </p:sp>
      <p:sp>
        <p:nvSpPr>
          <p:cNvPr id="96" name="WordArt 12"/>
          <p:cNvSpPr txBox="1"/>
          <p:nvPr/>
        </p:nvSpPr>
        <p:spPr>
          <a:xfrm>
            <a:off x="3419640" y="3716280"/>
            <a:ext cx="1523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66"/>
                </a:solidFill>
                <a:latin typeface="华文楷体"/>
              </a:rPr>
              <a:t>商量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66"/>
              </a:solidFill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6:59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10Z</dcterms:modified>
  <cp:revision>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