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3FE3-2B6C-4EFC-A56A-8DBBB413D5A6}" type="slidenum">
              <a:rPr b="0" lang="zh-CN" sz="12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B7E6-A4E0-41FD-957A-C20D675D11EE}" type="slidenum">
              <a:rPr b="0" lang="zh-CN" sz="12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CD6F-A8B2-4EA6-99FB-7D0545C4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3FEF-95B9-4F08-B5EA-593DA108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0E5A-3244-4AEB-92E1-EB4C07AF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DC13-5208-4283-BE7C-1B9A89E5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6974-9723-4189-88E1-0AAC3DFF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34F8-1AE4-4808-A0EF-32F4E500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4E18-90AD-4776-B995-9ADC2BA8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BC61-FAF7-445B-ACF1-6420740E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4EC5-25D1-4DAA-A211-908E1B81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049D-478B-4E0B-8737-67A2106E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C65C-31D4-4EA9-B01F-2167FE62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419-5EF2-492C-A42E-917D3AC7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2E45-BEF5-4ED7-9D8A-8B287E2B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8E69-3BB0-453A-B4E7-3BF8AF9B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F0F4-E171-4E8B-AA63-42434C8C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F56D-ED4A-46E8-AF9B-4A65E5F3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56CD-8130-45E6-906B-EA94EC79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E3229-5F16-45B5-A751-5B0681E0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2D25B-FDDB-4A4A-B0CF-6381B5D6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568A7-322E-4909-B20F-23E4CAD0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A78E3-2B07-4440-9693-01223A1A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02C88-9C4B-4EA6-9470-09AC35F9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B881-4481-4B82-ADA5-174A7FCF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0B8BD-9435-4602-9095-D4C144C2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1B4F6-4974-4BFF-8E47-C950ED8A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C49CD-7C8A-4746-9761-7487B546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8F021-D674-4431-9C69-65B70E33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212CD-133A-4A77-A44E-76CD7918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7BA87-6AF4-4D98-B4F2-ED61BF0A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92388-04C8-4A94-8407-510F4D57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A8365-1EEA-460A-8428-C87E275E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6A8D0-8F6C-45EB-B2E2-C2B2E6AB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61477-5B84-4C31-B810-6E7FB644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5BA-913A-46EC-A838-64F58A1B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63F5C-256C-43EB-BC55-DFEEE06F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40728-91CF-4175-BF04-9CB74F5A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A9413-7DD4-41F9-A43B-AEA92584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6F2FF-9362-475F-A2F8-2046A900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FD6BF-395A-47E4-A326-FCE36843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4DAA6-1AB1-4963-A7E3-24153EBD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94131-53EE-441F-903A-9EDE76AC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AEE57-1586-44C3-8842-20CC5A96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2597C-7C5E-4866-B66D-2DC66B21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A9C-6ED7-4F85-AEF1-D9B2D445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484-190B-4E83-88B3-A4C46D81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315A-B1A5-4818-AFBF-2DF2FD0D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ABA-97C1-4984-A7CD-6AFC60A9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8BC-0AFE-4C5D-A302-4F112B04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0033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0033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D8E9-2D69-4B41-86D9-42034C0AA1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28FB-E307-4E53-9A3F-9FDD80D06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5DC7-AA1D-453E-9808-E1875FD57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B2F1-D148-4CA9-96A7-ACC89AD2D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jpe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xkluzh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"/>
          <p:cNvSpPr/>
          <p:nvPr/>
        </p:nvSpPr>
        <p:spPr>
          <a:xfrm>
            <a:off x="636480" y="138276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99"/>
                </a:solidFill>
                <a:latin typeface="微软雅黑"/>
                <a:ea typeface="微软雅黑"/>
              </a:rPr>
              <a:t>天上的街市</a:t>
            </a:r>
            <a:endParaRPr b="0" lang="en-US" sz="8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219640" y="2852640"/>
            <a:ext cx="23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ahoma"/>
                <a:ea typeface="楷体_GB2312"/>
              </a:rPr>
              <a:t>郭 沫 若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77" name="矩形 4"/>
          <p:cNvSpPr/>
          <p:nvPr/>
        </p:nvSpPr>
        <p:spPr>
          <a:xfrm>
            <a:off x="1815840" y="55292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f399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df399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000" y="43920"/>
            <a:ext cx="8721720" cy="24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缥缈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中，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定然有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美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街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街市上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陈列的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些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物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定然是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世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珍奇。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"/>
          <p:cNvSpPr/>
          <p:nvPr/>
        </p:nvSpPr>
        <p:spPr>
          <a:xfrm>
            <a:off x="755640" y="260280"/>
            <a:ext cx="216000" cy="2089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-510840" y="-19080"/>
            <a:ext cx="127764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写天上的街市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66600" y="2984400"/>
            <a:ext cx="889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写的是天上的街市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诗人由第一节，想到天上的街市，想到街市上陈列的物品和街市的繁华、美丽，想象丰富而自然。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定然”：是一种绝对的肯定的语气，表明诗人坚信理想的世界是一定会有的。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" dur="2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8280" y="276120"/>
            <a:ext cx="8650440" cy="65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看，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那浅浅的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天河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定然是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/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不甚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/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宽广（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guǎng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那隔着河的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/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牛郎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织女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　 定能够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骑着牛儿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/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来往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wǎng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我想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他们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此刻，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定然在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天街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/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闲游（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yóu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不信，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请看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那朵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流星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是他们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提着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灯笼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在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走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zǒu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900000" y="765000"/>
            <a:ext cx="287280" cy="4896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7440 h 4896000"/>
              <a:gd name="textAreaBottom" fmla="*/ 476856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-510840" y="765000"/>
            <a:ext cx="1277640" cy="51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天上牛郎织女的幸福生活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2894760" y="380880"/>
            <a:ext cx="56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二、情感美</a:t>
            </a:r>
            <a:endParaRPr b="0" lang="en-US" sz="6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468360" y="1989000"/>
            <a:ext cx="810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：诗中的牛郎织女和传说中的牛郎织女的命运有什么不同？表现了诗人怎样的思想感情？</a:t>
            </a:r>
            <a:endParaRPr b="0" lang="en-US" sz="54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6360" y="11700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练习：</a:t>
            </a:r>
            <a:br>
              <a:rPr sz="2800"/>
            </a:b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边是对本诗主题思想的三种理解，你认为哪一种最恰当：</a:t>
            </a:r>
            <a:br>
              <a:rPr sz="3200"/>
            </a:br>
            <a:br>
              <a:rPr sz="2800"/>
            </a:br>
            <a:r>
              <a:rPr b="0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作者由现实生活联想到美好的天街生活，表达了热爱生活的感情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作者通过描绘天街的美好生活，告诉         读者那只不过是缥缈的幻想， 表达了自己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闷的感情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通过天街美好生活的描绘，表现了对      黑暗现实的痛恨，对理想生活的向往， 激发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为实现这一理想而奋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27"/>
          <p:cNvSpPr/>
          <p:nvPr/>
        </p:nvSpPr>
        <p:spPr>
          <a:xfrm>
            <a:off x="1979640" y="83664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96720" y="1774440"/>
            <a:ext cx="856944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f2"/>
                </a:solidFill>
                <a:latin typeface="宋体"/>
              </a:rPr>
              <a:t>通过由远远的街灯产生联想和想象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描绘了天上的街市及美好的生活，表现了作者对黑暗现实的不满和痛恨，对光明、自由、幸福、快乐生活的向往和追求，</a:t>
            </a:r>
            <a:r>
              <a:rPr b="1" lang="zh-CN" sz="3600" spc="-1" strike="noStrike">
                <a:solidFill>
                  <a:srgbClr val="0000f2"/>
                </a:solidFill>
                <a:latin typeface="宋体"/>
              </a:rPr>
              <a:t>激发人们为实现这一理想而奋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755640" y="765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首诗寄寓了诗人怎样的思想感情？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3260160" y="766800"/>
            <a:ext cx="56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三、语言美</a:t>
            </a:r>
            <a:endParaRPr b="0" lang="en-US" sz="6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2210760" y="2468520"/>
            <a:ext cx="475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：你觉得诗中哪些</a:t>
            </a: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词语用得好？为什么？</a:t>
            </a: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3"/>
          <p:cNvSpPr/>
          <p:nvPr/>
        </p:nvSpPr>
        <p:spPr>
          <a:xfrm>
            <a:off x="684360" y="98100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诗中反复出现“定然”，有什么作用？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55" name="TextBox 4"/>
          <p:cNvSpPr/>
          <p:nvPr/>
        </p:nvSpPr>
        <p:spPr>
          <a:xfrm>
            <a:off x="1116000" y="263700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明确：</a:t>
            </a:r>
            <a:r>
              <a:rPr b="1" lang="zh-CN" sz="3600" spc="-1" strike="noStrike">
                <a:solidFill>
                  <a:srgbClr val="000088"/>
                </a:solidFill>
                <a:latin typeface="Times New Roman"/>
                <a:ea typeface="宋体"/>
              </a:rPr>
              <a:t>强调肯定，表现诗人坚信天上街市的美好，反映了他对理想的执著追求。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3"/>
          <p:cNvSpPr/>
          <p:nvPr/>
        </p:nvSpPr>
        <p:spPr>
          <a:xfrm>
            <a:off x="684360" y="47628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“好像是点着无数的街灯”中的“点”能否改成“亮”或“闪”？为什么？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684360" y="378936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最后一节说“那朵流星”，为什么不说“那颗流星”？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900000" y="2276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不能，“点”说明有点灯人，暗示天上的街市有幸福的人们生活。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971640" y="5084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用“朵”更能突出流星的美丽，暗含流星像花的比喻。 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360" y="46080"/>
            <a:ext cx="907272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联想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指由某人或某事物而想起的其他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相关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或事物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联想必须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相似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相关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3600"/>
            </a:b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0" y="2387520"/>
            <a:ext cx="86756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想象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是指在头脑中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对已知的事物形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加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经过新的组合而创作出来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新的事物形象。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（想象的内容总来源于客观现实）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0"/>
          <p:cNvSpPr/>
          <p:nvPr/>
        </p:nvSpPr>
        <p:spPr>
          <a:xfrm>
            <a:off x="108000" y="4428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Times New Roman"/>
                <a:ea typeface="隶书"/>
              </a:rPr>
              <a:t>补充知识：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2916360" y="765000"/>
            <a:ext cx="30366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想象与联想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-28440" y="1917720"/>
            <a:ext cx="18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联想：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547640" y="19177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事物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2916360" y="2205000"/>
            <a:ext cx="2057400" cy="1522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3132000" y="1628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想到</a:t>
            </a:r>
            <a:endParaRPr b="0" lang="en-US" sz="28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5148360" y="1917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乙事物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1116000" y="256536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存在                             存在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6516720" y="1844640"/>
            <a:ext cx="2806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果联系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似关系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比关系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1440" y="4726080"/>
            <a:ext cx="17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想象：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1403280" y="47260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事物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73" name="AutoShape 13"/>
          <p:cNvSpPr/>
          <p:nvPr/>
        </p:nvSpPr>
        <p:spPr>
          <a:xfrm>
            <a:off x="2987640" y="5086440"/>
            <a:ext cx="2057400" cy="1522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3060720" y="4437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创造出</a:t>
            </a:r>
            <a:endParaRPr b="0" lang="en-US" sz="28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5292720" y="458136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乙事物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1523880" y="541008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存在                                不存在</a:t>
            </a:r>
            <a:endParaRPr b="0" lang="en-US" sz="28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77" name="Text Box 19"/>
          <p:cNvSpPr/>
          <p:nvPr/>
        </p:nvSpPr>
        <p:spPr>
          <a:xfrm>
            <a:off x="6781680" y="4648320"/>
            <a:ext cx="2362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源于</a:t>
            </a:r>
            <a:endParaRPr b="0" lang="en-US" sz="28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客观现实</a:t>
            </a:r>
            <a:endParaRPr b="0" lang="en-US" sz="28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t01d10ad56aa5aad73b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guomoruo"/>
          <p:cNvPicPr/>
          <p:nvPr/>
        </p:nvPicPr>
        <p:blipFill>
          <a:blip r:embed="rId2"/>
          <a:stretch/>
        </p:blipFill>
        <p:spPr>
          <a:xfrm>
            <a:off x="0" y="1628640"/>
            <a:ext cx="2998800" cy="43214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2916360" y="1700280"/>
            <a:ext cx="6048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c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c"/>
                </a:solidFill>
                <a:latin typeface="黑体"/>
                <a:ea typeface="黑体"/>
              </a:rPr>
              <a:t>郭沫若：原名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郭开贞</a:t>
            </a:r>
            <a:r>
              <a:rPr b="1" lang="zh-CN" sz="4000" spc="-1" strike="noStrike">
                <a:solidFill>
                  <a:srgbClr val="00000c"/>
                </a:solidFill>
                <a:latin typeface="黑体"/>
                <a:ea typeface="黑体"/>
              </a:rPr>
              <a:t>， 四川乐山人。现代作家、诗人、历史学家、考古学家、社会活动家。代表</a:t>
            </a:r>
            <a:r>
              <a:rPr b="1" lang="zh-CN" sz="4000" spc="-1" strike="noStrike">
                <a:solidFill>
                  <a:srgbClr val="0099ff"/>
                </a:solidFill>
                <a:latin typeface="黑体"/>
                <a:ea typeface="黑体"/>
              </a:rPr>
              <a:t>诗集</a:t>
            </a:r>
            <a:r>
              <a:rPr b="1" lang="en-US" sz="4000" spc="-1" strike="noStrike">
                <a:solidFill>
                  <a:srgbClr val="00000c"/>
                </a:solidFill>
                <a:latin typeface="黑体"/>
                <a:ea typeface="黑体"/>
              </a:rPr>
              <a:t>《</a:t>
            </a:r>
            <a:r>
              <a:rPr b="1" lang="en-US" sz="4000" spc="-1" strike="noStrike">
                <a:solidFill>
                  <a:srgbClr val="00000c"/>
                </a:solidFill>
                <a:latin typeface="黑体"/>
                <a:ea typeface="黑体"/>
              </a:rPr>
              <a:t>_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女神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_</a:t>
            </a:r>
            <a:r>
              <a:rPr b="1" lang="en-US" sz="4000" spc="-1" strike="noStrike">
                <a:solidFill>
                  <a:srgbClr val="00000c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c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99ff"/>
                </a:solidFill>
                <a:latin typeface="黑体"/>
                <a:ea typeface="黑体"/>
              </a:rPr>
              <a:t>历史话剧</a:t>
            </a:r>
            <a:r>
              <a:rPr b="1" lang="en-US" sz="4000" spc="-1" strike="noStrike">
                <a:solidFill>
                  <a:srgbClr val="00000c"/>
                </a:solidFill>
                <a:latin typeface="黑体"/>
                <a:ea typeface="黑体"/>
              </a:rPr>
              <a:t>《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屈原</a:t>
            </a:r>
            <a:r>
              <a:rPr b="1" lang="en-US" sz="4000" spc="-1" strike="noStrike">
                <a:solidFill>
                  <a:srgbClr val="00000c"/>
                </a:solidFill>
                <a:latin typeface="黑体"/>
                <a:ea typeface="黑体"/>
              </a:rPr>
              <a:t>_</a:t>
            </a:r>
            <a:r>
              <a:rPr b="1" lang="en-US" sz="4000" spc="-1" strike="noStrike">
                <a:solidFill>
                  <a:srgbClr val="00000c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c"/>
                </a:solidFill>
                <a:latin typeface="黑体"/>
                <a:ea typeface="黑体"/>
              </a:rPr>
              <a:t>等。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pic>
        <p:nvPicPr>
          <p:cNvPr id="181" name="Picture 4" descr="cul_list02"/>
          <p:cNvPicPr/>
          <p:nvPr/>
        </p:nvPicPr>
        <p:blipFill>
          <a:blip r:embed="rId3"/>
          <a:stretch/>
        </p:blipFill>
        <p:spPr>
          <a:xfrm>
            <a:off x="395280" y="476280"/>
            <a:ext cx="2089080" cy="7891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3564000" y="33336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c"/>
                </a:solidFill>
                <a:latin typeface="Arial"/>
                <a:ea typeface="黑体"/>
              </a:rPr>
              <a:t>走近作者：</a:t>
            </a:r>
            <a:endParaRPr b="0" lang="en-US" sz="4800" spc="-1" strike="noStrike">
              <a:solidFill>
                <a:srgbClr val="ff0033"/>
              </a:solidFill>
              <a:latin typeface="Times New Roman"/>
            </a:endParaRPr>
          </a:p>
        </p:txBody>
      </p:sp>
      <p:pic>
        <p:nvPicPr>
          <p:cNvPr id="183" name="Picture 6" descr="line1"/>
          <p:cNvPicPr/>
          <p:nvPr/>
        </p:nvPicPr>
        <p:blipFill>
          <a:blip r:embed="rId4"/>
          <a:stretch/>
        </p:blipFill>
        <p:spPr>
          <a:xfrm>
            <a:off x="1332000" y="1413000"/>
            <a:ext cx="7238880" cy="9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line1"/>
          <p:cNvPicPr/>
          <p:nvPr/>
        </p:nvPicPr>
        <p:blipFill>
          <a:blip r:embed="rId5"/>
          <a:stretch/>
        </p:blipFill>
        <p:spPr>
          <a:xfrm>
            <a:off x="1332000" y="1484280"/>
            <a:ext cx="7238880" cy="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隔河图"/>
          <p:cNvPicPr/>
          <p:nvPr/>
        </p:nvPicPr>
        <p:blipFill>
          <a:blip r:embed="rId2"/>
          <a:stretch/>
        </p:blipFill>
        <p:spPr>
          <a:xfrm>
            <a:off x="685800" y="380880"/>
            <a:ext cx="7772400" cy="566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骑牛图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080" y="609480"/>
            <a:ext cx="7391520" cy="5292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精美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课件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C0AF-302B-4498-AA4C-7138C2AD72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01d10ad56aa5aad73b"/>
          <p:cNvPicPr/>
          <p:nvPr/>
        </p:nvPicPr>
        <p:blipFill>
          <a:blip r:embed="rId1"/>
          <a:stretch/>
        </p:blipFill>
        <p:spPr>
          <a:xfrm>
            <a:off x="-3024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WordArt 3"/>
          <p:cNvSpPr txBox="1"/>
          <p:nvPr/>
        </p:nvSpPr>
        <p:spPr>
          <a:xfrm>
            <a:off x="380880" y="304920"/>
            <a:ext cx="2514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写作背景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95280" y="1700280"/>
            <a:ext cx="8381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33"/>
                </a:solidFill>
                <a:latin typeface="Tahoma"/>
                <a:ea typeface="宋体"/>
              </a:rPr>
              <a:t>　　 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  <a:ea typeface="宋体"/>
              </a:rPr>
              <a:t>1914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  <a:ea typeface="宋体"/>
              </a:rPr>
              <a:t>年郭沫若赴日本留学，先学医，后从事文艺运动。在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  <a:ea typeface="宋体"/>
              </a:rPr>
              <a:t>1921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  <a:ea typeface="宋体"/>
              </a:rPr>
              <a:t>年和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  <a:ea typeface="宋体"/>
              </a:rPr>
              <a:t>1922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  <a:ea typeface="宋体"/>
              </a:rPr>
              <a:t>年这两年中曾三次回国，</a:t>
            </a:r>
            <a:r>
              <a:rPr b="1" lang="zh-CN" sz="3000" spc="-1" strike="noStrike">
                <a:solidFill>
                  <a:srgbClr val="ff0000"/>
                </a:solidFill>
                <a:latin typeface="Tahoma"/>
                <a:ea typeface="宋体"/>
              </a:rPr>
              <a:t>当时的中国虽然经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“</a:t>
            </a:r>
            <a:r>
              <a:rPr b="1" lang="zh-CN" sz="3000" spc="-1" strike="noStrike">
                <a:solidFill>
                  <a:srgbClr val="ff0000"/>
                </a:solidFill>
                <a:latin typeface="Tahoma"/>
                <a:ea typeface="宋体"/>
              </a:rPr>
              <a:t>五四运动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”</a:t>
            </a:r>
            <a:r>
              <a:rPr b="1" lang="zh-CN" sz="3000" spc="-1" strike="noStrike">
                <a:solidFill>
                  <a:srgbClr val="ff0000"/>
                </a:solidFill>
                <a:latin typeface="Tahoma"/>
                <a:ea typeface="宋体"/>
              </a:rPr>
              <a:t>的洗礼，但是人们追求的自由、幸福、美好的生活并未到来，中国仍然处于北洋军阀的黑暗统治下。许多人因此而感到绝望无助，但是诗人没有因此而放弃希望，他依然不倦地探索和追求。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  <a:ea typeface="宋体"/>
              </a:rPr>
              <a:t>他用手中的笔改写了民间传说，创造了</a:t>
            </a:r>
            <a:r>
              <a:rPr b="1" lang="zh-CN" sz="3000" spc="-1" strike="noStrike">
                <a:solidFill>
                  <a:srgbClr val="000000"/>
                </a:solidFill>
                <a:latin typeface="方正康体简体"/>
                <a:ea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  <a:ea typeface="宋体"/>
              </a:rPr>
              <a:t>天上的街市</a:t>
            </a:r>
            <a:r>
              <a:rPr b="1" lang="zh-CN" sz="3000" spc="-1" strike="noStrike">
                <a:solidFill>
                  <a:srgbClr val="000000"/>
                </a:solidFill>
                <a:latin typeface="方正康体简体"/>
                <a:ea typeface="宋体"/>
              </a:rPr>
              <a:t>》，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  <a:ea typeface="宋体"/>
              </a:rPr>
              <a:t>相信自由、幸福、美好的生活一定存在。</a:t>
            </a:r>
            <a:endParaRPr b="0" lang="en-US" sz="30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t01d10ad56aa5aad73b"/>
          <p:cNvPicPr/>
          <p:nvPr/>
        </p:nvPicPr>
        <p:blipFill>
          <a:blip r:embed="rId1"/>
          <a:stretch/>
        </p:blipFill>
        <p:spPr>
          <a:xfrm>
            <a:off x="-34920" y="-25560"/>
            <a:ext cx="9177480" cy="6883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任务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朗读中感受新诗的音乐美，绘画美、情感美；最终能够有感情地朗读并背诵这首诗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理解诗中联想和想像的作用，初步培养联想、想像和创新的能力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会诗人摆脱封建束缚、追求理想、向往自由幸福生活的思想感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01d10ad56aa5aad73b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179280" y="907920"/>
            <a:ext cx="951552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朗读要求：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、声音不宜大，速度不宜快，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节奏不宜强，做到轻松、柔和、舒缓。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、有感情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93" name="文本框 1"/>
          <p:cNvSpPr/>
          <p:nvPr/>
        </p:nvSpPr>
        <p:spPr>
          <a:xfrm>
            <a:off x="1332000" y="5962680"/>
            <a:ext cx="72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Times New Roman"/>
                <a:ea typeface="宋体"/>
              </a:rPr>
              <a:t>更多免费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  <a:ea typeface="宋体"/>
              </a:rPr>
              <a:t>PPT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  <a:ea typeface="宋体"/>
              </a:rPr>
              <a:t>模板下载：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  <a:ea typeface="宋体"/>
              </a:rPr>
              <a:t>http://www.eeppt.com</a:t>
            </a:r>
            <a:endParaRPr b="0" lang="en-US" sz="24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t01d10ad56aa5aad7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685800" y="54000"/>
            <a:ext cx="7772400" cy="67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楷体_GB2312"/>
                <a:ea typeface="楷体_GB2312"/>
              </a:rPr>
              <a:t>        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天上的街市</a:t>
            </a:r>
            <a:endParaRPr b="0" lang="en-US" sz="48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远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街灯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了，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像是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闪着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数的明星。 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上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星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了，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像是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着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数的街灯。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缥缈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中， 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然有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丽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街市。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街市上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陈列的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些物品，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然是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上没有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珍奇。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4343400" y="1905120"/>
            <a:ext cx="7632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6948360" y="24922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4419720" y="2971800"/>
            <a:ext cx="7596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99" name="Oval 7"/>
          <p:cNvSpPr/>
          <p:nvPr/>
        </p:nvSpPr>
        <p:spPr>
          <a:xfrm>
            <a:off x="6948360" y="357336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6948360" y="57340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4343400" y="51814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03" name="Oval 13"/>
          <p:cNvSpPr/>
          <p:nvPr/>
        </p:nvSpPr>
        <p:spPr>
          <a:xfrm>
            <a:off x="3780000" y="6308640"/>
            <a:ext cx="7596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04" name="Oval 19"/>
          <p:cNvSpPr/>
          <p:nvPr/>
        </p:nvSpPr>
        <p:spPr>
          <a:xfrm>
            <a:off x="7380360" y="2492280"/>
            <a:ext cx="7596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05" name="Oval 20"/>
          <p:cNvSpPr/>
          <p:nvPr/>
        </p:nvSpPr>
        <p:spPr>
          <a:xfrm>
            <a:off x="3962520" y="19051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06" name="Oval 21"/>
          <p:cNvSpPr/>
          <p:nvPr/>
        </p:nvSpPr>
        <p:spPr>
          <a:xfrm>
            <a:off x="3962520" y="2971800"/>
            <a:ext cx="7596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07" name="Oval 22"/>
          <p:cNvSpPr/>
          <p:nvPr/>
        </p:nvSpPr>
        <p:spPr>
          <a:xfrm>
            <a:off x="7380360" y="3573360"/>
            <a:ext cx="7596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08" name="Oval 23"/>
          <p:cNvSpPr/>
          <p:nvPr/>
        </p:nvSpPr>
        <p:spPr>
          <a:xfrm>
            <a:off x="7380360" y="5734080"/>
            <a:ext cx="7596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09" name="Oval 24"/>
          <p:cNvSpPr/>
          <p:nvPr/>
        </p:nvSpPr>
        <p:spPr>
          <a:xfrm>
            <a:off x="4211640" y="630864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3924360" y="2421000"/>
            <a:ext cx="71280" cy="7128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1" name="Oval 5"/>
          <p:cNvSpPr/>
          <p:nvPr/>
        </p:nvSpPr>
        <p:spPr>
          <a:xfrm>
            <a:off x="6084720" y="5229360"/>
            <a:ext cx="71640" cy="7128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2" name="Oval 5"/>
          <p:cNvSpPr/>
          <p:nvPr/>
        </p:nvSpPr>
        <p:spPr>
          <a:xfrm>
            <a:off x="5580000" y="2997360"/>
            <a:ext cx="7632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3" name="Oval 5"/>
          <p:cNvSpPr/>
          <p:nvPr/>
        </p:nvSpPr>
        <p:spPr>
          <a:xfrm>
            <a:off x="3995640" y="357336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6516720" y="5229360"/>
            <a:ext cx="71280" cy="7128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t01d10ad56aa5aad73b"/>
          <p:cNvPicPr/>
          <p:nvPr/>
        </p:nvPicPr>
        <p:blipFill>
          <a:blip r:embed="rId2"/>
          <a:stretch/>
        </p:blipFill>
        <p:spPr>
          <a:xfrm>
            <a:off x="-100080" y="0"/>
            <a:ext cx="9313920" cy="68864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685800" y="511200"/>
            <a:ext cx="7772400" cy="65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看，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浅浅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河，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然是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甚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广。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那隔着河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郎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织</a:t>
            </a:r>
            <a:r>
              <a:rPr b="0" lang="zh-CN" sz="3600" spc="-1" strike="noStrike" u="sng">
                <a:solidFill>
                  <a:srgbClr val="ff0033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女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定能够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骑着牛儿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往。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刻， 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然在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街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闲游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信，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看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朵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流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他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着灯</a:t>
            </a:r>
            <a:r>
              <a:rPr b="0" lang="zh-CN" sz="3600" spc="-1" strike="noStrike" u="sng">
                <a:solidFill>
                  <a:srgbClr val="ff0033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笼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走。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7" name="Oval 6"/>
          <p:cNvSpPr/>
          <p:nvPr/>
        </p:nvSpPr>
        <p:spPr>
          <a:xfrm>
            <a:off x="4419720" y="2133720"/>
            <a:ext cx="75960" cy="7596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6477120" y="3200400"/>
            <a:ext cx="75960" cy="763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9" name="Oval 13"/>
          <p:cNvSpPr/>
          <p:nvPr/>
        </p:nvSpPr>
        <p:spPr>
          <a:xfrm>
            <a:off x="5292720" y="6021360"/>
            <a:ext cx="76320" cy="763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20" name="Oval 15"/>
          <p:cNvSpPr/>
          <p:nvPr/>
        </p:nvSpPr>
        <p:spPr>
          <a:xfrm>
            <a:off x="5796000" y="6021360"/>
            <a:ext cx="76320" cy="763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21" name="Oval 16"/>
          <p:cNvSpPr/>
          <p:nvPr/>
        </p:nvSpPr>
        <p:spPr>
          <a:xfrm>
            <a:off x="4876920" y="2133720"/>
            <a:ext cx="75960" cy="7596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22" name="Oval 17"/>
          <p:cNvSpPr/>
          <p:nvPr/>
        </p:nvSpPr>
        <p:spPr>
          <a:xfrm>
            <a:off x="5076720" y="2637000"/>
            <a:ext cx="76320" cy="7596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23" name="Oval 18"/>
          <p:cNvSpPr/>
          <p:nvPr/>
        </p:nvSpPr>
        <p:spPr>
          <a:xfrm>
            <a:off x="5580000" y="2637000"/>
            <a:ext cx="76320" cy="7596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24" name="Oval 19"/>
          <p:cNvSpPr/>
          <p:nvPr/>
        </p:nvSpPr>
        <p:spPr>
          <a:xfrm>
            <a:off x="6934320" y="3200400"/>
            <a:ext cx="75960" cy="763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300720" y="2637000"/>
            <a:ext cx="76320" cy="7596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6732720" y="2637000"/>
            <a:ext cx="75960" cy="7596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6516720" y="4797360"/>
            <a:ext cx="76320" cy="763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28" name="Oval 5"/>
          <p:cNvSpPr/>
          <p:nvPr/>
        </p:nvSpPr>
        <p:spPr>
          <a:xfrm>
            <a:off x="6012000" y="4797360"/>
            <a:ext cx="75960" cy="763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6516720" y="5373720"/>
            <a:ext cx="76320" cy="763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0" name="Oval 5"/>
          <p:cNvSpPr/>
          <p:nvPr/>
        </p:nvSpPr>
        <p:spPr>
          <a:xfrm>
            <a:off x="7020000" y="5373720"/>
            <a:ext cx="75960" cy="763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7380360" y="5950080"/>
            <a:ext cx="75960" cy="7596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755640" y="620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诗中哪部分是实写？哪部分是想像？两者有什么关系？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900000" y="1989000"/>
            <a:ext cx="66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88"/>
                </a:solidFill>
                <a:latin typeface="Times New Roman"/>
                <a:ea typeface="宋体"/>
              </a:rPr>
              <a:t>明确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①节实写，②③④节是想像。写实为想像作准备，想像是对实写的升华。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34920" y="1440"/>
            <a:ext cx="74898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远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街灯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像是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闪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数的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星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xīng)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上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星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像是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数的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街灯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dēng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-28440" y="3286080"/>
            <a:ext cx="86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诗歌第一节，实写，由远远的街灯联想到天上的明星，再由天上的明星想到地上的街灯，由实到虚，由虚到实，虚实结合，引出丰富的想象。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星街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互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相印成趣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构成全诗想象的基础。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7740720" y="44280"/>
            <a:ext cx="216000" cy="2451240"/>
          </a:xfrm>
          <a:custGeom>
            <a:avLst/>
            <a:gdLst>
              <a:gd name="textAreaLeft" fmla="*/ 0 w 216000"/>
              <a:gd name="textAreaRight" fmla="*/ 78120 w 216000"/>
              <a:gd name="textAreaTop" fmla="*/ 63720 h 2451240"/>
              <a:gd name="textAreaBottom" fmla="*/ 2387520 h 245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7958160" y="190440"/>
            <a:ext cx="118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实写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7989840" y="971640"/>
            <a:ext cx="119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联想虚实结合</a:t>
            </a:r>
            <a:endParaRPr b="0" lang="en-US" sz="28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15:46:0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8:59Z</dcterms:modified>
  <cp:revision>15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