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2762-DD5C-48CB-8EE8-6FEE1536CC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069E-3E36-4562-9FDA-9B8910BA2D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1D0-C2B5-41D6-8E5B-070E979A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6CE-61C6-4849-B002-393B7E60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B88-5BEF-470E-942A-C79EBA71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8F1-C945-45E9-9A71-5E045603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CC4-2109-45A6-8272-C61FF97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CED-98A8-48E4-A46F-C994F89A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8D6-9A02-4C7E-A492-7D4EA51A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C1A-849F-4DDB-A993-011F15A5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7EF-6878-4833-B651-7ACE23A5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BC7-8B13-443C-804D-4CA9F8E5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928-38FF-48DB-8347-A70A5461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9C9-4204-4A7A-9F50-5E0AB265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701D-EE07-4199-B128-E3A20997C7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QQ截图未命名1"/>
          <p:cNvPicPr/>
          <p:nvPr/>
        </p:nvPicPr>
        <p:blipFill>
          <a:blip r:embed="rId1"/>
          <a:stretch/>
        </p:blipFill>
        <p:spPr>
          <a:xfrm>
            <a:off x="0" y="-3240"/>
            <a:ext cx="29876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QQ截图未命名"/>
          <p:cNvPicPr/>
          <p:nvPr/>
        </p:nvPicPr>
        <p:blipFill>
          <a:blip r:embed="rId2"/>
          <a:srcRect l="25300" t="12426" r="0" b="0"/>
          <a:stretch/>
        </p:blipFill>
        <p:spPr>
          <a:xfrm>
            <a:off x="4543560" y="2519280"/>
            <a:ext cx="4597200" cy="4335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2522520" y="758880"/>
            <a:ext cx="64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特殊的葬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23560" y="6093000"/>
            <a:ext cx="53017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4d538713be19d6eec2fd78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826920" y="508464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水力极为丰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354413f1760c61d70cf6ca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95280" y="494172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总落差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114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75c7f35ff943f6e241f14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50920" y="508464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跌落声远至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40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公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a55372527c2820bd50742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916360" y="4508640"/>
            <a:ext cx="57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界上已知流量最大的瀑布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b8f4eea328943e8dcbefd0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788000" y="486900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咆哮而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bc4304f23062fc70342acc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92360" y="1268280"/>
            <a:ext cx="48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滔滔不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11d8a026d31accc09fa93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700360" y="69228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256360" y="4653000"/>
            <a:ext cx="38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泻千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27b213121feadb9a8018e5b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42920" y="112536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雄伟壮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c8e458806d600930f24448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611280" y="1341360"/>
            <a:ext cx="7561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19640" y="76500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流连忘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6920" y="836640"/>
            <a:ext cx="74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原来，塞特凯达斯瀑布曾经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世界上流量最大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瀑布，汹涌的河水从悬崖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咆哮而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滔滔不绝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泻千里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尤其是每年汛期，塞特凯达斯瀑布气势更是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雄伟壮观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吸引了世界各地的许多游客。人们在这从天而降的巨大水帘面前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流连忘返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0"/>
            <a:ext cx="82803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读一读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特殊   葬礼   汛期    减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昔日   下旬   教授    重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咆哮而下      滔滔不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慕名而来       奄奄一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一泻千里       不辞而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毫无节制       饱含深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雄伟壮观       乱砍滥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生命垂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枯竭的瀑布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5867280" y="4005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生命垂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940360" y="49417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奄奄一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84720" y="5877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失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几年过去了，塞特凯达斯瀑布逐渐枯竭，再也见不到昔日的壮观气势了。它在群山之中无奈地低下了头，像生命垂危的老人，奄奄一息，等待着最后的消亡。许多慕名而来的游客，见到这样的情景，都失望地离去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55640" y="4076280"/>
            <a:ext cx="740880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611280" y="69228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几年过去了，塞特凯达斯瀑布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逐渐枯竭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再也见不到昔日的壮观气势了。它在群山之中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无奈地低下了头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像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生命垂危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的老人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奄奄一息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等待着最后的消亡。许多慕名而来的游客，见到这样的情景，都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失望地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1522440" y="54738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755640" y="98100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瀑布周围的许多工厂用水毫无节制，浪费了大量的水资源。沿河两岸的森林被乱砍乱伐，又造成了水土大量流失。大瀑布的水量因此逐年减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06640" y="5073480"/>
            <a:ext cx="310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33360" y="5200560"/>
            <a:ext cx="310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60440" y="5327640"/>
            <a:ext cx="310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7240" y="4332240"/>
            <a:ext cx="755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一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用上“因为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所以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……”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的句式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</a:rPr>
              <a:t>说说大瀑布为什么会有这么大的变化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a55372527fd820bd50742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95280" y="112536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保护环境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爱护地球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统治   瓦斯  日期   气势   工厂   毫米   制造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工资   减少  召开   存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4D3B-1072-4FF5-B8DC-572AA95575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826920" y="836640"/>
            <a:ext cx="74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原来，塞特凯达斯瀑布曾经是世界上流量最大的瀑布，汹涌的河水从悬崖上咆哮而下，滔滔不绝，一泻千里。尤其是每年汛期，塞特凯达斯瀑布气势更是雄伟壮观，吸引了世界各地的许多游客。人们在这从天而降的巨大水帘面前，流连忘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ed83d3a52f0c6ca15cecbc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11280" y="62064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塞特凯达斯大瀑布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454b4830f3b45b0f603a6f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900000" y="260280"/>
            <a:ext cx="77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位于巴西与阿根廷的交界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d8945cafc87fd3fbf09e6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95280" y="33336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Arial"/>
                <a:ea typeface="楷体_GB2312"/>
              </a:rPr>
              <a:t>整个瀑布群幅宽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  <a:ea typeface="楷体_GB2312"/>
              </a:rPr>
              <a:t>3200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  <a:ea typeface="楷体_GB2312"/>
              </a:rPr>
              <a:t>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d07d5f9e5195e2fd9f9fd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9640" y="5157720"/>
            <a:ext cx="813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被岩石分割成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18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股飞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b95fb90066de88f6277fb5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124000" y="3284640"/>
            <a:ext cx="63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年平均流量达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13300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立方米每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118728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8617aaefb8de35092cf53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3851280" y="402264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汛期水量可达平时的四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55:15Z</dcterms:modified>
  <cp:revision>1</cp:revision>
  <dc:subject/>
  <dc:title>幻灯片 1</dc:title>
</cp:coreProperties>
</file>