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chimes.wav" ContentType="audio/x-wav"/>
  <Override PartName="/ppt/media/image4.gif" ContentType="image/gif"/>
  <Override PartName="/ppt/media/image3.gif" ContentType="image/gif"/>
  <Override PartName="/ppt/media/image7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6FF-1D3B-4C12-990A-B74B8F91C5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50A-3452-41F4-9479-B6C13BA48B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F7A-F29B-4D9E-B1D0-E3CBD70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532-1F91-4504-9C8B-631AA50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DF7-6702-4D6C-97FC-D55E78B6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5B6-6029-4A21-A0C1-76081FBD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C2A-55A7-4978-BCC2-7D13951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4BC-37CE-4CFB-8D87-86ABBE1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605-304B-4F73-BF56-B6420BF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CAD-60F6-4045-85E1-8909630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A98-8D65-4E21-8288-81F072F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56F-D36B-4E45-B7F2-805E2E1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705-870D-4B80-9DE2-EC26040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58E-53E5-4473-B6D6-07C4790C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C10-EFFC-4CC6-9AF2-9A4DD8BB6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:\动画\huabian.gif"/>
          <p:cNvPicPr/>
          <p:nvPr/>
        </p:nvPicPr>
        <p:blipFill>
          <a:blip r:embed="rId1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665280" y="2060640"/>
            <a:ext cx="800100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189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特殊的葬礼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189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8" descr=""/>
          <p:cNvPicPr/>
          <p:nvPr/>
        </p:nvPicPr>
        <p:blipFill>
          <a:blip r:embed="rId2"/>
          <a:stretch/>
        </p:blipFill>
        <p:spPr>
          <a:xfrm>
            <a:off x="1919160" y="5283360"/>
            <a:ext cx="5500800" cy="49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E:\动画\huabian.gif"/>
          <p:cNvPicPr/>
          <p:nvPr/>
        </p:nvPicPr>
        <p:blipFill>
          <a:blip r:embed="rId3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:\动画\hudie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52280" y="76500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请你设计一条标语，号召人们行动起来，保护自然生态，爱护我们生存的地球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52280" y="583740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9185-8A89-425C-ACD2-145EF96A37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E:\动画\huabian.gif"/>
          <p:cNvPicPr/>
          <p:nvPr/>
        </p:nvPicPr>
        <p:blipFill>
          <a:blip r:embed="rId1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11280" y="111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你会提哪些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2280" y="200016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）为谁举行葬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321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）为什么要为它举行葬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4508640"/>
            <a:ext cx="912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）为什么说这是特殊的葬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E:\动画\hudie3.gif"/>
          <p:cNvPicPr/>
          <p:nvPr/>
        </p:nvPicPr>
        <p:blipFill>
          <a:blip r:embed="rId2"/>
          <a:stretch/>
        </p:blipFill>
        <p:spPr>
          <a:xfrm>
            <a:off x="7740720" y="765000"/>
            <a:ext cx="153180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E:\动画\huabian.gif"/>
          <p:cNvPicPr/>
          <p:nvPr/>
        </p:nvPicPr>
        <p:blipFill>
          <a:blip r:embed="rId3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2529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殊   洲  葬  滔  减慕   演  旬   授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-38160" y="1197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比一比，谁读得最响亮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E:\动画\huabian.gif"/>
          <p:cNvPicPr/>
          <p:nvPr/>
        </p:nvPicPr>
        <p:blipFill>
          <a:blip r:embed="rId1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动画\huabian.gif"/>
          <p:cNvPicPr/>
          <p:nvPr/>
        </p:nvPicPr>
        <p:blipFill>
          <a:blip r:embed="rId2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34136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各自读课文， 思考：如果按“举行葬礼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瀑布今昔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决心保护”来划分段落，该怎样分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E:\动画\huabian.gif"/>
          <p:cNvPicPr/>
          <p:nvPr/>
        </p:nvPicPr>
        <p:blipFill>
          <a:blip r:embed="rId1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动画\huabian.gif"/>
          <p:cNvPicPr/>
          <p:nvPr/>
        </p:nvPicPr>
        <p:blipFill>
          <a:blip r:embed="rId2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9280" y="996840"/>
            <a:ext cx="883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默读第一段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思考：这一次葬礼“特殊”在哪里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981080" y="2781360"/>
            <a:ext cx="5029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地点特殊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主持人特殊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对象特殊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E:\动画\huaq1.gif"/>
          <p:cNvPicPr/>
          <p:nvPr/>
        </p:nvPicPr>
        <p:blipFill>
          <a:blip r:embed="rId1"/>
          <a:stretch/>
        </p:blipFill>
        <p:spPr>
          <a:xfrm>
            <a:off x="31680" y="480384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动画\huabian.gif"/>
          <p:cNvPicPr/>
          <p:nvPr/>
        </p:nvPicPr>
        <p:blipFill>
          <a:blip r:embed="rId2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E:\动画\huabian.gif"/>
          <p:cNvPicPr/>
          <p:nvPr/>
        </p:nvPicPr>
        <p:blipFill>
          <a:blip r:embed="rId3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12952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到底是怎么会事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66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6600" spc="-1" strike="noStrike">
                <a:solidFill>
                  <a:srgbClr val="800080"/>
                </a:solidFill>
                <a:latin typeface="Times New Roman"/>
              </a:rPr>
              <a:t>这雄伟的景观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竟然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</a:rPr>
              <a:t>不辞而别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E:\动画\huabian.gif"/>
          <p:cNvPicPr/>
          <p:nvPr/>
        </p:nvPicPr>
        <p:blipFill>
          <a:blip r:embed="rId1"/>
          <a:stretch/>
        </p:blipFill>
        <p:spPr>
          <a:xfrm>
            <a:off x="0" y="0"/>
            <a:ext cx="8839080" cy="96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E:\动画\huabian.gif"/>
          <p:cNvPicPr/>
          <p:nvPr/>
        </p:nvPicPr>
        <p:blipFill>
          <a:blip r:embed="rId2"/>
          <a:stretch/>
        </p:blipFill>
        <p:spPr>
          <a:xfrm>
            <a:off x="0" y="5181480"/>
            <a:ext cx="88390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990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塞特凯达斯瀑布曾经是世界上流量最大的瀑布，汹涌的河水从悬崖上咆哮而下，滔滔不绝，一泻千里。尤其是每年汛期，塞特凯达斯瀑布气势更是雄伟壮观，吸引了世界各地的许多游客。人们在这从天而降的巨大水帘面前，流连忘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E:\动画\huabian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E:\动画\huabian13.gif"/>
          <p:cNvPicPr/>
          <p:nvPr/>
        </p:nvPicPr>
        <p:blipFill>
          <a:blip r:embed="rId2"/>
          <a:stretch/>
        </p:blipFill>
        <p:spPr>
          <a:xfrm>
            <a:off x="0" y="5811840"/>
            <a:ext cx="9144000" cy="104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E:\动画\HUAJBIAN.GIF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E:\动画\HUAJBIAN.GIF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现在的塞特凯达斯瀑布又是怎样的情景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600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几年过去了，塞特凯达斯瀑布逐渐枯竭，再也见不到昔日的壮观气势了。它在群山之中无奈地低下了头，像生命垂危的老人，奄奄一息，等待着最后的消亡。许多慕名而来的游客，见到这样的情景，都失望地离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2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统举行葬礼的目的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914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905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号召人们行动起来，保护自然生态，爱护我们生存的地球，使大瀑布的悲剧不再重演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E:\动画\huabian12.gif"/>
          <p:cNvPicPr/>
          <p:nvPr/>
        </p:nvPicPr>
        <p:blipFill>
          <a:blip r:embed="rId1"/>
          <a:stretch/>
        </p:blipFill>
        <p:spPr>
          <a:xfrm>
            <a:off x="0" y="5791320"/>
            <a:ext cx="876312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动画\huabian12.gif"/>
          <p:cNvPicPr/>
          <p:nvPr/>
        </p:nvPicPr>
        <p:blipFill>
          <a:blip r:embed="rId2"/>
          <a:stretch/>
        </p:blipFill>
        <p:spPr>
          <a:xfrm>
            <a:off x="0" y="0"/>
            <a:ext cx="8915400" cy="838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0:50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09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