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CHIMES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type.wav" ContentType="audio/x-wav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F50B-7E5B-4F58-8459-1728CCF10F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19A8-AA36-4B74-8619-58AE831AAD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885-D140-4257-9013-4B8F4FA8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683-8FC2-4AAD-B4C9-DC25DDB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920-4E0E-470F-A317-B0A0E2FC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DA1-7143-4D55-919D-349F52C1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503-5D88-486C-BC0A-664BCA3E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A34-4E5A-445E-8F8C-B6CC78D9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2BD-A23D-49D9-9E80-ED79DB9F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C48-1A79-442F-A518-3BA3D421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F9C-55A7-4363-A8BF-25771D1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94C-EB07-4710-9C26-E06803FF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E25-B65A-4905-A46B-06D37FD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94F-975E-42E0-A579-F4D4067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B94-D436-4D5D-A1B4-C4BA7B76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鲸"/>
          <p:cNvPicPr/>
          <p:nvPr/>
        </p:nvPicPr>
        <p:blipFill>
          <a:blip r:embed="rId2"/>
          <a:stretch/>
        </p:blipFill>
        <p:spPr>
          <a:xfrm>
            <a:off x="7277040" y="5715000"/>
            <a:ext cx="1165320" cy="75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鲸"/>
          <p:cNvPicPr/>
          <p:nvPr/>
        </p:nvPicPr>
        <p:blipFill>
          <a:blip r:embed="rId3"/>
          <a:stretch/>
        </p:blipFill>
        <p:spPr>
          <a:xfrm>
            <a:off x="5756400" y="5749920"/>
            <a:ext cx="116676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鲸"/>
          <p:cNvPicPr/>
          <p:nvPr/>
        </p:nvPicPr>
        <p:blipFill>
          <a:blip r:embed="rId4"/>
          <a:stretch/>
        </p:blipFill>
        <p:spPr>
          <a:xfrm>
            <a:off x="4516560" y="6103800"/>
            <a:ext cx="116496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3_125"/>
          <p:cNvPicPr/>
          <p:nvPr/>
        </p:nvPicPr>
        <p:blipFill>
          <a:blip r:embed="rId5"/>
          <a:stretch/>
        </p:blipFill>
        <p:spPr>
          <a:xfrm>
            <a:off x="2916360" y="3695760"/>
            <a:ext cx="14335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3_125"/>
          <p:cNvPicPr/>
          <p:nvPr/>
        </p:nvPicPr>
        <p:blipFill>
          <a:blip r:embed="rId6"/>
          <a:stretch/>
        </p:blipFill>
        <p:spPr>
          <a:xfrm>
            <a:off x="5099040" y="3854520"/>
            <a:ext cx="143496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3_125"/>
          <p:cNvPicPr/>
          <p:nvPr/>
        </p:nvPicPr>
        <p:blipFill>
          <a:blip r:embed="rId7"/>
          <a:stretch/>
        </p:blipFill>
        <p:spPr>
          <a:xfrm>
            <a:off x="6719760" y="2432160"/>
            <a:ext cx="143532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A3_125"/>
          <p:cNvPicPr/>
          <p:nvPr/>
        </p:nvPicPr>
        <p:blipFill>
          <a:blip r:embed="rId8"/>
          <a:stretch/>
        </p:blipFill>
        <p:spPr>
          <a:xfrm>
            <a:off x="6205680" y="1136520"/>
            <a:ext cx="1433520" cy="106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A3_125"/>
          <p:cNvPicPr/>
          <p:nvPr/>
        </p:nvPicPr>
        <p:blipFill>
          <a:blip r:embed="rId9"/>
          <a:stretch/>
        </p:blipFill>
        <p:spPr>
          <a:xfrm>
            <a:off x="395280" y="4346640"/>
            <a:ext cx="143496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A3_125"/>
          <p:cNvPicPr/>
          <p:nvPr/>
        </p:nvPicPr>
        <p:blipFill>
          <a:blip r:embed="rId10"/>
          <a:stretch/>
        </p:blipFill>
        <p:spPr>
          <a:xfrm>
            <a:off x="468360" y="2459160"/>
            <a:ext cx="143352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WordArt 14"/>
          <p:cNvSpPr txBox="1"/>
          <p:nvPr/>
        </p:nvSpPr>
        <p:spPr>
          <a:xfrm>
            <a:off x="2058840" y="2197080"/>
            <a:ext cx="403092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跳 水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1402920" y="54514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47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Line 2"/>
          <p:cNvSpPr/>
          <p:nvPr/>
        </p:nvSpPr>
        <p:spPr>
          <a:xfrm>
            <a:off x="3851280" y="13413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995640" y="1197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2720160" y="4437000"/>
            <a:ext cx="2725920" cy="810000"/>
            <a:chOff x="2720160" y="4437000"/>
            <a:chExt cx="2725920" cy="810000"/>
          </a:xfrm>
        </p:grpSpPr>
        <p:grpSp>
          <p:nvGrpSpPr>
            <p:cNvPr id="99" name="Group 8"/>
            <p:cNvGrpSpPr/>
            <p:nvPr/>
          </p:nvGrpSpPr>
          <p:grpSpPr>
            <a:xfrm>
              <a:off x="3393720" y="4437000"/>
              <a:ext cx="2052360" cy="810000"/>
              <a:chOff x="3393720" y="4437000"/>
              <a:chExt cx="2052360" cy="810000"/>
            </a:xfrm>
          </p:grpSpPr>
          <p:sp>
            <p:nvSpPr>
              <p:cNvPr id="100" name="Text Box 9"/>
              <p:cNvSpPr/>
              <p:nvPr/>
            </p:nvSpPr>
            <p:spPr>
              <a:xfrm>
                <a:off x="4777560" y="466560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水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 flipH="1">
                <a:off x="3393720" y="499896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1"/>
              <p:cNvSpPr/>
              <p:nvPr/>
            </p:nvSpPr>
            <p:spPr>
              <a:xfrm>
                <a:off x="4163040" y="44370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12"/>
            <p:cNvSpPr/>
            <p:nvPr/>
          </p:nvSpPr>
          <p:spPr>
            <a:xfrm>
              <a:off x="2720160" y="4617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猴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755640" y="4365720"/>
            <a:ext cx="1676160" cy="657360"/>
            <a:chOff x="755640" y="4365720"/>
            <a:chExt cx="1676160" cy="657360"/>
          </a:xfrm>
        </p:grpSpPr>
        <p:sp>
          <p:nvSpPr>
            <p:cNvPr id="105" name="Line 14"/>
            <p:cNvSpPr/>
            <p:nvPr/>
          </p:nvSpPr>
          <p:spPr>
            <a:xfrm flipH="1">
              <a:off x="1593360" y="4898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1905480" y="4365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755640" y="4441680"/>
              <a:ext cx="102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孩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7"/>
          <p:cNvSpPr/>
          <p:nvPr/>
        </p:nvSpPr>
        <p:spPr>
          <a:xfrm flipV="1">
            <a:off x="3492360" y="14126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1619280" y="4941720"/>
            <a:ext cx="1523520" cy="725760"/>
            <a:chOff x="1619280" y="4941720"/>
            <a:chExt cx="1523520" cy="725760"/>
          </a:xfrm>
        </p:grpSpPr>
        <p:sp>
          <p:nvSpPr>
            <p:cNvPr id="110" name="Line 19"/>
            <p:cNvSpPr/>
            <p:nvPr/>
          </p:nvSpPr>
          <p:spPr>
            <a:xfrm>
              <a:off x="1695240" y="52466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0"/>
            <p:cNvGrpSpPr/>
            <p:nvPr/>
          </p:nvGrpSpPr>
          <p:grpSpPr>
            <a:xfrm>
              <a:off x="1619280" y="4941720"/>
              <a:ext cx="1100880" cy="725760"/>
              <a:chOff x="1619280" y="4941720"/>
              <a:chExt cx="1100880" cy="725760"/>
            </a:xfrm>
          </p:grpSpPr>
          <p:sp>
            <p:nvSpPr>
              <p:cNvPr id="112" name="Line 21"/>
              <p:cNvSpPr/>
              <p:nvPr/>
            </p:nvSpPr>
            <p:spPr>
              <a:xfrm>
                <a:off x="1619280" y="4941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22"/>
              <p:cNvSpPr/>
              <p:nvPr/>
            </p:nvSpPr>
            <p:spPr>
              <a:xfrm>
                <a:off x="2295720" y="50860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Text Box 23"/>
          <p:cNvSpPr/>
          <p:nvPr/>
        </p:nvSpPr>
        <p:spPr>
          <a:xfrm>
            <a:off x="3780000" y="1268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孩子追到桅杆的顶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5888520" y="4292280"/>
            <a:ext cx="1409760" cy="934200"/>
            <a:chOff x="5888520" y="4292280"/>
            <a:chExt cx="1409760" cy="934200"/>
          </a:xfrm>
        </p:grpSpPr>
        <p:grpSp>
          <p:nvGrpSpPr>
            <p:cNvPr id="116" name="Group 25"/>
            <p:cNvGrpSpPr/>
            <p:nvPr/>
          </p:nvGrpSpPr>
          <p:grpSpPr>
            <a:xfrm>
              <a:off x="5888520" y="4292280"/>
              <a:ext cx="826200" cy="934200"/>
              <a:chOff x="5888520" y="4292280"/>
              <a:chExt cx="826200" cy="934200"/>
            </a:xfrm>
          </p:grpSpPr>
          <p:sp>
            <p:nvSpPr>
              <p:cNvPr id="117" name="Text Box 26"/>
              <p:cNvSpPr/>
              <p:nvPr/>
            </p:nvSpPr>
            <p:spPr>
              <a:xfrm>
                <a:off x="5888520" y="464508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船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7"/>
              <p:cNvSpPr/>
              <p:nvPr/>
            </p:nvSpPr>
            <p:spPr>
              <a:xfrm flipV="1">
                <a:off x="6410160" y="4292280"/>
                <a:ext cx="3045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28"/>
            <p:cNvSpPr/>
            <p:nvPr/>
          </p:nvSpPr>
          <p:spPr>
            <a:xfrm>
              <a:off x="6873840" y="4368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29"/>
          <p:cNvSpPr/>
          <p:nvPr/>
        </p:nvSpPr>
        <p:spPr>
          <a:xfrm>
            <a:off x="411480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0"/>
          <p:cNvSpPr/>
          <p:nvPr/>
        </p:nvSpPr>
        <p:spPr>
          <a:xfrm>
            <a:off x="411480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419112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2"/>
          <p:cNvSpPr/>
          <p:nvPr/>
        </p:nvSpPr>
        <p:spPr>
          <a:xfrm>
            <a:off x="4191120" y="4343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3"/>
          <p:cNvGrpSpPr/>
          <p:nvPr/>
        </p:nvGrpSpPr>
        <p:grpSpPr>
          <a:xfrm>
            <a:off x="4932360" y="3860640"/>
            <a:ext cx="1143000" cy="914040"/>
            <a:chOff x="4932360" y="3860640"/>
            <a:chExt cx="1143000" cy="914040"/>
          </a:xfrm>
        </p:grpSpPr>
        <p:sp>
          <p:nvSpPr>
            <p:cNvPr id="125" name="Line 34"/>
            <p:cNvSpPr/>
            <p:nvPr/>
          </p:nvSpPr>
          <p:spPr>
            <a:xfrm flipV="1">
              <a:off x="4932360" y="416520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5"/>
            <p:cNvSpPr/>
            <p:nvPr/>
          </p:nvSpPr>
          <p:spPr>
            <a:xfrm>
              <a:off x="5396040" y="3860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4500720" y="2060640"/>
            <a:ext cx="2661120" cy="2229480"/>
            <a:chOff x="4500720" y="2060640"/>
            <a:chExt cx="2661120" cy="2229480"/>
          </a:xfrm>
        </p:grpSpPr>
        <p:sp>
          <p:nvSpPr>
            <p:cNvPr id="128" name="Text Box 37"/>
            <p:cNvSpPr/>
            <p:nvPr/>
          </p:nvSpPr>
          <p:spPr>
            <a:xfrm>
              <a:off x="6493320" y="3708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跳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8"/>
            <p:cNvSpPr/>
            <p:nvPr/>
          </p:nvSpPr>
          <p:spPr>
            <a:xfrm>
              <a:off x="4500720" y="2060640"/>
              <a:ext cx="1828440" cy="167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50560" y="836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哪些地方看出猴子非常放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猴子为什么会放肆起来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硬笔楷书简体"/>
                <a:ea typeface="方正硬笔楷书简体"/>
              </a:rPr>
              <a:t>（因为猴子知道大家拿它取乐，它做鬼脸，模仿人的样子。猴子摘下孩子的帽子、又撕又咬。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691920"/>
            <a:ext cx="75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水手们又大笑起来，只有那个孩子哭笑不得，眼巴巴地望着猴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哭笑不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为什么哭笑不得？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（猴子弄得孩子没有办法，由于猴子摘下孩子的帽子，水手们的哄笑，使孩子受到了羞辱，但又拿猴子没办法，只能哭笑不得。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79280" y="234936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     </a:t>
            </a:r>
            <a:r>
              <a:rPr b="0" lang="zh-CN" sz="40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是什么原因导致孩子爬到桅杆顶端，遇到了危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从哪些语句可以看出孩子很危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4000" y="765000"/>
            <a:ext cx="712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默读课文</a:t>
            </a: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—</a:t>
            </a: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自然段，完成以下任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2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78920" y="836640"/>
            <a:ext cx="727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为什么会走到桅杆顶端的横木上去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　　　　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哪些地方可以看出孩子的处境十分危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4560" y="836640"/>
            <a:ext cx="74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只要一失足、直摔到甲板上就没命了。即使他走到横木头上拿到了帽子、也难以回转身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孩子会不会失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为什么他拿到帽子也难以回转身来？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桅杆太高、太险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8000" y="836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当时甲板上的人有什么表现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有感情地朗读，体会当时事态的严重。　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0" y="765000"/>
            <a:ext cx="7524720" cy="48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船长为什么要用枪瞄准孩子，命令他跳水？结果怎样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（这时，要救孩子，唯一的方法就是跳水了，退了不行，摔下来必然粉身碎骨。船长担心孩子不当机立断，所以一再提到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硬笔楷书简体"/>
              </a:rPr>
              <a:t>“</a:t>
            </a: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开枪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硬笔楷书简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硬笔楷书简体"/>
                <a:ea typeface="方正硬笔楷书简体"/>
              </a:rPr>
              <a:t>。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598800">
            <a:off x="5028480" y="1295280"/>
            <a:ext cx="2971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临危不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当机立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从容不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急中生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39513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zh-CN" sz="3600" spc="-1" strike="noStrike">
                <a:solidFill>
                  <a:srgbClr val="ff6600"/>
                </a:solidFill>
                <a:latin typeface="方正硬笔楷书简体"/>
                <a:ea typeface="方正硬笔楷书简体"/>
              </a:rPr>
              <a:t>讨论：</a:t>
            </a:r>
            <a:r>
              <a:rPr b="1" lang="zh-CN" sz="3600" spc="-1" strike="noStrike">
                <a:solidFill>
                  <a:srgbClr val="6600cc"/>
                </a:solidFill>
                <a:latin typeface="方正硬笔楷书简体"/>
                <a:ea typeface="方正硬笔楷书简体"/>
              </a:rPr>
              <a:t>船长是怎么做的？根据船长的做法，联想到他当时的想法？你们能想出更好的办法吗？用自己的话说说船长是怎样的一个人？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75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5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5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75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硬笔楷书简体"/>
              </a:rPr>
              <a:t>总结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26828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　　同学们，孩子得救了。那孩子被救上来以后，船长、水手、孩子都会说些什么呢？大家可以想一想，说一说，也可以分小组演一演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xin_142080505201753128504100"/>
          <p:cNvPicPr/>
          <p:nvPr/>
        </p:nvPicPr>
        <p:blipFill>
          <a:blip r:embed="rId2"/>
          <a:stretch/>
        </p:blipFill>
        <p:spPr>
          <a:xfrm>
            <a:off x="0" y="549360"/>
            <a:ext cx="4211640" cy="554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200808052203339395158122"/>
          <p:cNvPicPr/>
          <p:nvPr/>
        </p:nvPicPr>
        <p:blipFill>
          <a:blip r:embed="rId3"/>
          <a:stretch/>
        </p:blipFill>
        <p:spPr>
          <a:xfrm>
            <a:off x="4211640" y="549360"/>
            <a:ext cx="3889440" cy="554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33480" y="2470320"/>
            <a:ext cx="74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在这危急时刻，你想用什么方法救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68360" y="7650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小组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1508040" y="547380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250920" y="1341360"/>
            <a:ext cx="72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学完课文后，你最佩服谁？佩服他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此时此刻，你想对孩子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学完课文后，你懂得了什么道理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684360" y="1628640"/>
            <a:ext cx="540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59" name="Picture 5" descr="MCj04294430000[1]"/>
          <p:cNvPicPr/>
          <p:nvPr/>
        </p:nvPicPr>
        <p:blipFill>
          <a:blip r:embed="rId2"/>
          <a:stretch/>
        </p:blipFill>
        <p:spPr>
          <a:xfrm>
            <a:off x="5219640" y="400536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5394-F615-4163-8E26-432FF09809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列夫·托尔斯泰画像"/>
          <p:cNvPicPr/>
          <p:nvPr/>
        </p:nvPicPr>
        <p:blipFill>
          <a:blip r:embed="rId2"/>
          <a:stretch/>
        </p:blipFill>
        <p:spPr>
          <a:xfrm>
            <a:off x="0" y="549360"/>
            <a:ext cx="3348000" cy="5184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363840" y="907920"/>
            <a:ext cx="424836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列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托尔斯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828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910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，俄国著名作家。主要作品有</a:t>
            </a: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战争与和平</a:t>
            </a: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安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卡列妮娜</a:t>
            </a: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复活</a:t>
            </a: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等长篇巨著。他的创作标志着欧洲批判现实主义文学的高峰，在俄国和世界文学史上占有重要地位，被列宁誉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俄国革命的镜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443240" y="69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自读课文，感知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700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读课文，自学生字、生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思考：课文描写了一件什么事？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边读边在书中勾画出课文中都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哪些角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11280" y="980640"/>
            <a:ext cx="417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课文讲了谁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他为什么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跳水的结果怎样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7"/>
          <p:cNvSpPr/>
          <p:nvPr/>
        </p:nvSpPr>
        <p:spPr>
          <a:xfrm>
            <a:off x="205092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07640" y="138276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艘 桅杆 勾住 更凶了 逃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顶端 船舱 醒悟 放肆  控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吓唬 气急了  气极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硬笔楷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哭笑不得  不知所措          风平浪静  摇摇晃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79280" y="62064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39640" y="76500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选择合适的量词填在括号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84360" y="1628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艘 颗 顶 只 条 支 根 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242100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帽子   一（ ）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横木   一（ ）甲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帆船   一（ ）炮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（ ）绳子   一（ ）步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765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按事情的顺序整理下面的几句话</a:t>
            </a: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8900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孩子跳水得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人们拿猴子取乐，猴子更加放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孩子走上最高的横木，非常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（  ）猴子逗孩子，孩子追猴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4000" y="4219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35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24000" y="2779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24000" y="2060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S0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79280" y="62532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根据课文内容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跳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这个故事发生在一艘环游世界正往回航行的帆船上，船上有船长、水手、孩子和猴子。由于水手拿猴子（       ），使猴子很（         ）；猴子放肆起来就去（                      ）；孩子就去（      ）猴子，一直追到了（          ），处境非常危险，船长看到了就（           ）孩子跳水，使孩子脱险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最后得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189080" y="3956040"/>
            <a:ext cx="8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165480" y="4952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173960" y="443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桅杆顶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900000" y="2924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放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258920" y="35798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拿孩子的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58920" y="24271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取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PTW_075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2:18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