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4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camera.wav" ContentType="audio/x-wav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B8DA-921C-4A8F-931C-ED2986F3D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F660-0628-4381-9E2E-A858DF8C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FD0-4044-435F-8AC1-A7D80354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66A-608C-4103-9697-740B4E6B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C79-05E1-4777-B5FA-8F7B3834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C232-864C-4917-B9F8-A39A76973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DD0-26CA-416D-BFF5-4BFCE7EA1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D055-F295-4E9A-A9EE-2B34E246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1D37-4AB8-4E3A-B401-1F4C8F44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E7F-B9F2-4ED0-ACFB-55637FAA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FF6-DD63-43B3-9E8A-2D3DE09F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ED4-77FC-4EBA-8CEA-5E475ECE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FAC-4865-4032-8ACC-50DEA588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C3F1-E464-4499-A4ED-F2BC363E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4433-5C5E-4CCF-B3AB-9A7B60FE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C21-0BA9-4020-9CF6-593130BF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9E2-E340-4AA7-9B01-37971D74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1DE-C09A-43AC-99EB-8C5FD9C9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B8C-C397-4624-BBF5-B77158B3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C92-0CCE-4298-A1C0-A317EED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403-799A-4880-91DD-5515816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82C-A13F-48DA-8BB2-F2E771F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83B-ED52-41D0-AEE2-C799F14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127-E9FD-4C8D-9083-BEE73BD9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B2F-F996-4F44-900F-815D997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8E8-45F7-4207-A49A-031D312C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419-80FD-4EE4-83D4-F674796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00B-57F7-41F8-A508-D602CCD9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金色的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628640" y="19940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华文隶书"/>
                <a:ea typeface="华文隶书"/>
              </a:rPr>
              <a:t>太阳的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50920" y="907920"/>
            <a:ext cx="8370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0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（湘教版）二年级语文下册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692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院子里的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83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　阳　光</a:t>
            </a:r>
            <a:br>
              <a:rPr sz="48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小的阳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柔软的阳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她们覆盖在我的身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小女儿一样的芳香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洒水与云彩一样的柔软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个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692360" y="549360"/>
            <a:ext cx="532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心里的什么轻起来　　　　　　　　　　眼前的明媚很　　　　　　　　　　　　　让我相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居住的这个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的人和我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经历着新的创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928800" y="529596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9810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</a:rPr>
              <a:t>发散思维训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艾青爷爷的诗写得真好啊！我们班上也有不少喜欢诗歌的小朋友，今天老师就请你们在座的来当一回小诗人。写一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亮的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2671920"/>
            <a:ext cx="9144000" cy="418608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619280" y="0"/>
            <a:ext cx="245736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9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338-16FB-40EF-A7C1-40ED2FE837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981000"/>
            <a:ext cx="91440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生字，积累词语，积累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感情地朗读诗歌，背诵全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懂诗歌最后一节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培养同学们热爱自然、热爱生活的美好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手中的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154764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森林中的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237168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阳光范读.mp3" descr=""/>
          <p:cNvPicPr/>
          <p:nvPr/>
        </p:nvPicPr>
        <p:blipFill>
          <a:blip r:embed="rId2"/>
          <a:stretch/>
        </p:blipFill>
        <p:spPr>
          <a:xfrm>
            <a:off x="8172360" y="6337440"/>
            <a:ext cx="5763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905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透过手指看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57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23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