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F05-7BC2-48D8-90C9-43B421F9DF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9C8F-58B4-4569-9FE3-60584EF70F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9158-D9EA-4F9B-98CA-427BCD52EC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353-92A4-44E2-895A-EECB07E5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BB5-51FA-40AA-9FA6-6D9AFDC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84F-F0C0-4D08-96C0-E15FDA12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0CB-809C-4811-B1C3-B0721F16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A02-1DF7-4933-9011-60E7D4D7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D23-E1B5-449B-ADDA-ED308DC4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2FD-C777-4DC5-AE3F-99C0761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599-110B-465C-A7A1-151133D4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361-CF30-48C1-869C-F7488780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D0D-1B2D-4CB3-88D1-21F7AEA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31B-CBF5-4DFE-BDB3-7C8EAFC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F52-539E-4182-B803-B24D46B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2AD-8EFF-456D-A56B-5068415B6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华文新魏"/>
                <a:ea typeface="华文新魏"/>
              </a:rPr>
              <a:t>1 </a:t>
            </a:r>
            <a:r>
              <a:rPr b="1" lang="zh-CN" sz="115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太阳的话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96840" y="5727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学着太阳用这样的语气来读读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太阳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热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地召唤我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窗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门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让我进去，让我进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进到你们的小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1640" y="14130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起来，快起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从枕头上抬起头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睁开你的被睫毛盖住的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让你的眼看见我的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阳出来了，它给了我们丰富的馈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71640" y="1268280"/>
            <a:ext cx="640080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带 着 金 黄 的 花 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带 着 林 间 的 香 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带 着 亮 光 和 温 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带 着 满 身 的 露 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835280" y="41497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同桌一起读读诗句，说说太阳给我们带来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908000" y="4581360"/>
            <a:ext cx="63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读读这一节，在括号里填上合适的词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金黄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      )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满身的（           ）   林间的（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843280" y="4869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花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859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露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093080" y="4869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香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让你们的心像小小的木板房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打开它们关闭了很久的窗子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让我把花束，把香气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把晨曦、温暖和露水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撒满你们心的空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68360" y="436572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说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示：我带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撒满你们心的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太阳给我们带来了这么多的礼物，你想对太阳说些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914400" y="4572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听了太阳的话，你想对太阳说什么呢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3276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了太阳的话，我想对太阳说：“太阳公公，您真伟大。是您带给了我们金黄的花束；是您带给了我们林间的香气；是您带给了我们光亮和温暖；是您把他们洒满了我们心的空间。没有您，这个世界就会陷入昏暗。没有您，就没有这个世界，所以我们要感激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-45752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心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590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中心思想是激发学生热爱太阳、热爱生活的情感，培养我们积极进取、乐观向上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768320" y="5208480"/>
            <a:ext cx="56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诗与现代诗的不同之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诗词是中国古代文学中的一枝奇葩，是祖国极其珍贵的文化遗产。古 诗词中蕴藏着大量的物理知识，在物理概念教学中有机的插入古诗词有时会 起到画龙点睛、锦上添花的作用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38080" y="4191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代诗是现代人在现代生活中所感受的现代情绪，用现代的词藻排列而成的语句群体。所以，现代诗是写对我们所生活的这个时代的感受，并且是用现代的语言（即是现代汉语，而不是文言）来写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现代诗最基本的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典诗与现代诗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典诗”与“现代诗”的比较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”者皆为感于物而作，是心灵的映现。“古典诗”以“思无邪”的诗观，表达温柔敦厚、哀而不怨，强调在“可解与不可解之间”。“现代诗”强调自由开放的精神，以直率的情  境陈述，进行“可感与不可感之间”的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的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是古诗含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诗率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367A-7A09-4159-A972-13D568919A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219320" y="609480"/>
            <a:ext cx="5410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大家读一遍课文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0880" y="2209680"/>
            <a:ext cx="7010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打开你们的窗子吧                          我带着金黄的花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打开你们的板门吧                          我带着林间的香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让我进去，让我进去                      我带着亮光和温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进到你们的小屋里                          我带着满身的露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快起来，快起来                              让你们的心像小小的木板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快从枕头里抬起头来                       打开他们的关闭了很久的窗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睁开你的被眼睫毛盖着的眼            让我把花束，把香气，把亮光，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让你的眼看见我的到来                   温暖和露水撒满你们心的空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首抒情诗，诗人以拟人的手法，赋予太阳人的语言与思想，展示了太阳渴望走进小屋，打开人们关闭的心灵，让人们享受亮光、温暖、花束、香气和露水，召唤人们敞开心扉迎接光明，促使人们树立起积极乐观的信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2286000" y="380880"/>
            <a:ext cx="457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33"/>
                </a:solidFill>
                <a:latin typeface="宋体"/>
              </a:rPr>
              <a:t>你知道标题的意思吗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3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615636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838080" y="762120"/>
            <a:ext cx="4267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作者简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6" name="Picture 3" descr="1e71f724afdc59304c088ddc"/>
          <p:cNvPicPr/>
          <p:nvPr/>
        </p:nvPicPr>
        <p:blipFill>
          <a:blip r:embed="rId1"/>
          <a:stretch/>
        </p:blipFill>
        <p:spPr>
          <a:xfrm>
            <a:off x="5791320" y="152280"/>
            <a:ext cx="247644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533520" y="3809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9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现当代诗人。原名蒋海澄，笔名莪加、克阿、林壁等。浙江金华人。自幼由一位贫苦农妇养育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岁回家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2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入杭州国立西湖艺术学院绘画系。翌年赴法国勤工俭学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3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初回国，在上海加入中国左翼美术家联盟，从事革命文艺活动，不久被捕，在狱中写了不少诗，其中的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大堰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的保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发表后引起轰动，一举成名。艾青说：“诗是人类向未来寄发的信息；诗给人类以朝向理想的勇气。”这是诗美的一种本质，诗美在历史车轮前进的滚动中闪现出来，在新的事物与旧的事物的搏斗中闪现出来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262728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己轻声朗读课文，并标上小节号，圈出不认识的字。要求：读准字音，做到不添字、不漏字，读通全文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篇文章中，这些词语的音要特别注意读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束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；  香气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暖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ǎ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枕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ě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睁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ēn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开眼睛；   睫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头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满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ǎ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87280" y="436572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  满  枕  抬  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87280" y="436572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 枕  睫  抬  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段，可以感受到作者那种急切的心情。两个祈使句的重复运用，说明他深怕关在屋里的人听不到他说话，也说明了他想要带去光明的决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段，太阳带来了礼物，金黄的花束、林间的香气、亮光和温暖、满身的露水，都是多么美好的东西。他希望能够给屋子里的人带来欣喜，以此来唤醒他们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段，这一份份美好的礼物送给谁呀？可是接受礼物的人们还在沉睡，太阳更着急啦！快起来 快起来 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一段，我们就可以很直接的接触到诗人的主题，那种以光芒唤醒沉睡的国人的心情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意象表现了诗人灵魂的另一面：对于光明、理想、美好生活热烈的不息的追求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1371600" y="22860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知道每一段的意思吗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天清晨，太阳从东方升起，你听，它在召唤我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窗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打开你们的门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让我进去，让我进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进到你们的小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1640" y="14130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起来，快起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快从枕头上抬起头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睁开你的被睫毛盖住的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让你的眼看见我的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42328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太阳在召唤我们，它的话语应该是怎样的语气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亲切、  热情、  急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3:35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18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