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FD67-C261-47E9-83BD-EDC7BA18B5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1821-6A7F-40ED-AB12-F74A596BB1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333-3E74-484B-9572-7C0BE190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D76-B4B6-4C1A-AFDC-C495AAE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8FF-7C33-40A7-8716-A40C7721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C08-816A-4828-880A-33DAB98E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CF68-A82E-4766-BCA2-D44F069D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A18E-0248-4351-AF61-7D1DBB2E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E03-ADD7-4F4C-AEA2-67AD68F6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99B3-2395-4FEB-875A-89C0C1E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332B-9860-42E9-A6CF-84B63995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80C-D7E5-417D-9A27-5803292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74F1-6752-4F24-9408-1894193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00A-085F-4575-A33C-710FFF1E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F830-AC60-460C-BD5C-72871E2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D47-3AF0-4D01-88E5-0E5F9F4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CF5D-810D-44E5-AC6E-969CA7E8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5527-4976-4BDF-B6EF-C5D6A4C5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AA9B-E46B-43AE-BD3B-5FC4B968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077-CDD8-4334-B4CE-63C1A847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ABE-17E1-47C5-8B7D-7EA06661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CC4-CC1F-461C-ACEB-BB6D5BB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054-2B81-43C5-BA3F-3F4A821D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A97-9A9A-4D83-8890-5D06F4C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6B6-24F3-4046-A5C2-C42B6BC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C0E-7771-43E1-B653-3A28862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D4BC-1BEF-4FA2-8D6D-D230198A2F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B48-1D4D-442C-B6D2-997491E275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8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4"/>
          <p:cNvPicPr/>
          <p:nvPr/>
        </p:nvPicPr>
        <p:blipFill>
          <a:blip r:embed="rId1"/>
          <a:stretch/>
        </p:blipFill>
        <p:spPr>
          <a:xfrm>
            <a:off x="77760" y="76320"/>
            <a:ext cx="8991720" cy="6705360"/>
          </a:xfrm>
          <a:prstGeom prst="rect">
            <a:avLst/>
          </a:prstGeom>
          <a:ln w="0">
            <a:noFill/>
          </a:ln>
        </p:spPr>
      </p:pic>
      <p:pic>
        <p:nvPicPr>
          <p:cNvPr id="90" name="Text Box 3" descr=""/>
          <p:cNvPicPr/>
          <p:nvPr/>
        </p:nvPicPr>
        <p:blipFill>
          <a:blip r:embed="rId2"/>
          <a:stretch/>
        </p:blipFill>
        <p:spPr>
          <a:xfrm>
            <a:off x="882720" y="914400"/>
            <a:ext cx="4572000" cy="1108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5" descr=""/>
          <p:cNvPicPr/>
          <p:nvPr/>
        </p:nvPicPr>
        <p:blipFill>
          <a:blip r:embed="rId3"/>
          <a:stretch/>
        </p:blipFill>
        <p:spPr>
          <a:xfrm>
            <a:off x="1781280" y="601992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266688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太阳越晒，花儿越鲜艳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它们仰着脸蛋儿，好像在跟太阳说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143000" y="3048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太阳公公，谢谢您把我们照得这样漂亮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560" y="22096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晚，太阳下山了。太阳花慢慢合拢花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安静静地睡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066680" y="2743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5869080" y="2666520"/>
            <a:ext cx="1600200" cy="18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362320" y="3657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994120" y="7621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676520" y="228600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安安静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地睡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安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地睡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609480"/>
            <a:ext cx="753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先读一读，再比一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8480" y="3124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太阳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05120" y="24987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早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237200" y="24987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乐呵呵地开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805120" y="3657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傍晚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13160" y="36576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安安静静地睡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2362320" y="26668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66680" y="838080"/>
            <a:ext cx="73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读到这里，你知道这种花为什么叫“太阳花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太阳升起，花儿＿＿＿；太阳＿＿＿，花儿＿＿＿；太阳＿＿＿，花儿＿＿＿；所以，这种花叫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1752480" y="1981080"/>
            <a:ext cx="5564160" cy="3353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你喜欢什么花？为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跟你的小伙伴互相说一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05"/>
          <p:cNvPicPr/>
          <p:nvPr/>
        </p:nvPicPr>
        <p:blipFill>
          <a:blip r:embed="rId1"/>
          <a:stretch/>
        </p:blipFill>
        <p:spPr>
          <a:xfrm>
            <a:off x="590400" y="609480"/>
            <a:ext cx="7963200" cy="5643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4207320" y="632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太阳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76320" y="-222120"/>
            <a:ext cx="82296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207320" y="632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太阳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06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994120" y="7621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09480" y="10666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越晒，花儿越鲜艳。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说出像这样的句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阳越＿＿，＿＿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＿＿越＿＿，＿＿＿＿＿＿＿＿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rId2" action="ppaction://hlinksldjump"/>
          </p:cNvPr>
          <p:cNvSpPr/>
          <p:nvPr/>
        </p:nvSpPr>
        <p:spPr>
          <a:xfrm>
            <a:off x="457200" y="6019920"/>
            <a:ext cx="38088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138560" y="3808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太阳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23960" y="2133720"/>
            <a:ext cx="7696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　你见过太阳花吗？这是一种很美丽的小花，小小的花瓣，鲜艳极了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叶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子呢，也是细细的，像含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着一包绿汁，很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è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。它的茎红红的，上面长着一层白色的绒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233280" y="4867200"/>
            <a:ext cx="897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138560" y="898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太阳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152280" y="304920"/>
            <a:ext cx="3657600" cy="1981080"/>
          </a:xfrm>
          <a:prstGeom prst="cloudCallout">
            <a:avLst>
              <a:gd name="adj1" fmla="val -44444"/>
              <a:gd name="adj2" fmla="val 59453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课文中的太阳花是什么样子的？什么形状？什么颜色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23960" y="2652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你见过太阳花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9880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43000" y="2514600"/>
            <a:ext cx="702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95320" y="2655720"/>
            <a:ext cx="748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2120" y="2590920"/>
            <a:ext cx="75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一种很美丽的小花，小小的花瓣，鲜艳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>
            <a:hlinkClick r:id="rId2" action="ppaction://hlinksldjump"/>
          </p:cNvPr>
          <p:cNvSpPr/>
          <p:nvPr/>
        </p:nvSpPr>
        <p:spPr>
          <a:xfrm>
            <a:off x="820800" y="3046320"/>
            <a:ext cx="756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子呢，也是细细的，像含着一包绿汁，很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838080" y="3505320"/>
            <a:ext cx="72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茎红红的，上面长着一层白色的绒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09480" y="2397240"/>
            <a:ext cx="792504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he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，太阳一露出笑脸，太阳花就乐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呵地开放了。太阳花有黄的、蓝的、紫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五颜六色的花开起来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好看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太阳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yu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晒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s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，花儿越鲜艳。它们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着脸蛋儿，好像在跟太阳说话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太阳公公，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x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谢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把我们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z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得这样漂亮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傍晚，太阳下山了。太阳花慢慢合拢花瓣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静地睡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814400" y="192420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叶子　　上面　　长着　　早晨　　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814400" y="380988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黄的　　花儿　　仰着　　漂亮　　太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22248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19880" y="533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C2C-D154-4F3E-994F-CB5D876CF1E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u=2388727143,638091596&amp;fm=23&amp;gp=0"/>
          <p:cNvPicPr/>
          <p:nvPr/>
        </p:nvPicPr>
        <p:blipFill>
          <a:blip r:embed="rId1"/>
          <a:stretch/>
        </p:blipFill>
        <p:spPr>
          <a:xfrm>
            <a:off x="1066680" y="838080"/>
            <a:ext cx="5854680" cy="4343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416480" y="3154320"/>
            <a:ext cx="311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4OJHW71]${_N$9%ZZF2{K]V"/>
          <p:cNvPicPr/>
          <p:nvPr/>
        </p:nvPicPr>
        <p:blipFill>
          <a:blip r:embed="rId2"/>
          <a:stretch/>
        </p:blipFill>
        <p:spPr>
          <a:xfrm>
            <a:off x="76320" y="-14400"/>
            <a:ext cx="8991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138560" y="898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23960" y="2652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你见过太阳花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29880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143000" y="2514600"/>
            <a:ext cx="702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95320" y="2655720"/>
            <a:ext cx="748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62120" y="2590920"/>
            <a:ext cx="75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种很美丽的小花，小小的花瓣，鲜艳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2" action="ppaction://hlinksldjump"/>
          </p:cNvPr>
          <p:cNvSpPr/>
          <p:nvPr/>
        </p:nvSpPr>
        <p:spPr>
          <a:xfrm>
            <a:off x="820800" y="3046320"/>
            <a:ext cx="756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子呢，也是细细的，像含着一包绿汁，很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838080" y="3505320"/>
            <a:ext cx="72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的茎红红的，上面长着一层白色的绒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09480" y="283536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早晨，太阳一露出笑脸，太阳花就乐呵呵地开放了。太阳花有黄的、蓝的、紫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五颜六色的花开起来，那才好看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5943600" y="32767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295280" y="32767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943600" y="32004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8480" y="3124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太阳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805120" y="24987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早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237200" y="24987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乐呵呵地开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362320" y="26668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0-120610210323"/>
          <p:cNvPicPr/>
          <p:nvPr/>
        </p:nvPicPr>
        <p:blipFill>
          <a:blip r:embed="rId1"/>
          <a:stretch/>
        </p:blipFill>
        <p:spPr>
          <a:xfrm>
            <a:off x="76320" y="1371600"/>
            <a:ext cx="4038480" cy="325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Administrator\Desktop\u=2290250765,4167147201&amp;fm=23&amp;gp=0.jpgu=2290250765,4167147201&amp;fm=23&amp;gp=0"/>
          <p:cNvPicPr/>
          <p:nvPr/>
        </p:nvPicPr>
        <p:blipFill>
          <a:blip r:embed="rId2"/>
          <a:stretch/>
        </p:blipFill>
        <p:spPr>
          <a:xfrm>
            <a:off x="4800600" y="380880"/>
            <a:ext cx="3733920" cy="278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2013101022493975583"/>
          <p:cNvPicPr/>
          <p:nvPr/>
        </p:nvPicPr>
        <p:blipFill>
          <a:blip r:embed="rId3"/>
          <a:stretch/>
        </p:blipFill>
        <p:spPr>
          <a:xfrm>
            <a:off x="4419720" y="3657600"/>
            <a:ext cx="4190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43-120612051416"/>
          <p:cNvPicPr/>
          <p:nvPr/>
        </p:nvPicPr>
        <p:blipFill>
          <a:blip r:embed="rId1"/>
          <a:stretch/>
        </p:blipFill>
        <p:spPr>
          <a:xfrm>
            <a:off x="76320" y="76320"/>
            <a:ext cx="89931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09480" y="2835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早晨，太阳一露出笑脸，太阳花就乐呵呵地开放了。太阳花有黄的、蓝的、紫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颜六色的花开起来，那才好看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1600200" y="36576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295280" y="32767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943600" y="32004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5943600" y="32767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37339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648320" y="38098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3:24:35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50:36Z</dcterms:modified>
  <cp:revision>1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