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6C9B-F981-436C-9AA3-90B7CAE5C8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0C65B-7AFB-490E-96D6-147FCC56907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57A-DD46-4A07-8688-34348F47A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F87-DA4B-4BC2-93E7-A73083AC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7E36-47DC-43E5-A55F-83B5C9EC6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EB6-A5CE-499F-8EA2-A9BD2C894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C49-3EC0-4C71-B194-86B6D614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286-CE97-4793-9D3F-6230A467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E6E7-0C2E-4D76-B424-D9063D60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EE90-7E03-4B95-AAA4-877C9DED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458A-FECB-4161-BAFE-59E5EE56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3EBE-A088-4E04-9252-7278C8A9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37C-46C9-4E6B-9103-26C9E3BC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301-2214-4A01-932E-2921A666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3C2-1668-4556-A1C7-B7A0769E9FA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81B0-A83A-4237-8CF7-1AA19ED50A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爱大山我爱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450440" y="5732640"/>
            <a:ext cx="624816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2863800" y="1065240"/>
            <a:ext cx="462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满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眼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都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是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遍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地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山</a:t>
            </a: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崖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3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0" spc="-1" strike="noStrike">
                <a:solidFill>
                  <a:srgbClr val="000000"/>
                </a:solidFill>
                <a:latin typeface="Arial"/>
              </a:rPr>
              <a:t>读文思考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689040" y="3214800"/>
            <a:ext cx="7483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看到的内容，用直线画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将听到的内容，用波浪线画出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谈谈自己的感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7697880" y="117360"/>
            <a:ext cx="1334880" cy="1295640"/>
          </a:xfrm>
          <a:prstGeom prst="rect">
            <a:avLst/>
          </a:prstGeom>
          <a:ln w="0">
            <a:noFill/>
          </a:ln>
        </p:spPr>
      </p:pic>
      <p:sp>
        <p:nvSpPr>
          <p:cNvPr id="67" name="文本框 1"/>
          <p:cNvSpPr/>
          <p:nvPr/>
        </p:nvSpPr>
        <p:spPr>
          <a:xfrm>
            <a:off x="880920" y="5529240"/>
            <a:ext cx="48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爱大山我爱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528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溪叮咚响，鸟儿叫喳喳，穿过金竹林，绕过绿山茶。山路弯弯山中行，白云深处是我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人在半山腰，满眼都是画儿。绿林像大海，红花遍山崖。山是摇篮我是娃，我爱大山我爱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6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联系生活谈感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920" y="172728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000" spc="-1" strike="noStrike">
                <a:solidFill>
                  <a:srgbClr val="000000"/>
                </a:solidFill>
                <a:latin typeface="Arial"/>
              </a:rPr>
              <a:t>山里的孩子多么爱自己的家乡啊，你爱自己的家乡吗？谁愿意说说自己的家乡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8EEE-DC38-4648-85DE-AA2D01A6C8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20720" y="198864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ff33cc"/>
                </a:solidFill>
                <a:latin typeface="Arial"/>
              </a:rPr>
              <a:t>生字学习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爱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心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43000" y="1696680"/>
            <a:ext cx="8578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</a:rPr>
              <a:t>叮</a:t>
            </a:r>
            <a:r>
              <a:rPr b="0" lang="zh-CN" sz="22000" spc="-1" strike="noStrike">
                <a:solidFill>
                  <a:srgbClr val="000000"/>
                </a:solidFill>
                <a:latin typeface="Arial"/>
              </a:rPr>
              <a:t>咚</a:t>
            </a:r>
            <a:r>
              <a:rPr b="0" lang="zh-CN" sz="22000" spc="-1" strike="noStrike">
                <a:solidFill>
                  <a:srgbClr val="0000ff"/>
                </a:solidFill>
                <a:latin typeface="Arial"/>
              </a:rPr>
              <a:t>响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180720" y="1984320"/>
            <a:ext cx="8785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0" lang="zh-CN" sz="22000" spc="-1" strike="noStrike">
                <a:solidFill>
                  <a:srgbClr val="0000ff"/>
                </a:solidFill>
                <a:latin typeface="Arial"/>
              </a:rPr>
              <a:t>喳喳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穿过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绕过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山</a:t>
            </a: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茶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549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ff"/>
                </a:solidFill>
                <a:latin typeface="Arial"/>
              </a:rPr>
              <a:t>深</a:t>
            </a:r>
            <a:r>
              <a:rPr b="0" lang="zh-CN" sz="30000" spc="-1" strike="noStrike">
                <a:solidFill>
                  <a:srgbClr val="000000"/>
                </a:solidFill>
                <a:latin typeface="Arial"/>
              </a:rPr>
              <a:t>处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0:37Z</dcterms:modified>
  <cp:revision>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