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gif" ContentType="image/gif"/>
  <Override PartName="/ppt/media/image6.png" ContentType="image/png"/>
  <Override PartName="/ppt/media/image7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AFF1-98A7-4DE4-834F-58434906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051-12E0-47A0-B5AF-1B3F6E10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C467-A8A4-4BDE-92AD-3FF369BB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974-8D50-4D86-ACD9-3B9675534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7252-9D89-47DD-BD87-864564975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1B3E-0A99-47F6-B84B-FD633931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4FBC-A5C4-42E6-88C0-7DDBC2F3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1D4-939A-4216-9C16-DE4811B9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E6B2-EFFC-428F-B033-D92F3E09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D0C-CD8C-4906-83BF-CDB2E2C9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D13-7172-4090-9424-BB096A5C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174-6AE1-4E70-8C92-868A3F3E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422-686C-464C-9964-AD0D5E69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33DC-BAE8-4E9D-B945-0E16DA5C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09B-E534-47EA-94AF-18661E33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E6F-6074-4C3C-BAAD-B1DE3F0C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03-7C60-461F-8F18-E4EE8ED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3F1-7677-40B0-B042-2D17D4AC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AB0-5888-4833-B606-F39A303C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049-59A4-4032-ADA9-415211E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B6C-9469-4030-A0FD-C3B4B4F6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D53-E21E-4901-8F7F-4DC7DD9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2B5-9C2F-48EF-93E4-1385C46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F84-45E5-405F-915B-A11B849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923-3941-41F8-8A9C-1A55193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9E0-9A96-4AC4-872E-34C6471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C995-F7CD-4B35-BC1F-400F8813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042920" y="22971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我不是最弱小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kakhl"/>
          <p:cNvPicPr/>
          <p:nvPr/>
        </p:nvPicPr>
        <p:blipFill>
          <a:blip r:embed="rId2"/>
          <a:stretch/>
        </p:blipFill>
        <p:spPr>
          <a:xfrm>
            <a:off x="5796000" y="620640"/>
            <a:ext cx="1657440" cy="1676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469800" y="60336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湘教版二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735200" y="5445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92000" y="2133720"/>
            <a:ext cx="835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路旁的蔷薇花，好些花瓣被大雨冲掉了，花儿低垂着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6659640" y="4076640"/>
            <a:ext cx="1728720" cy="1008000"/>
            <a:chOff x="6659640" y="4076640"/>
            <a:chExt cx="1728720" cy="1008000"/>
          </a:xfrm>
        </p:grpSpPr>
        <p:sp>
          <p:nvSpPr>
            <p:cNvPr id="167" name="AutoShape 4"/>
            <p:cNvSpPr/>
            <p:nvPr/>
          </p:nvSpPr>
          <p:spPr>
            <a:xfrm>
              <a:off x="6659640" y="4076640"/>
              <a:ext cx="1728720" cy="1008000"/>
            </a:xfrm>
            <a:prstGeom prst="cloudCallout">
              <a:avLst>
                <a:gd name="adj1" fmla="val -51009"/>
                <a:gd name="adj2" fmla="val -7724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6946920" y="422100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雨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39640" y="765000"/>
            <a:ext cx="8352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妈妈把雨衣给了托利亚，托利亚又把雨衣披在萨沙的身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萨沙问：“妈，您把雨衣给了托利亚，托利亚又把雨衣给了我，你们干嘛这样做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每个人都有责任保护更弱小的人。”妈妈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是最弱小的人吗？”萨沙想了想，朝蔷薇花丛走去。她掀起雨衣的下部，盖在粉红的蔷薇花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08000" y="836640"/>
            <a:ext cx="882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小建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先读好，再找你组内的小伙伴，互相朗读，互相倾听，互相帮助，夸夸优点，提出不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2700360" y="2565360"/>
            <a:ext cx="338436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744560" y="1517760"/>
            <a:ext cx="52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137-33F6-4FE4-81E1-3341F52D12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71640" y="19098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我不是最弱小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692360" y="2708280"/>
            <a:ext cx="5545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宋体"/>
              </a:rPr>
              <a:t>弱   萨   隆   瓣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宋体"/>
              </a:rPr>
              <a:t>掀   部   勇   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69236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132000" y="220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27640" y="220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940360" y="220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692360" y="4221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132000" y="42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ǒ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867280" y="42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11280" y="1484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MCj02331740000[1]"/>
          <p:cNvPicPr/>
          <p:nvPr/>
        </p:nvPicPr>
        <p:blipFill>
          <a:blip r:embed="rId1"/>
          <a:stretch/>
        </p:blipFill>
        <p:spPr>
          <a:xfrm>
            <a:off x="7308720" y="4508640"/>
            <a:ext cx="1339920" cy="1869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1422360" y="235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5"/>
          <p:cNvGrpSpPr/>
          <p:nvPr/>
        </p:nvGrpSpPr>
        <p:grpSpPr>
          <a:xfrm>
            <a:off x="631800" y="-195120"/>
            <a:ext cx="1758960" cy="1758960"/>
            <a:chOff x="631800" y="-195120"/>
            <a:chExt cx="1758960" cy="1758960"/>
          </a:xfrm>
        </p:grpSpPr>
        <p:pic>
          <p:nvPicPr>
            <p:cNvPr id="66" name="Picture 6" descr="RM_0677"/>
            <p:cNvPicPr/>
            <p:nvPr/>
          </p:nvPicPr>
          <p:blipFill>
            <a:blip r:embed="rId1"/>
            <a:stretch/>
          </p:blipFill>
          <p:spPr>
            <a:xfrm rot="1221600">
              <a:off x="82692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"/>
            <p:cNvSpPr/>
            <p:nvPr/>
          </p:nvSpPr>
          <p:spPr>
            <a:xfrm>
              <a:off x="111420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8"/>
          <p:cNvGrpSpPr/>
          <p:nvPr/>
        </p:nvGrpSpPr>
        <p:grpSpPr>
          <a:xfrm>
            <a:off x="2216160" y="-195120"/>
            <a:ext cx="1758960" cy="1758960"/>
            <a:chOff x="2216160" y="-195120"/>
            <a:chExt cx="1758960" cy="1758960"/>
          </a:xfrm>
        </p:grpSpPr>
        <p:pic>
          <p:nvPicPr>
            <p:cNvPr id="69" name="Picture 9" descr="RM_0677"/>
            <p:cNvPicPr/>
            <p:nvPr/>
          </p:nvPicPr>
          <p:blipFill>
            <a:blip r:embed="rId2"/>
            <a:stretch/>
          </p:blipFill>
          <p:spPr>
            <a:xfrm rot="1221600">
              <a:off x="241128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0"/>
            <p:cNvSpPr/>
            <p:nvPr/>
          </p:nvSpPr>
          <p:spPr>
            <a:xfrm>
              <a:off x="269856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4472640" y="1428840"/>
            <a:ext cx="1709640" cy="1625400"/>
            <a:chOff x="4472640" y="1428840"/>
            <a:chExt cx="1709640" cy="1625400"/>
          </a:xfrm>
        </p:grpSpPr>
        <p:pic>
          <p:nvPicPr>
            <p:cNvPr id="72" name="Picture 12" descr="RM_0677"/>
            <p:cNvPicPr/>
            <p:nvPr/>
          </p:nvPicPr>
          <p:blipFill>
            <a:blip r:embed="rId3"/>
            <a:stretch/>
          </p:blipFill>
          <p:spPr>
            <a:xfrm rot="1221600">
              <a:off x="4642920" y="1628280"/>
              <a:ext cx="13683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3"/>
            <p:cNvSpPr/>
            <p:nvPr/>
          </p:nvSpPr>
          <p:spPr>
            <a:xfrm>
              <a:off x="4930560" y="18856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任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4"/>
          <p:cNvGrpSpPr/>
          <p:nvPr/>
        </p:nvGrpSpPr>
        <p:grpSpPr>
          <a:xfrm>
            <a:off x="3800520" y="-195120"/>
            <a:ext cx="1758960" cy="1758960"/>
            <a:chOff x="3800520" y="-195120"/>
            <a:chExt cx="1758960" cy="1758960"/>
          </a:xfrm>
        </p:grpSpPr>
        <p:pic>
          <p:nvPicPr>
            <p:cNvPr id="75" name="Picture 15" descr="RM_0677"/>
            <p:cNvPicPr/>
            <p:nvPr/>
          </p:nvPicPr>
          <p:blipFill>
            <a:blip r:embed="rId4"/>
            <a:stretch/>
          </p:blipFill>
          <p:spPr>
            <a:xfrm rot="1221600">
              <a:off x="399564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6"/>
            <p:cNvSpPr/>
            <p:nvPr/>
          </p:nvSpPr>
          <p:spPr>
            <a:xfrm>
              <a:off x="428292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040880" y="-195120"/>
            <a:ext cx="1758960" cy="1758960"/>
            <a:chOff x="7040880" y="-195120"/>
            <a:chExt cx="1758960" cy="1758960"/>
          </a:xfrm>
        </p:grpSpPr>
        <p:pic>
          <p:nvPicPr>
            <p:cNvPr id="78" name="Picture 18" descr="RM_0677"/>
            <p:cNvPicPr/>
            <p:nvPr/>
          </p:nvPicPr>
          <p:blipFill>
            <a:blip r:embed="rId5"/>
            <a:stretch/>
          </p:blipFill>
          <p:spPr>
            <a:xfrm rot="1221600">
              <a:off x="723600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9"/>
            <p:cNvSpPr/>
            <p:nvPr/>
          </p:nvSpPr>
          <p:spPr>
            <a:xfrm>
              <a:off x="752328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0"/>
          <p:cNvGrpSpPr/>
          <p:nvPr/>
        </p:nvGrpSpPr>
        <p:grpSpPr>
          <a:xfrm>
            <a:off x="3008520" y="1362240"/>
            <a:ext cx="1758960" cy="1758960"/>
            <a:chOff x="3008520" y="1362240"/>
            <a:chExt cx="1758960" cy="1758960"/>
          </a:xfrm>
        </p:grpSpPr>
        <p:pic>
          <p:nvPicPr>
            <p:cNvPr id="81" name="Picture 21" descr="RM_0677"/>
            <p:cNvPicPr/>
            <p:nvPr/>
          </p:nvPicPr>
          <p:blipFill>
            <a:blip r:embed="rId6"/>
            <a:stretch/>
          </p:blipFill>
          <p:spPr>
            <a:xfrm rot="1221600">
              <a:off x="3203640" y="155736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22"/>
            <p:cNvSpPr/>
            <p:nvPr/>
          </p:nvSpPr>
          <p:spPr>
            <a:xfrm>
              <a:off x="3490920" y="184464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5456520" y="-195120"/>
            <a:ext cx="1758960" cy="1758960"/>
            <a:chOff x="5456520" y="-195120"/>
            <a:chExt cx="1758960" cy="1758960"/>
          </a:xfrm>
        </p:grpSpPr>
        <p:pic>
          <p:nvPicPr>
            <p:cNvPr id="84" name="Picture 24" descr="RM_0677"/>
            <p:cNvPicPr/>
            <p:nvPr/>
          </p:nvPicPr>
          <p:blipFill>
            <a:blip r:embed="rId7"/>
            <a:stretch/>
          </p:blipFill>
          <p:spPr>
            <a:xfrm rot="1221600">
              <a:off x="565164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5"/>
            <p:cNvSpPr/>
            <p:nvPr/>
          </p:nvSpPr>
          <p:spPr>
            <a:xfrm>
              <a:off x="593892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5961240" y="1433520"/>
            <a:ext cx="1758960" cy="1758960"/>
            <a:chOff x="5961240" y="1433520"/>
            <a:chExt cx="1758960" cy="1758960"/>
          </a:xfrm>
        </p:grpSpPr>
        <p:pic>
          <p:nvPicPr>
            <p:cNvPr id="87" name="Picture 27" descr="RM_0677"/>
            <p:cNvPicPr/>
            <p:nvPr/>
          </p:nvPicPr>
          <p:blipFill>
            <a:blip r:embed="rId8"/>
            <a:stretch/>
          </p:blipFill>
          <p:spPr>
            <a:xfrm rot="1221600">
              <a:off x="6156360" y="16286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28"/>
            <p:cNvSpPr/>
            <p:nvPr/>
          </p:nvSpPr>
          <p:spPr>
            <a:xfrm>
              <a:off x="6443640" y="191592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9"/>
          <p:cNvGrpSpPr/>
          <p:nvPr/>
        </p:nvGrpSpPr>
        <p:grpSpPr>
          <a:xfrm>
            <a:off x="7411320" y="1515240"/>
            <a:ext cx="1665000" cy="1665000"/>
            <a:chOff x="7411320" y="1515240"/>
            <a:chExt cx="1665000" cy="1665000"/>
          </a:xfrm>
        </p:grpSpPr>
        <p:pic>
          <p:nvPicPr>
            <p:cNvPr id="90" name="Picture 30" descr="RM_0677"/>
            <p:cNvPicPr/>
            <p:nvPr/>
          </p:nvPicPr>
          <p:blipFill>
            <a:blip r:embed="rId9"/>
            <a:stretch/>
          </p:blipFill>
          <p:spPr>
            <a:xfrm rot="1221600">
              <a:off x="7596000" y="169992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1"/>
            <p:cNvSpPr/>
            <p:nvPr/>
          </p:nvSpPr>
          <p:spPr>
            <a:xfrm>
              <a:off x="7868160" y="1972080"/>
              <a:ext cx="68076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2"/>
          <p:cNvGrpSpPr/>
          <p:nvPr/>
        </p:nvGrpSpPr>
        <p:grpSpPr>
          <a:xfrm>
            <a:off x="200160" y="3233880"/>
            <a:ext cx="1758960" cy="1758960"/>
            <a:chOff x="200160" y="3233880"/>
            <a:chExt cx="1758960" cy="1758960"/>
          </a:xfrm>
        </p:grpSpPr>
        <p:pic>
          <p:nvPicPr>
            <p:cNvPr id="93" name="Picture 33" descr="RM_0677"/>
            <p:cNvPicPr/>
            <p:nvPr/>
          </p:nvPicPr>
          <p:blipFill>
            <a:blip r:embed="rId10"/>
            <a:stretch/>
          </p:blipFill>
          <p:spPr>
            <a:xfrm rot="1221600">
              <a:off x="395280" y="342900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4"/>
            <p:cNvSpPr/>
            <p:nvPr/>
          </p:nvSpPr>
          <p:spPr>
            <a:xfrm>
              <a:off x="682560" y="3716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2000520" y="3162600"/>
            <a:ext cx="1758960" cy="1758960"/>
            <a:chOff x="2000520" y="3162600"/>
            <a:chExt cx="1758960" cy="1758960"/>
          </a:xfrm>
        </p:grpSpPr>
        <p:pic>
          <p:nvPicPr>
            <p:cNvPr id="96" name="Picture 36" descr="RM_0677"/>
            <p:cNvPicPr/>
            <p:nvPr/>
          </p:nvPicPr>
          <p:blipFill>
            <a:blip r:embed="rId11"/>
            <a:stretch/>
          </p:blipFill>
          <p:spPr>
            <a:xfrm rot="1221600">
              <a:off x="219564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7"/>
            <p:cNvSpPr/>
            <p:nvPr/>
          </p:nvSpPr>
          <p:spPr>
            <a:xfrm>
              <a:off x="248292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8"/>
          <p:cNvGrpSpPr/>
          <p:nvPr/>
        </p:nvGrpSpPr>
        <p:grpSpPr>
          <a:xfrm>
            <a:off x="3729240" y="3162600"/>
            <a:ext cx="1758960" cy="1758960"/>
            <a:chOff x="3729240" y="3162600"/>
            <a:chExt cx="1758960" cy="1758960"/>
          </a:xfrm>
        </p:grpSpPr>
        <p:pic>
          <p:nvPicPr>
            <p:cNvPr id="99" name="Picture 39" descr="RM_0677"/>
            <p:cNvPicPr/>
            <p:nvPr/>
          </p:nvPicPr>
          <p:blipFill>
            <a:blip r:embed="rId12"/>
            <a:stretch/>
          </p:blipFill>
          <p:spPr>
            <a:xfrm rot="1221600">
              <a:off x="392436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0"/>
            <p:cNvSpPr/>
            <p:nvPr/>
          </p:nvSpPr>
          <p:spPr>
            <a:xfrm>
              <a:off x="421164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1"/>
          <p:cNvGrpSpPr/>
          <p:nvPr/>
        </p:nvGrpSpPr>
        <p:grpSpPr>
          <a:xfrm>
            <a:off x="5384880" y="3162600"/>
            <a:ext cx="1758960" cy="1758960"/>
            <a:chOff x="5384880" y="3162600"/>
            <a:chExt cx="1758960" cy="1758960"/>
          </a:xfrm>
        </p:grpSpPr>
        <p:pic>
          <p:nvPicPr>
            <p:cNvPr id="102" name="Picture 42" descr="RM_0677"/>
            <p:cNvPicPr/>
            <p:nvPr/>
          </p:nvPicPr>
          <p:blipFill>
            <a:blip r:embed="rId13"/>
            <a:stretch/>
          </p:blipFill>
          <p:spPr>
            <a:xfrm rot="1221600">
              <a:off x="558000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43"/>
            <p:cNvSpPr/>
            <p:nvPr/>
          </p:nvSpPr>
          <p:spPr>
            <a:xfrm>
              <a:off x="586728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113600" y="3162600"/>
            <a:ext cx="1758960" cy="1758960"/>
            <a:chOff x="7113600" y="3162600"/>
            <a:chExt cx="1758960" cy="1758960"/>
          </a:xfrm>
        </p:grpSpPr>
        <p:pic>
          <p:nvPicPr>
            <p:cNvPr id="105" name="Picture 45" descr="RM_0677"/>
            <p:cNvPicPr/>
            <p:nvPr/>
          </p:nvPicPr>
          <p:blipFill>
            <a:blip r:embed="rId14"/>
            <a:stretch/>
          </p:blipFill>
          <p:spPr>
            <a:xfrm rot="1221600">
              <a:off x="730872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6"/>
            <p:cNvSpPr/>
            <p:nvPr/>
          </p:nvSpPr>
          <p:spPr>
            <a:xfrm>
              <a:off x="759600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8"/>
          <p:cNvGrpSpPr/>
          <p:nvPr/>
        </p:nvGrpSpPr>
        <p:grpSpPr>
          <a:xfrm>
            <a:off x="1484640" y="1364400"/>
            <a:ext cx="1783800" cy="1825920"/>
            <a:chOff x="1484640" y="1364400"/>
            <a:chExt cx="1783800" cy="1825920"/>
          </a:xfrm>
        </p:grpSpPr>
        <p:pic>
          <p:nvPicPr>
            <p:cNvPr id="108" name="Picture 49" descr="RM_0677"/>
            <p:cNvPicPr/>
            <p:nvPr/>
          </p:nvPicPr>
          <p:blipFill>
            <a:blip r:embed="rId15"/>
            <a:stretch/>
          </p:blipFill>
          <p:spPr>
            <a:xfrm rot="1221600">
              <a:off x="1692000" y="1557360"/>
              <a:ext cx="13683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0"/>
            <p:cNvSpPr/>
            <p:nvPr/>
          </p:nvSpPr>
          <p:spPr>
            <a:xfrm>
              <a:off x="1979640" y="18594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1"/>
          <p:cNvGrpSpPr/>
          <p:nvPr/>
        </p:nvGrpSpPr>
        <p:grpSpPr>
          <a:xfrm>
            <a:off x="55800" y="1289160"/>
            <a:ext cx="1758960" cy="1758960"/>
            <a:chOff x="55800" y="1289160"/>
            <a:chExt cx="1758960" cy="1758960"/>
          </a:xfrm>
        </p:grpSpPr>
        <p:pic>
          <p:nvPicPr>
            <p:cNvPr id="111" name="Picture 52" descr="RM_0677"/>
            <p:cNvPicPr/>
            <p:nvPr/>
          </p:nvPicPr>
          <p:blipFill>
            <a:blip r:embed="rId16"/>
            <a:stretch/>
          </p:blipFill>
          <p:spPr>
            <a:xfrm rot="1221600">
              <a:off x="250920" y="1484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3"/>
            <p:cNvSpPr/>
            <p:nvPr/>
          </p:nvSpPr>
          <p:spPr>
            <a:xfrm>
              <a:off x="538200" y="1771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10613 L -0.07483 0.6881 E">
                                      <p:cBhvr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09 0.17943 L -0.18906 0.67769 E">
                                      <p:cBhvr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98844E-006 L -0.01181 0.46659 E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0.11653 L -0.09844 0.65665 E">
                                      <p:cBhvr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27399 L 0.07083 0.68833 E">
                                      <p:cBhvr>
                                        <p:cTn id="9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3 0.07862 L -0.10243 0.45087 E">
                                      <p:cBhvr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0.30544 L 0.09063 0.66752 E">
                                      <p:cBhvr>
                                        <p:cTn id="1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0.07861 L -0.05903 0.41942 E">
                                      <p:cBhvr>
                                        <p:cTn id="10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10497 L -0.03923 0.44578 E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2613 L 0.0434 0.31468 E">
                                      <p:cBhvr>
                                        <p:cTn id="11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2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13618 L -0.04341 0.44578 E">
                                      <p:cBhvr>
                                        <p:cTn id="14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17919E-006 L -0.05903 0.58197 E">
                                      <p:cBhvr>
                                        <p:cTn id="14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0" y="33336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/>
          <a:stretch/>
        </p:blipFill>
        <p:spPr>
          <a:xfrm>
            <a:off x="687708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308124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6"/>
          <a:stretch/>
        </p:blipFill>
        <p:spPr>
          <a:xfrm>
            <a:off x="5148360" y="3284640"/>
            <a:ext cx="914400" cy="93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3059280" y="1628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148360" y="1628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948360" y="3284640"/>
            <a:ext cx="7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5148360" y="3284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 rot="807000">
            <a:off x="6948000" y="5084640"/>
            <a:ext cx="86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"/>
          <p:cNvPicPr/>
          <p:nvPr/>
        </p:nvPicPr>
        <p:blipFill>
          <a:blip r:embed="rId7"/>
          <a:stretch/>
        </p:blipFill>
        <p:spPr>
          <a:xfrm>
            <a:off x="90000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"/>
          <p:cNvPicPr/>
          <p:nvPr/>
        </p:nvPicPr>
        <p:blipFill>
          <a:blip r:embed="rId8"/>
          <a:stretch/>
        </p:blipFill>
        <p:spPr>
          <a:xfrm>
            <a:off x="6804000" y="1700280"/>
            <a:ext cx="914400" cy="93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5"/>
          <p:cNvSpPr/>
          <p:nvPr/>
        </p:nvSpPr>
        <p:spPr>
          <a:xfrm>
            <a:off x="900000" y="3284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 rot="21468600">
            <a:off x="899640" y="1628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6804000" y="170028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3132000" y="3284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4"/>
          <p:cNvGrpSpPr/>
          <p:nvPr/>
        </p:nvGrpSpPr>
        <p:grpSpPr>
          <a:xfrm>
            <a:off x="273240" y="1938600"/>
            <a:ext cx="1758960" cy="1758960"/>
            <a:chOff x="273240" y="1938600"/>
            <a:chExt cx="1758960" cy="1758960"/>
          </a:xfrm>
        </p:grpSpPr>
        <p:pic>
          <p:nvPicPr>
            <p:cNvPr id="132" name="Picture 15" descr="RM_0677"/>
            <p:cNvPicPr/>
            <p:nvPr/>
          </p:nvPicPr>
          <p:blipFill>
            <a:blip r:embed="rId1"/>
            <a:stretch/>
          </p:blipFill>
          <p:spPr>
            <a:xfrm rot="1221600">
              <a:off x="468360" y="2133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6"/>
            <p:cNvSpPr/>
            <p:nvPr/>
          </p:nvSpPr>
          <p:spPr>
            <a:xfrm>
              <a:off x="755640" y="2421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4089600" y="1721160"/>
            <a:ext cx="1758960" cy="1758960"/>
            <a:chOff x="4089600" y="1721160"/>
            <a:chExt cx="1758960" cy="1758960"/>
          </a:xfrm>
        </p:grpSpPr>
        <p:pic>
          <p:nvPicPr>
            <p:cNvPr id="135" name="Picture 21" descr="RM_0677"/>
            <p:cNvPicPr/>
            <p:nvPr/>
          </p:nvPicPr>
          <p:blipFill>
            <a:blip r:embed="rId2"/>
            <a:stretch/>
          </p:blipFill>
          <p:spPr>
            <a:xfrm rot="1221600">
              <a:off x="4284720" y="1916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/>
            <p:cNvSpPr/>
            <p:nvPr/>
          </p:nvSpPr>
          <p:spPr>
            <a:xfrm>
              <a:off x="4572000" y="2203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2"/>
          <p:cNvGrpSpPr/>
          <p:nvPr/>
        </p:nvGrpSpPr>
        <p:grpSpPr>
          <a:xfrm>
            <a:off x="2289240" y="1793880"/>
            <a:ext cx="1758960" cy="1758960"/>
            <a:chOff x="2289240" y="1793880"/>
            <a:chExt cx="1758960" cy="1758960"/>
          </a:xfrm>
        </p:grpSpPr>
        <p:pic>
          <p:nvPicPr>
            <p:cNvPr id="138" name="Picture 33" descr="RM_0677"/>
            <p:cNvPicPr/>
            <p:nvPr/>
          </p:nvPicPr>
          <p:blipFill>
            <a:blip r:embed="rId3"/>
            <a:stretch/>
          </p:blipFill>
          <p:spPr>
            <a:xfrm rot="1221600">
              <a:off x="2484360" y="198900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4"/>
            <p:cNvSpPr/>
            <p:nvPr/>
          </p:nvSpPr>
          <p:spPr>
            <a:xfrm>
              <a:off x="2771640" y="2276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5313600" y="2513160"/>
            <a:ext cx="1758960" cy="1758960"/>
            <a:chOff x="5313600" y="2513160"/>
            <a:chExt cx="1758960" cy="1758960"/>
          </a:xfrm>
        </p:grpSpPr>
        <p:pic>
          <p:nvPicPr>
            <p:cNvPr id="141" name="Picture 42" descr="RM_0677"/>
            <p:cNvPicPr/>
            <p:nvPr/>
          </p:nvPicPr>
          <p:blipFill>
            <a:blip r:embed="rId4"/>
            <a:stretch/>
          </p:blipFill>
          <p:spPr>
            <a:xfrm rot="1221600">
              <a:off x="5508720" y="2708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43"/>
            <p:cNvSpPr/>
            <p:nvPr/>
          </p:nvSpPr>
          <p:spPr>
            <a:xfrm>
              <a:off x="5796000" y="2995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51" descr="MCj01933360000[1]"/>
          <p:cNvPicPr/>
          <p:nvPr/>
        </p:nvPicPr>
        <p:blipFill>
          <a:blip r:embed="rId5"/>
          <a:stretch/>
        </p:blipFill>
        <p:spPr>
          <a:xfrm>
            <a:off x="7236000" y="3141720"/>
            <a:ext cx="14238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4739 L 0.00382 0.29873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1572 L -0.0276 0.34636 E">
                                      <p:cBhvr>
                                        <p:cTn id="15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6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1572 L 0.01962 0.32509 E">
                                      <p:cBhvr>
                                        <p:cTn id="16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3336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87708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308124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6"/>
          <a:stretch/>
        </p:blipFill>
        <p:spPr>
          <a:xfrm>
            <a:off x="5148360" y="3284640"/>
            <a:ext cx="914400" cy="93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3059280" y="1628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148360" y="1628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948360" y="3284640"/>
            <a:ext cx="7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148360" y="328464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 rot="807000">
            <a:off x="6948000" y="5084640"/>
            <a:ext cx="86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7"/>
          <a:stretch/>
        </p:blipFill>
        <p:spPr>
          <a:xfrm>
            <a:off x="900000" y="162864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8"/>
          <a:stretch/>
        </p:blipFill>
        <p:spPr>
          <a:xfrm>
            <a:off x="6804000" y="1700280"/>
            <a:ext cx="914400" cy="936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6"/>
          <p:cNvSpPr/>
          <p:nvPr/>
        </p:nvSpPr>
        <p:spPr>
          <a:xfrm>
            <a:off x="900000" y="3284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 rot="21468600">
            <a:off x="899640" y="1628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6804000" y="170028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132000" y="3284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987640" y="5805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责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我不是"/>
          <p:cNvPicPr/>
          <p:nvPr/>
        </p:nvPicPr>
        <p:blipFill>
          <a:blip r:embed="rId1"/>
          <a:stretch/>
        </p:blipFill>
        <p:spPr>
          <a:xfrm>
            <a:off x="250920" y="-5932440"/>
            <a:ext cx="9144000" cy="14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>
            <a:off x="792000" y="476280"/>
            <a:ext cx="835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突然，响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轰隆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雷声，飘下几滴雨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突然，响起雷声，飘下几滴雨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接着，刮起了狂风，大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刷刷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下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接着，刮起了狂风，大雨下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00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