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774C-99C0-4684-A49B-0F3F9A91BE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F0A2-B3ED-4643-A2E3-58FC94380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4780-6B9D-497C-9B3E-72E0F9983E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DE1-4B13-4B1B-8D8A-3CBE4E2D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EFE-CE75-433A-BB06-6801F404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7A875-7331-4BF4-9A19-1F49FE6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AE40E-E217-47F6-BDDB-747C3B0E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D336F-6B67-492D-9A07-24924734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E04F8-6A6F-4BB1-AACE-F70CCA9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20729-D0EE-4AAA-966B-7FCB556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482F4-D148-4F76-8C12-BB9B1782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3EBA8-D3BA-401B-AB36-F0176D29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BD244-9C0F-444D-85F4-2DE6A5EF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5E18D-9C2A-4584-896B-21B5C764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73A60-8FF1-41FA-B16B-42C1AAFD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C1F-991D-4223-9920-3DBAFF68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AD160-ACBA-4B86-A9E3-DBE2AA88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D9300-710A-46FD-BB25-BA84BFBF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9138F-5ADF-49E1-9373-8F6A0CA2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7ACE4-7F72-4AE0-8696-4EB7CB4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1D80B-8C6C-4C7E-A64A-910D04B7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10F74-74E2-4EAA-ADE2-B614348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D444F-4EA8-4D9C-8CD9-CB7BDCE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CF62E-FBFF-4DDB-A34B-4E863AC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FCB30-14AF-45E9-B9A9-258BD1B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9AEC7-D6B3-479F-B93D-C0BFABFA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D86-6961-4F64-A373-D40E14F8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46AC5-8DEF-40F7-B31A-ABD758C6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0F513-274C-4772-857C-D1ED9C19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8FB7D-B54A-4368-8DEE-C37A3489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50114-2237-4438-9151-E0DDB267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0F590-CC45-431C-A9DE-FF948CAA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272A1-71E4-43DA-8682-D147832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28F55-80B5-4176-9BAB-3C8D96A1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117FD-4757-498E-A34E-1120F4EE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D3439-C3ED-4BB0-BC8C-16D080BD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CD2A4-6CA2-452F-85FE-017689D9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16BB-A80B-4689-8276-983016B8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6C526-5213-4D07-B7FE-7BC9B34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3CBEA-3A68-484F-B3B3-1D36DD3B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7508-EFE8-4F4A-AB84-4139892F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4955-768D-4EF1-95E4-3A7B9D6B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58A9-18DF-433E-9B93-DC61D494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A6EF-B75F-47AD-860D-B3FB1DB3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F792-8500-4195-8F07-A04674BE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F51B-351E-4E2D-93EC-FFB14F3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2038-3F5F-4CCF-91C0-2597EFD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5BD-702F-4A4F-8EDF-036236F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48FC-BB9A-4F3E-8CB6-DC0C591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85ED-DE84-469E-B23B-4D51FA7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A57F-4D82-4B61-8C8B-D074DEDF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3772-F062-4658-8FD0-C6E56F21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3B1-1F20-48A5-826B-26BDEE8B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8D0E-40FB-40B1-AD6A-1E347395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8AA4-EC2A-49E6-82DF-F5D79512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C639-A847-4C03-BD6E-73AF4416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3788-3BA8-4434-A932-D8599F06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B269-46DB-4096-B763-23F1DDB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C76-5AA2-451C-8E48-E0E55F04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0CEF-95DB-46C8-B277-E72892F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10E6-8474-47C5-9DF8-03B4325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7E79-9CA3-44CA-9A24-60258EFF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5FF2-EE0D-4DAF-A878-AC10C23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72FD-AA3C-4A6F-A46E-220EAFF0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4C6F-2415-4ACB-A2CF-791DB331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F81B-C175-4746-8691-0FA05638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EA8C-B77B-47A4-A33E-D183B336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E0CE1-71FF-4B3E-802E-549483AE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B9C2-8BA1-4ECF-8A0F-B33DE46C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03F-E3FE-47BC-A0ED-3B1BFCB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8768-BFDB-4DBD-A70D-954421F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A38D-D093-42E1-9741-27EF232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D104-EF7B-4D25-AA15-39998343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6D46-C100-4CA5-BA1E-6F865923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E620-5FC5-44D0-A8A2-4F148CA9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F2E1-0A54-4380-8477-5C96247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39B63-77F9-46A1-9075-21E7D51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5E51-48FD-42D8-A6E2-8916166C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6B469-6629-4D57-A84D-5AB999E1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6638-A1D0-47EA-900C-0A6EF464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F8E-4A05-4FC7-9A4C-AC72348F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2EDD3-8671-4EB8-BB63-21FC72A4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11FEA-E224-4149-AF05-556D00F1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AA46B-5168-40A9-8D65-76321C6D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94F16-703B-4202-85F9-DA98DDA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5202-F913-44C2-95A1-EE6F1C78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E573-0744-496D-8423-6F26B512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753A-33EF-4EDB-B2EE-AE87CE1B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D56A-BC80-444D-AFF6-25E06976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718B-563E-48CD-88FD-40E8F340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4806C-020F-4AD6-BBAC-98CB4F0C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157-DC30-432E-982C-33F39245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2C05A-67CA-4A58-AF46-389E88D6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4FA17-79D2-4959-BFD5-ED3879F2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B6F6A-BA97-4405-A8E2-6398788A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00069-F943-4A67-A412-60AAF81C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54C7-7D07-472B-87E1-F2461173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67A2D-98CA-4AA6-B2D9-DA18498C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CC13-9BE7-47AA-8A64-18762D36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2F54D-2A0F-438E-ACA7-43CFDFA6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D7278-CC7B-4026-AF90-00E68BB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0567D-3342-446A-986B-310163DA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D1A-8783-4032-89FE-9EE29B1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FD27F-296A-4201-BC58-6142FBCF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2DA0C-44D9-4BD3-BB40-8512CF04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BBA2-8CCD-4058-8FB6-B46E4393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D2376-788C-48D0-AE13-0EBE8047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855E3-853C-42DB-8434-B9B04166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D2650-DC7A-4B21-8FEB-A73032F8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09D4-4768-493E-AE9D-80502EA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0405-F942-4EEB-B83A-904EB8BF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484D-E803-447B-8235-6031AE77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249A7-C948-4880-ADE1-F14ED48E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215-52A1-47C5-AD35-1488173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16939-994C-4B31-BFB3-35C081F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5EED-FE9B-4204-A1DC-3BA1B5BE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66C6F-57A3-41B8-954C-A8895FB0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51C23-37B9-4ACF-9E48-DC5A85D1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0F568-F01D-41DF-9FEA-566B7B37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1D298-53E2-4095-B020-29864976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5EF32-C4E3-458E-920D-C6140202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C6952-D6C6-4D0A-B8AB-F0D803BF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76C5B-A393-4278-B91A-5A6E32F9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22616-851F-40C1-BEF2-9BD0D483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079-8C37-41D6-A80F-8388C77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5637-9F27-4899-9328-95426D88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0AC99-605C-4710-8AA5-88466FF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2689D-C597-4E74-8F14-158C308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FC30C-17A9-4B5B-B48F-8175BB7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63D39-00CD-4C98-AF46-ACCDCCB9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720B8-5913-4733-B6E1-555B7E21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62544-DD0B-4282-AB84-CF7D06DD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C7BBF-B186-4209-8BC2-10D64342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13BA5-7F84-4A96-9075-BB7C237F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28158-F5EA-4137-8A4D-39DEAF88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1DA-7E5C-4913-8936-36A30D570A4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DDFA-5962-44E0-8437-71EBF4BC1BE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099-C544-4B23-B779-07998FFF1E6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86EF-196C-4DF2-9C95-B03EE6FB48A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FF9C-828B-4487-B21A-EDE1C7DFFF4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11AB-FC3A-4CD1-AA4E-5381CC90F33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D144-607E-4184-AF9F-221F33F921E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F8F7-10E9-4827-97C3-803CE1EF6AF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EB71-8618-4678-9095-15733D70929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F94A-ED3A-4C90-8E92-35A047A047B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2F96-830B-4260-B6CA-58AFA2DA23B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120" y="155700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003300"/>
                </a:solidFill>
                <a:latin typeface="华文隶书"/>
                <a:ea typeface="华文隶书"/>
              </a:rPr>
              <a:t>渭 城 曲</a:t>
            </a:r>
            <a:endParaRPr b="0" lang="en-US" sz="13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184896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d90b8f02f0d73d0f4afb5110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4"/>
          <p:cNvSpPr/>
          <p:nvPr/>
        </p:nvSpPr>
        <p:spPr>
          <a:xfrm>
            <a:off x="0" y="333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出阳关无故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9"/>
          <p:cNvSpPr/>
          <p:nvPr/>
        </p:nvSpPr>
        <p:spPr>
          <a:xfrm>
            <a:off x="755640" y="4734000"/>
            <a:ext cx="86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  <a:ea typeface="楷体_GB2312"/>
              </a:rPr>
              <a:t>阳关：古关名，在今甘肃敦煌西南，因 位于玉门关之南，故称为阳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Arial"/>
                <a:ea typeface="楷体_GB2312"/>
              </a:rPr>
              <a:t>为出塞要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20080306_b7c49c8005dd88201b4fo0qSmQS9dTGQ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2522520" y="73188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作者要与友人分别，为什么要写这些景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711960" y="1484280"/>
            <a:ext cx="24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朝雨”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绵绵细雨说明这一天气不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给离别更增几分忧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258920" y="2781360"/>
            <a:ext cx="114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柳色新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柳树充满生机，朋友却要别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悲伤之情油然而生。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1756800" y="3849840"/>
            <a:ext cx="563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与朋友分别时之所以要写景物，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为了反映诗人当时的心情，我们现在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文时也常常会用到这种方法，这种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叫“借景抒情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0" y="6021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20080306_b7c49c8005dd88201b4fo0qSmQS9dTGQ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1415520" y="3035160"/>
            <a:ext cx="67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表达了作者对朋友的依依不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及与朋友之间的深情厚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2084760" y="549360"/>
            <a:ext cx="53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在诗中通过对景物的描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达了作者怎样的思想感情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2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渭城曲</a:t>
            </a:r>
            <a:br>
              <a:rPr sz="4000"/>
            </a:br>
            <a:r>
              <a:rPr b="0" lang="zh-CN" sz="4000" spc="-1" strike="noStrike">
                <a:solidFill>
                  <a:srgbClr val="2f2f2f"/>
                </a:solidFill>
                <a:latin typeface="Franklin Gothic Medium"/>
              </a:rPr>
              <a:t>                   （</a:t>
            </a:r>
            <a:r>
              <a:rPr b="1" lang="zh-CN" sz="32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唐） </a:t>
            </a:r>
            <a:r>
              <a:rPr b="0" lang="zh-CN" sz="32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王维</a:t>
            </a:r>
            <a:r>
              <a:rPr b="1" lang="zh-CN" sz="40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渭城朝雨浥轻尘，</a:t>
            </a:r>
            <a:br>
              <a:rPr sz="4000"/>
            </a:br>
            <a:r>
              <a:rPr b="1" lang="zh-CN" sz="3600" spc="-1" strike="noStrike">
                <a:solidFill>
                  <a:srgbClr val="2f2f2f"/>
                </a:solidFill>
                <a:latin typeface="黑体"/>
                <a:ea typeface="黑体"/>
              </a:rPr>
              <a:t>渭城早晨一场春雨沾湿了轻尘，</a:t>
            </a:r>
            <a:br>
              <a:rPr sz="4800"/>
            </a:br>
            <a:r>
              <a:rPr b="1" lang="zh-CN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客舍青青柳色新。</a:t>
            </a:r>
            <a:br>
              <a:rPr sz="4000"/>
            </a:br>
            <a:r>
              <a:rPr b="1" lang="zh-CN" sz="3600" spc="-1" strike="noStrike">
                <a:solidFill>
                  <a:srgbClr val="2f2f2f"/>
                </a:solidFill>
                <a:latin typeface="黑体"/>
                <a:ea typeface="黑体"/>
              </a:rPr>
              <a:t>客舍周围青青的柳树格外清新。</a:t>
            </a:r>
            <a:r>
              <a:rPr b="1" lang="zh-CN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劝君更尽一杯酒，</a:t>
            </a:r>
            <a:br>
              <a:rPr sz="4000"/>
            </a:br>
            <a:r>
              <a:rPr b="1" lang="zh-CN" sz="3600" spc="-1" strike="noStrike">
                <a:solidFill>
                  <a:srgbClr val="2f2f2f"/>
                </a:solidFill>
                <a:latin typeface="黑体"/>
                <a:ea typeface="黑体"/>
              </a:rPr>
              <a:t>老朋友请你再干一杯饯别酒吧，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r>
              <a:rPr b="1" lang="zh-CN" sz="40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西出阳关无故人。</a:t>
            </a:r>
            <a:br>
              <a:rPr sz="4000"/>
            </a:br>
            <a:r>
              <a:rPr b="1" lang="zh-CN" sz="3600" spc="-1" strike="noStrike">
                <a:solidFill>
                  <a:srgbClr val="2f2f2f"/>
                </a:solidFill>
                <a:latin typeface="黑体"/>
                <a:ea typeface="黑体"/>
              </a:rPr>
              <a:t>出了阳关西路再也没有老友人。</a:t>
            </a:r>
            <a:br>
              <a:rPr sz="4000"/>
            </a:b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708000" y="2204640"/>
            <a:ext cx="4724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渭城曲</a:t>
            </a:r>
            <a:br>
              <a:rPr sz="3600"/>
            </a:br>
            <a:r>
              <a:rPr b="0" lang="zh-CN" sz="3600" spc="-1" strike="noStrike">
                <a:solidFill>
                  <a:srgbClr val="2f2f2f"/>
                </a:solidFill>
                <a:latin typeface="Franklin Gothic Medium"/>
              </a:rPr>
              <a:t>               </a:t>
            </a:r>
            <a:r>
              <a:rPr b="1" lang="zh-CN" sz="3600" spc="-1" strike="noStrike">
                <a:solidFill>
                  <a:srgbClr val="2f2f2f"/>
                </a:solidFill>
                <a:latin typeface="Franklin Gothic Medium"/>
              </a:rPr>
              <a:t> </a:t>
            </a:r>
            <a:r>
              <a:rPr b="1" lang="zh-CN" sz="29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唐 </a:t>
            </a:r>
            <a:r>
              <a:rPr b="0" lang="zh-CN" sz="29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  </a:t>
            </a:r>
            <a:r>
              <a:rPr b="1" lang="zh-CN" sz="29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王维</a:t>
            </a:r>
            <a:r>
              <a:rPr b="1" lang="zh-CN" sz="36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2f2f2f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渭城朝雨浥轻尘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客舍青青柳色新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劝君更尽一杯酒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 西出阳关无故人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50" name="Picture 5" descr="11572967384633754"/>
          <p:cNvPicPr/>
          <p:nvPr/>
        </p:nvPicPr>
        <p:blipFill>
          <a:blip r:embed="rId2"/>
          <a:stretch/>
        </p:blipFill>
        <p:spPr>
          <a:xfrm>
            <a:off x="0" y="1484280"/>
            <a:ext cx="3995640" cy="4098960"/>
          </a:xfrm>
          <a:prstGeom prst="rect">
            <a:avLst/>
          </a:prstGeom>
          <a:ln w="0">
            <a:noFill/>
          </a:ln>
        </p:spPr>
      </p:pic>
      <p:pic>
        <p:nvPicPr>
          <p:cNvPr id="551" name="渭城曲.mp3" descr=""/>
          <p:cNvPicPr/>
          <p:nvPr/>
        </p:nvPicPr>
        <p:blipFill>
          <a:blip r:embed="rId3"/>
          <a:stretch/>
        </p:blipFill>
        <p:spPr>
          <a:xfrm>
            <a:off x="7740720" y="584208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3119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900000" y="162864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684360" y="1628640"/>
            <a:ext cx="79200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传在元二到达安西 一年后，曾写信给王维，展开想象，或模仿古人的语言，或运用自己的语言，写一写这封信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两首诗都是送别诗，都是绝句，两首诗都先进行了情景描写，再写送别的场面，但诗人的情况不同，朋友出行的情况不同，诗人体现的情感也不同，前者蕴含依依惜别之情，后者诗人却以开朗的胸襟、豪迈的语调把临别赠言说的慷慨激昂，鼓舞人心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0920" y="2852640"/>
            <a:ext cx="8281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f2f"/>
                </a:solidFill>
                <a:latin typeface="Franklin Gothic Medium"/>
              </a:rPr>
              <a:t>这两首诗从内容和情感上讲都是写送别的，前两句都是在写景，后两句抒情。前者在写景的同时写出了送别的时间、地点、环境气氛，借助“折柳”象征离别情绪，蕴含着依依惜别的挚情，后者里的景物描写，衬托了作者开阔的胸襟和豪迈的气魄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</a:rPr>
              <a:t>。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6" name="文本框 1"/>
          <p:cNvSpPr/>
          <p:nvPr/>
        </p:nvSpPr>
        <p:spPr>
          <a:xfrm>
            <a:off x="2481120" y="5959440"/>
            <a:ext cx="57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r>
              <a:rPr b="0" lang="zh-CN" sz="1400" spc="-1" strike="noStrike" u="sng">
                <a:solidFill>
                  <a:srgbClr val="00d5d5"/>
                </a:solidFill>
                <a:uFillTx/>
                <a:latin typeface="Franklin Gothic Book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d5d5"/>
                </a:solidFill>
                <a:uFillTx/>
                <a:latin typeface="Franklin Gothic Book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答辩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Franklin Gothic Book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0F4C-FD58-409B-A418-9C560E7131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6" descr="20045138104379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5"/>
          <p:cNvSpPr/>
          <p:nvPr/>
        </p:nvSpPr>
        <p:spPr>
          <a:xfrm>
            <a:off x="0" y="765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7546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c47546"/>
                </a:solidFill>
                <a:latin typeface="楷体_GB2312"/>
                <a:ea typeface="楷体_GB2312"/>
              </a:rPr>
              <a:t>渭城曲</a:t>
            </a:r>
            <a:r>
              <a:rPr b="1" lang="en-US" sz="4400" spc="-1" strike="noStrike">
                <a:solidFill>
                  <a:srgbClr val="c47546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c47546"/>
                </a:solidFill>
                <a:latin typeface="楷体_GB2312"/>
                <a:ea typeface="楷体_GB2312"/>
              </a:rPr>
              <a:t>原名为</a:t>
            </a:r>
            <a:r>
              <a:rPr b="1" lang="en-US" sz="4400" spc="-1" strike="noStrike">
                <a:solidFill>
                  <a:srgbClr val="c47546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c47546"/>
                </a:solidFill>
                <a:latin typeface="楷体_GB2312"/>
                <a:ea typeface="楷体_GB2312"/>
              </a:rPr>
              <a:t>送元二使安西</a:t>
            </a:r>
            <a:r>
              <a:rPr b="1" lang="en-US" sz="4400" spc="-1" strike="noStrike">
                <a:solidFill>
                  <a:srgbClr val="c47546"/>
                </a:solidFill>
                <a:latin typeface="楷体_GB2312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900000" y="17845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元二：作者的友人。古人常以兄弟排行称呼，类似现在的“元老二”</a:t>
            </a:r>
            <a:r>
              <a:rPr b="1" lang="zh-CN" sz="3600" spc="-1" strike="noStrike">
                <a:solidFill>
                  <a:srgbClr val="2f2f2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196720" y="3789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使：出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4217760" y="4797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安西：唐代安西都护府的治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20080306_b7c49c8005dd88201b4fo0qSmQS9dTGQ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1422000" y="1092240"/>
            <a:ext cx="6252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渭城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唐</a:t>
            </a:r>
            <a:r>
              <a:rPr b="1" lang="en-US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·</a:t>
            </a: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王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渭城朝雨浥轻尘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客舍青青柳色新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劝君更尽一杯酒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西出阳关无故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>
            <a:hlinkClick r:id="rId2" action="ppaction://hlinksldjump"/>
          </p:cNvPr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200442192926275"/>
          <p:cNvPicPr/>
          <p:nvPr/>
        </p:nvPicPr>
        <p:blipFill>
          <a:blip r:embed="rId3"/>
          <a:stretch/>
        </p:blipFill>
        <p:spPr>
          <a:xfrm>
            <a:off x="114300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501" name="Freeform 6"/>
          <p:cNvSpPr/>
          <p:nvPr/>
        </p:nvSpPr>
        <p:spPr>
          <a:xfrm>
            <a:off x="2209680" y="2133720"/>
            <a:ext cx="3108600" cy="1027080"/>
          </a:xfrm>
          <a:custGeom>
            <a:avLst/>
            <a:gdLst/>
            <a:ahLst/>
            <a:rect l="l" t="t" r="r" b="b"/>
            <a:pathLst>
              <a:path w="1958" h="647">
                <a:moveTo>
                  <a:pt x="1958" y="647"/>
                </a:moveTo>
                <a:lnTo>
                  <a:pt x="1852" y="603"/>
                </a:lnTo>
                <a:lnTo>
                  <a:pt x="1781" y="594"/>
                </a:lnTo>
                <a:lnTo>
                  <a:pt x="1666" y="585"/>
                </a:lnTo>
                <a:lnTo>
                  <a:pt x="1579" y="539"/>
                </a:lnTo>
                <a:lnTo>
                  <a:pt x="1488" y="494"/>
                </a:lnTo>
                <a:lnTo>
                  <a:pt x="1391" y="408"/>
                </a:lnTo>
                <a:lnTo>
                  <a:pt x="1311" y="346"/>
                </a:lnTo>
                <a:lnTo>
                  <a:pt x="1222" y="310"/>
                </a:lnTo>
                <a:lnTo>
                  <a:pt x="1081" y="310"/>
                </a:lnTo>
                <a:lnTo>
                  <a:pt x="974" y="319"/>
                </a:lnTo>
                <a:lnTo>
                  <a:pt x="886" y="301"/>
                </a:lnTo>
                <a:lnTo>
                  <a:pt x="833" y="186"/>
                </a:lnTo>
                <a:lnTo>
                  <a:pt x="717" y="80"/>
                </a:lnTo>
                <a:lnTo>
                  <a:pt x="619" y="110"/>
                </a:lnTo>
                <a:lnTo>
                  <a:pt x="540" y="124"/>
                </a:lnTo>
                <a:lnTo>
                  <a:pt x="469" y="98"/>
                </a:lnTo>
                <a:lnTo>
                  <a:pt x="354" y="62"/>
                </a:lnTo>
                <a:lnTo>
                  <a:pt x="265" y="36"/>
                </a:lnTo>
                <a:lnTo>
                  <a:pt x="177" y="18"/>
                </a:lnTo>
                <a:lnTo>
                  <a:pt x="106" y="0"/>
                </a:lnTo>
                <a:lnTo>
                  <a:pt x="35" y="27"/>
                </a:lnTo>
                <a:lnTo>
                  <a:pt x="0" y="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5410080" y="2971800"/>
            <a:ext cx="30492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4218120" y="297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5410080" y="320040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4572000" y="289548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2133720" y="2209680"/>
            <a:ext cx="7596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2">
            <a:hlinkClick r:id="rId4" action="ppaction://hlinksldjump"/>
          </p:cNvPr>
          <p:cNvSpPr/>
          <p:nvPr/>
        </p:nvSpPr>
        <p:spPr>
          <a:xfrm>
            <a:off x="193356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3"/>
          <p:cNvSpPr/>
          <p:nvPr/>
        </p:nvSpPr>
        <p:spPr>
          <a:xfrm>
            <a:off x="5326200" y="3149640"/>
            <a:ext cx="83880" cy="52200"/>
          </a:xfrm>
          <a:custGeom>
            <a:avLst/>
            <a:gdLst/>
            <a:ahLst/>
            <a:rect l="l" t="t" r="r" b="b"/>
            <a:pathLst>
              <a:path w="53" h="33">
                <a:moveTo>
                  <a:pt x="0" y="0"/>
                </a:moveTo>
                <a:lnTo>
                  <a:pt x="53" y="3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1" descr="王维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矩形 4"/>
          <p:cNvSpPr/>
          <p:nvPr/>
        </p:nvSpPr>
        <p:spPr>
          <a:xfrm>
            <a:off x="0" y="404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文学常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王维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摩诘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，盛唐时期的著名诗人，崇信佛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人物、丛竹、山水，又是唐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山水田园派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的代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他的诗、画成就都很高，尤以山水诗成就为最，他的诗被苏轼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诗中有画，画中有诗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，与孟浩然合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王孟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晚年专诚奉佛，故后世人称其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诗佛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photo5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3"/>
          <p:cNvSpPr/>
          <p:nvPr/>
        </p:nvSpPr>
        <p:spPr>
          <a:xfrm>
            <a:off x="8001000" y="34290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389280" y="304920"/>
            <a:ext cx="275472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渭城朝雨浥轻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客舍青青柳色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601640" y="508464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朝雨：清晨的细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浥：湿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4392360" y="5661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客舍：客中送客。王维是山西人，却在陕西送别好友，倍感神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3900600" y="1077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柳：谐音：留，挽留之意，古人有折柳送别的习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20080306_b7c49c8005dd88201b4fo0qSmQS9dTGQ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3"/>
          <p:cNvSpPr/>
          <p:nvPr/>
        </p:nvSpPr>
        <p:spPr>
          <a:xfrm>
            <a:off x="3182040" y="8424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客舍青青柳色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1014840" y="1305000"/>
            <a:ext cx="263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ě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è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1763640" y="155736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3841920" y="1413000"/>
            <a:ext cx="79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舍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宿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3233160" y="3611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柳色新：柳色新鲜翠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3870000" y="5229360"/>
            <a:ext cx="427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旅舍淋过雨后更干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路边的杨柳也更加青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3169800" y="4149720"/>
            <a:ext cx="49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古有折柳送别的习俗，这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有柳色象征着送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uploadfile19594"/>
          <p:cNvPicPr/>
          <p:nvPr/>
        </p:nvPicPr>
        <p:blipFill>
          <a:blip r:embed="rId2"/>
          <a:stretch/>
        </p:blipFill>
        <p:spPr>
          <a:xfrm>
            <a:off x="0" y="-631800"/>
            <a:ext cx="9144000" cy="74898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219600" y="4245120"/>
            <a:ext cx="20235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劝君更进一杯酒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西出阳关无故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阳关三叠.mp3" descr=""/>
          <p:cNvPicPr/>
          <p:nvPr/>
        </p:nvPicPr>
        <p:blipFill>
          <a:blip r:embed="rId3"/>
          <a:stretch/>
        </p:blipFill>
        <p:spPr>
          <a:xfrm>
            <a:off x="774072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5"/>
          <p:cNvSpPr/>
          <p:nvPr/>
        </p:nvSpPr>
        <p:spPr>
          <a:xfrm>
            <a:off x="3352680" y="413208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故人：好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31526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20080306_b7c49c8005dd88201b4fo0qSmQS9dTGQ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"/>
          <p:cNvSpPr/>
          <p:nvPr/>
        </p:nvSpPr>
        <p:spPr>
          <a:xfrm>
            <a:off x="2162160" y="260280"/>
            <a:ext cx="216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劝君更尽一杯酒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西出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阳关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故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189720" y="213372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0" y="4086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你就要上路了，请再饮一杯酒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出了阳关，你可就再也见不到老朋友了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0" y="21337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君：对对方的尊称，可以翻译为“您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8"/>
          <p:cNvSpPr/>
          <p:nvPr/>
        </p:nvSpPr>
        <p:spPr>
          <a:xfrm>
            <a:off x="0" y="342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更：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7:12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0:28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