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24C8-1D3B-4596-83A4-E2158F01F4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A251-1901-4F42-8FF6-6739D4CD77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C99-1B9C-48FA-9987-8EC26F7B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23F3-01CD-4E47-9262-4F3DA36B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D27F-9DA3-47B5-87C2-955FC8A0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77E7-6A52-4AE7-9B54-7EFF03DA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72B-F45B-48E8-99D4-85F088A3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3E7-73D4-43A1-8D2B-F731A3A5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7E1-A9B3-433E-9D77-7722694E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2320-64A1-4192-A2F2-1049EC98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550-57A0-49B4-90C9-A856D782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1579-6869-4946-A18A-301313F5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92D7-1C8D-452D-9C68-43640525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6BAA-EB81-4B3D-9A2A-689FDBFF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356A-1840-4E94-9402-A29ED96A9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2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" descr=""/>
          <p:cNvPicPr/>
          <p:nvPr/>
        </p:nvPicPr>
        <p:blipFill>
          <a:blip r:embed="rId1"/>
          <a:srcRect l="0" t="0" r="0" b="3334"/>
          <a:stretch/>
        </p:blipFill>
        <p:spPr>
          <a:xfrm>
            <a:off x="912960" y="228600"/>
            <a:ext cx="7318080" cy="6629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华文行楷"/>
              </a:rPr>
              <a:t>我和我的小伙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5" descr=""/>
          <p:cNvPicPr/>
          <p:nvPr/>
        </p:nvPicPr>
        <p:blipFill>
          <a:blip r:embed="rId2"/>
          <a:stretch/>
        </p:blipFill>
        <p:spPr>
          <a:xfrm>
            <a:off x="1436760" y="6126120"/>
            <a:ext cx="640224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728720" y="289080"/>
            <a:ext cx="5209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书要求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拼音，自由读课文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准字音，读通句子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不认识的字画出来 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9840" y="11160"/>
            <a:ext cx="822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和我的小伙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是小河里的一滴水。一天，我从小河里独自跑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搁浅的木船见了我，高兴的喊起来：“有水啦，有水啦，我能航行啦！”可是，我的劲太小了，怎们能托起一条木船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枯的禾苗见了我，高兴的喊起来：“有水啦，有水啦，我们得救啦！”可是，只有我这一滴水，连一棵禾苗也救不活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跑回小河，唤来了我的小伙伴。我们流到木船下，肩并着肩，手挽着手，齐心协力托起了木船。木船高兴地说：“谢谢你和你的小伙伴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汇成清清的水流，来到稻田里，尽情地浇灌着干枯的禾苗。禾苗高兴地说：“谢谢你和你的小伙伴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03320" y="1042920"/>
            <a:ext cx="8226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伙伴 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滴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木船   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喊起来 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航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禾苗   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跑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14440" y="858960"/>
            <a:ext cx="82263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伙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木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喊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航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禾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跑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"/>
          <p:cNvSpPr/>
          <p:nvPr/>
        </p:nvSpPr>
        <p:spPr>
          <a:xfrm>
            <a:off x="1674720" y="5613480"/>
            <a:ext cx="55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QQ图片20141203161408"/>
          <p:cNvPicPr/>
          <p:nvPr/>
        </p:nvPicPr>
        <p:blipFill>
          <a:blip r:embed="rId1"/>
          <a:stretch/>
        </p:blipFill>
        <p:spPr>
          <a:xfrm>
            <a:off x="31680" y="4680"/>
            <a:ext cx="2940120" cy="2925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QQ图片20141203161453"/>
          <p:cNvPicPr/>
          <p:nvPr/>
        </p:nvPicPr>
        <p:blipFill>
          <a:blip r:embed="rId2"/>
          <a:stretch/>
        </p:blipFill>
        <p:spPr>
          <a:xfrm>
            <a:off x="2971800" y="6480"/>
            <a:ext cx="2925720" cy="292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QQ图片20141203161508"/>
          <p:cNvPicPr/>
          <p:nvPr/>
        </p:nvPicPr>
        <p:blipFill>
          <a:blip r:embed="rId3"/>
          <a:stretch/>
        </p:blipFill>
        <p:spPr>
          <a:xfrm>
            <a:off x="5897520" y="6480"/>
            <a:ext cx="2954520" cy="2923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QQ图片20141203161529"/>
          <p:cNvPicPr/>
          <p:nvPr/>
        </p:nvPicPr>
        <p:blipFill>
          <a:blip r:embed="rId4"/>
          <a:stretch/>
        </p:blipFill>
        <p:spPr>
          <a:xfrm>
            <a:off x="31680" y="2930400"/>
            <a:ext cx="2940120" cy="2911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QQ图片20141203161542"/>
          <p:cNvPicPr/>
          <p:nvPr/>
        </p:nvPicPr>
        <p:blipFill>
          <a:blip r:embed="rId5"/>
          <a:stretch/>
        </p:blipFill>
        <p:spPr>
          <a:xfrm>
            <a:off x="2971800" y="2930400"/>
            <a:ext cx="2925720" cy="2911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QQ图片20141203161558"/>
          <p:cNvPicPr/>
          <p:nvPr/>
        </p:nvPicPr>
        <p:blipFill>
          <a:blip r:embed="rId6"/>
          <a:stretch/>
        </p:blipFill>
        <p:spPr>
          <a:xfrm>
            <a:off x="5897520" y="2930400"/>
            <a:ext cx="295452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7BE2-ED44-4C64-BF0A-713937939E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375996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373809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9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2010102319142057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3"/>
          <p:cNvSpPr/>
          <p:nvPr/>
        </p:nvSpPr>
        <p:spPr>
          <a:xfrm>
            <a:off x="1752480" y="25146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2010102318553747"/>
          <p:cNvPicPr/>
          <p:nvPr/>
        </p:nvPicPr>
        <p:blipFill>
          <a:blip r:embed="rId1"/>
          <a:stretch/>
        </p:blipFill>
        <p:spPr>
          <a:xfrm>
            <a:off x="228600" y="-30240"/>
            <a:ext cx="861048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45235843507183074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17b414802583a1f69023d9c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2541781e2216503e403417d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13743szfmshuf7pdmlmd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55:3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7:57Z</dcterms:modified>
  <cp:revision>1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