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2439-3331-4A3F-8F37-EA3BE04B0D3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C552-D734-49F7-835C-33B81EC5EA7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6EA0-F7B3-4D68-9297-317DD7C84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83EC-FCF5-4807-9CF8-05162644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53BF-67F1-4964-B1E0-E8B332E45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6C62-D7E5-4434-9E48-F5ED2E4B8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19D0-EDC1-4C8C-B6B4-717A0C28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9FED-0426-41C8-9A8F-FFE011EA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C7E3-E11D-4A26-9EE9-824489DE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48E1-4399-482E-A5B9-E8E2BC45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D02B-3468-47D9-9536-836F449A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D2C2-AAB1-4E29-90C0-6B0EECE8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CC07-BE97-47C8-8F8A-546F4471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795C-E5BB-4859-BFB6-E00E0EE7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F989-41DE-4E06-8754-BEC2AD40F7F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25CE-5F06-4A3B-9D87-83211DDDC5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820960" y="1835280"/>
            <a:ext cx="383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隶书"/>
                <a:ea typeface="华文隶书"/>
              </a:rPr>
              <a:t>我家的大花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1696320" y="543888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19_看图王"/>
          <p:cNvPicPr/>
          <p:nvPr/>
        </p:nvPicPr>
        <p:blipFill>
          <a:blip r:embed="rId1"/>
          <a:stretch/>
        </p:blipFill>
        <p:spPr>
          <a:xfrm>
            <a:off x="177840" y="39600"/>
            <a:ext cx="8823240" cy="662472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5"/>
          <p:cNvSpPr/>
          <p:nvPr/>
        </p:nvSpPr>
        <p:spPr>
          <a:xfrm>
            <a:off x="1246320" y="546120"/>
            <a:ext cx="7026120" cy="4275000"/>
          </a:xfrm>
          <a:prstGeom prst="roundRect">
            <a:avLst>
              <a:gd name="adj" fmla="val 16667"/>
            </a:avLst>
          </a:prstGeom>
          <a:solidFill>
            <a:srgbClr val="cfdef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595240" y="1235160"/>
            <a:ext cx="49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课堂小练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2513880" y="2006640"/>
            <a:ext cx="471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仿“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了，就像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了。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了，就像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了”的句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说一句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1920960" y="2921040"/>
            <a:ext cx="57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设计意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通过小练笔，让学生感悟排比句和拟人句的语言效果，体会作者儿童时天真烂漫的童趣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789_看图王"/>
          <p:cNvPicPr/>
          <p:nvPr/>
        </p:nvPicPr>
        <p:blipFill>
          <a:blip r:embed="rId1"/>
          <a:stretch/>
        </p:blipFill>
        <p:spPr>
          <a:xfrm>
            <a:off x="50760" y="66600"/>
            <a:ext cx="9148680" cy="642960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5"/>
          <p:cNvSpPr/>
          <p:nvPr/>
        </p:nvSpPr>
        <p:spPr>
          <a:xfrm>
            <a:off x="423720" y="512640"/>
            <a:ext cx="6505560" cy="3800520"/>
          </a:xfrm>
          <a:prstGeom prst="roundRect">
            <a:avLst>
              <a:gd name="adj" fmla="val 16667"/>
            </a:avLst>
          </a:prstGeom>
          <a:solidFill>
            <a:srgbClr val="cfdef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91480" y="218448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我家的大花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  植物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503360" y="9144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（四）板书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3989520" y="1755720"/>
            <a:ext cx="252360" cy="793800"/>
          </a:xfrm>
          <a:custGeom>
            <a:avLst/>
            <a:gdLst>
              <a:gd name="textAreaLeft" fmla="*/ 0 w 252360"/>
              <a:gd name="textAreaRight" fmla="*/ 91080 w 252360"/>
              <a:gd name="textAreaTop" fmla="*/ 20520 h 793800"/>
              <a:gd name="textAreaBottom" fmla="*/ 773280 h 79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solidFill>
            <a:srgbClr val="cfdef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2803680" y="1782720"/>
            <a:ext cx="212400" cy="1560600"/>
          </a:xfrm>
          <a:custGeom>
            <a:avLst/>
            <a:gdLst>
              <a:gd name="textAreaLeft" fmla="*/ 135720 w 212400"/>
              <a:gd name="textAreaRight" fmla="*/ 212760 w 212400"/>
              <a:gd name="textAreaTop" fmla="*/ 40320 h 1560600"/>
              <a:gd name="textAreaBottom" fmla="*/ 1520280 h 156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solidFill>
            <a:srgbClr val="cfdef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046320" y="1755720"/>
            <a:ext cx="9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动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3367080" y="218448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3017880" y="2612880"/>
            <a:ext cx="26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阳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"/>
              </a:rPr>
              <a:t>明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3017880" y="2978280"/>
            <a:ext cx="26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天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"/>
              </a:rPr>
              <a:t>高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4243320" y="1955880"/>
            <a:ext cx="19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"/>
              </a:rPr>
              <a:t>自由、美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22_看图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4068720" y="123192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"/>
              </a:rPr>
              <a:t>六、教学后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819880" y="1994040"/>
            <a:ext cx="24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&lt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学生片段欣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1393920" y="2511360"/>
            <a:ext cx="7095960" cy="3614760"/>
          </a:xfrm>
          <a:prstGeom prst="roundRect">
            <a:avLst>
              <a:gd name="adj" fmla="val 16667"/>
            </a:avLst>
          </a:prstGeom>
          <a:solidFill>
            <a:srgbClr val="cfdef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2201760" y="2727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段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4029120" y="2727360"/>
            <a:ext cx="202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3182760" y="2727360"/>
            <a:ext cx="31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是花园里的小蜜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2082960" y="3297240"/>
            <a:ext cx="589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2082960" y="3092400"/>
            <a:ext cx="627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是花园里的一只小蜜蜂，我和我那漂亮的蝴蝶姐姐在花园里玩耍。我还有好多小伙伴呢，有蚂蚱哥哥，蜻蜓姐姐……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了晚上，我和蝴蝶姐姐飞到天空中去看月亮，姐姐说：“今天的星空多美啊！你看，那一颗最亮的，就是北极星。”忽然，吹来一阵冷风，我说：“姐姐，我们回去睡觉吧，好冷。”后来我们就飞回去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想：我能生活在这花园里，还有这么多小伙伴，我真的好幸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22_看图王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2949120" y="1800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段二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1819440" y="1433520"/>
            <a:ext cx="6397560" cy="4213080"/>
          </a:xfrm>
          <a:prstGeom prst="roundRect">
            <a:avLst>
              <a:gd name="adj" fmla="val 16667"/>
            </a:avLst>
          </a:prstGeom>
          <a:solidFill>
            <a:srgbClr val="cfdef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2949120" y="1800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段二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4121280" y="1800360"/>
            <a:ext cx="225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4122720" y="1800360"/>
            <a:ext cx="2475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4485600" y="18003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是花园里的一朵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1819440" y="2182680"/>
            <a:ext cx="6397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是花园里的一朵花，是小主人把我种在了花园里。我身边有小草、丝瓜、玉米，样样都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看，蜜蜂又来检查作业了，我们的作业——也就是花粉，当他们看见盛开的花时，就嗡嗡地飞来了，蝴蝶、蜻蜓、蚂蚱也来了。这时，我看见了蝴蝶飞舞，蜻蜓跳了起来，蚂蚱、蜜蜂也跳了起来，小草和我也动了起来，风姐姐看见了，也来跳舞了，小主人看见了，也跳起舞来。大家快乐地跳着、跳着，不知不觉就天黑了，风姐姐走了，大家都走了，他们要到谁家去？月亮也不知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只是天空黑黑的，又高又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22_看图王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5"/>
          <p:cNvSpPr/>
          <p:nvPr/>
        </p:nvSpPr>
        <p:spPr>
          <a:xfrm>
            <a:off x="2347920" y="1419120"/>
            <a:ext cx="6338880" cy="3930840"/>
          </a:xfrm>
          <a:prstGeom prst="roundRect">
            <a:avLst>
              <a:gd name="adj" fmla="val 16667"/>
            </a:avLst>
          </a:prstGeom>
          <a:solidFill>
            <a:srgbClr val="cfdef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2908440" y="1600200"/>
            <a:ext cx="42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段三：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是一朵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2577960" y="1965240"/>
            <a:ext cx="558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是花园里的一朵美丽的小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每天，这个花园里都会有一个小主人来玩耍。这花园里有蝴蝶、蜻蜓、蚂蚱、蜜蜂……那些可爱的小蜜蜂都会到我身上来采蜜，这样，我就可以长得更快，长得更美丽。有时候，那些和我一样美丽的蝴蝶飞来飞去，就像在跳舞。蚂蚱停在嫩绿的小草上，摇呀摇，摇呀摇，就像在荡秋千。我还会发出淡淡的清香，沁人肺腑，小主人闻到了我发出的香味，立马为我浇水、施肥，让我变得更加美丽，让人们都喜欢小主人种的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希望我还能更加美丽，给这个花园添加一些香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1"/>
          <p:cNvSpPr/>
          <p:nvPr/>
        </p:nvSpPr>
        <p:spPr>
          <a:xfrm>
            <a:off x="1409760" y="5630760"/>
            <a:ext cx="50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30_看图王"/>
          <p:cNvPicPr/>
          <p:nvPr/>
        </p:nvPicPr>
        <p:blipFill>
          <a:blip r:embed="rId1"/>
          <a:stretch/>
        </p:blipFill>
        <p:spPr>
          <a:xfrm>
            <a:off x="15840" y="14400"/>
            <a:ext cx="9128160" cy="684360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5"/>
          <p:cNvSpPr/>
          <p:nvPr/>
        </p:nvSpPr>
        <p:spPr>
          <a:xfrm>
            <a:off x="1025640" y="1193760"/>
            <a:ext cx="7334280" cy="4578480"/>
          </a:xfrm>
          <a:prstGeom prst="roundRect">
            <a:avLst>
              <a:gd name="adj" fmla="val 16667"/>
            </a:avLst>
          </a:prstGeom>
          <a:solidFill>
            <a:srgbClr val="cfdef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689480" y="503280"/>
            <a:ext cx="191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&lt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教学反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698480" y="1193760"/>
            <a:ext cx="614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仿宋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仿宋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仿写句式时，只有一小部分人充分发散思维，还有一部分人没有调动其积极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、学生的朗读水平有待提高，以后应更加关注学生的朗读，训练朗读能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、学生对于修辞手法的理解比较好，也能体会其在课文中的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、对于“活了”“自由”这些词的理解，学生的思维超过了我的想象之外，他们眼中的活了是“复活，苏醒，活动”，大花园里除了课文中提到的事物是自由的，他们更是把自己家里菜园中的蔬菜、昆虫都列举出来说成是自由的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5792400" y="108576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"/>
              </a:rPr>
              <a:t>谢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B674-7688-4F50-971C-635DF8C10E2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24_看图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457200" y="1166760"/>
            <a:ext cx="75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《我家的大花园》是湘教版四年级上册第一单元第二篇课文，本单元的课文文质兼美，既有大自然的美景，又有人物的美好心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《我家的大花园》向我们描绘了一幅生动活泼的自然美景，这里既有色彩斑斓的植物，又有自由快乐的动物，字里行间流露出对大自然的爱，表现了儿童的一种天真烂漫的心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714240" y="206280"/>
            <a:ext cx="380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"/>
              </a:rPr>
              <a:t>一、课文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9569520" y="-144360"/>
            <a:ext cx="309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http_imglo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2460600" y="43668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"/>
              </a:rPr>
              <a:t>二、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531720" y="1515960"/>
            <a:ext cx="81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、知识与技能：会认本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个生字，辨析多音字“蚂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533520" y="2139840"/>
            <a:ext cx="71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过程与方法：能正确、流利、有感情地朗读课文，       并背诵自己喜欢的段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531720" y="3025800"/>
            <a:ext cx="737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、情感态度与价值观：让学生感受大花园的勃勃生机，激发学生热爱大自然，热爱生活的情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http_imgload (1)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3208680" y="441360"/>
            <a:ext cx="69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"/>
              </a:rPr>
              <a:t>三、教学重、难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1824120" y="140328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1825560" y="1600200"/>
            <a:ext cx="686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、有感情地朗读课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并背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、了解作者的表达方法，感受大花园的勃勃生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3308400" y="255600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"/>
              </a:rPr>
              <a:t>四、教法与学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3826800" y="3627360"/>
            <a:ext cx="56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、自主合作交流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、朗读感悟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13"/>
          <p:cNvSpPr/>
          <p:nvPr/>
        </p:nvSpPr>
        <p:spPr>
          <a:xfrm>
            <a:off x="3608280" y="49658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ttp_imgload (4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5"/>
          <p:cNvSpPr/>
          <p:nvPr/>
        </p:nvSpPr>
        <p:spPr>
          <a:xfrm>
            <a:off x="457200" y="398520"/>
            <a:ext cx="6168960" cy="5503680"/>
          </a:xfrm>
          <a:prstGeom prst="roundRect">
            <a:avLst>
              <a:gd name="adj" fmla="val 16667"/>
            </a:avLst>
          </a:prstGeom>
          <a:solidFill>
            <a:srgbClr val="cfdef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457200" y="1308240"/>
            <a:ext cx="63025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回顾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、听写生字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、通过朗读及字词学习谈谈初读课文后的感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785880" y="24354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（二）品读感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657360" y="3546360"/>
            <a:ext cx="50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仿宋"/>
              </a:rPr>
              <a:t>我家有一个大花园，这花园里有蝴蝶、蜻蜓、蚂蚱、蜜蜂，样样都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660240" y="3151080"/>
            <a:ext cx="398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、学习第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自然段，指名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658800" y="4187880"/>
            <a:ext cx="54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分析：这是全文的一个总起句，起到了开启下文的作用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660240" y="398520"/>
            <a:ext cx="571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"/>
              </a:rPr>
              <a:t>五、教学过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"/>
              </a:rPr>
              <a:t>&lt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第二课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http_imgload (8)"/>
          <p:cNvPicPr/>
          <p:nvPr/>
        </p:nvPicPr>
        <p:blipFill>
          <a:blip r:embed="rId1"/>
          <a:stretch/>
        </p:blipFill>
        <p:spPr>
          <a:xfrm>
            <a:off x="-3240" y="22320"/>
            <a:ext cx="9147240" cy="68356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5"/>
          <p:cNvSpPr/>
          <p:nvPr/>
        </p:nvSpPr>
        <p:spPr>
          <a:xfrm>
            <a:off x="457200" y="274680"/>
            <a:ext cx="7093080" cy="4505400"/>
          </a:xfrm>
          <a:prstGeom prst="roundRect">
            <a:avLst>
              <a:gd name="adj" fmla="val 16667"/>
            </a:avLst>
          </a:prstGeom>
          <a:solidFill>
            <a:srgbClr val="cfdef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1758960" y="768240"/>
            <a:ext cx="161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、赏析第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2—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自然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957240" y="1417680"/>
            <a:ext cx="6093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教师指导，师生共议，通过多种朗读方式，如赛读，分组组，男女生读来体会课文优美句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读出你喜欢的句子，并说明原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蜜蜂则嗡嗡地飞着，满身绒毛，落到一朵花上，圆圆的就像一个小毛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运用了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比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修辞手法，读出作者的喜悦之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花开了，就像花睡醒了。鸟飞了，就像鸟上天玩去了。虫子叫了，就像虫子在说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运用了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排比、拟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修辞手法，文章语言更加生动有趣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33_看图王"/>
          <p:cNvPicPr/>
          <p:nvPr/>
        </p:nvPicPr>
        <p:blipFill>
          <a:blip r:embed="rId1"/>
          <a:stretch/>
        </p:blipFill>
        <p:spPr>
          <a:xfrm>
            <a:off x="155520" y="95400"/>
            <a:ext cx="8871120" cy="65307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5"/>
          <p:cNvSpPr/>
          <p:nvPr/>
        </p:nvSpPr>
        <p:spPr>
          <a:xfrm>
            <a:off x="457200" y="274680"/>
            <a:ext cx="6589800" cy="4627440"/>
          </a:xfrm>
          <a:prstGeom prst="roundRect">
            <a:avLst>
              <a:gd name="adj" fmla="val 16667"/>
            </a:avLst>
          </a:prstGeom>
          <a:solidFill>
            <a:srgbClr val="cfdef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00200" y="960480"/>
            <a:ext cx="616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质疑交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学生再次自由朗读课文，提出不懂的问题，在小组内进行讨论、交流，教师巡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教师将学生的疑问进行收集整理，在班上进行讨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切都活了，要做什么，就做什么，要怎么样，就怎么样，都是自由的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活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”是什么意思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课文中是说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谁这样自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？这意味着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10_看图王"/>
          <p:cNvPicPr/>
          <p:nvPr/>
        </p:nvPicPr>
        <p:blipFill>
          <a:blip r:embed="rId1"/>
          <a:stretch/>
        </p:blipFill>
        <p:spPr>
          <a:xfrm>
            <a:off x="50760" y="0"/>
            <a:ext cx="8950320" cy="683244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5"/>
          <p:cNvSpPr/>
          <p:nvPr/>
        </p:nvSpPr>
        <p:spPr>
          <a:xfrm>
            <a:off x="457200" y="449280"/>
            <a:ext cx="7589880" cy="4646520"/>
          </a:xfrm>
          <a:prstGeom prst="roundRect">
            <a:avLst>
              <a:gd name="adj" fmla="val 16667"/>
            </a:avLst>
          </a:prstGeom>
          <a:solidFill>
            <a:srgbClr val="cfdef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771480" y="1600200"/>
            <a:ext cx="667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师小结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作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生动有趣的语言为我们描画出一个美丽的大花园，并通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描写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花园里的动物、太阳、植物、天空等事物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达出作者对花园的喜爱，激发我们热爱大自然的情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http_imgload26_看图王"/>
          <p:cNvPicPr/>
          <p:nvPr/>
        </p:nvPicPr>
        <p:blipFill>
          <a:blip r:embed="rId1"/>
          <a:stretch/>
        </p:blipFill>
        <p:spPr>
          <a:xfrm>
            <a:off x="50760" y="27000"/>
            <a:ext cx="9015480" cy="659772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5"/>
          <p:cNvSpPr/>
          <p:nvPr/>
        </p:nvSpPr>
        <p:spPr>
          <a:xfrm>
            <a:off x="344520" y="430200"/>
            <a:ext cx="6027840" cy="4276800"/>
          </a:xfrm>
          <a:prstGeom prst="roundRect">
            <a:avLst>
              <a:gd name="adj" fmla="val 16667"/>
            </a:avLst>
          </a:prstGeom>
          <a:solidFill>
            <a:srgbClr val="cfdef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956520" y="900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（三）拓展升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457200" y="1600200"/>
            <a:ext cx="57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仿宋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仿宋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仿宋"/>
              </a:rPr>
              <a:t>如果你是这个花园中一种植物或动物，你希望  自己是什么？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仿宋"/>
              </a:rPr>
              <a:t>把自己所见所想写一个片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050640" y="2568600"/>
            <a:ext cx="73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仿宋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仿宋"/>
              </a:rPr>
              <a:t>、课外阅读推荐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仿宋"/>
              </a:rPr>
              <a:t>鲁迅的《从百草园到三味书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8:16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