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8233-2FBB-4FCB-B059-0D7C121381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DC43-7135-4E9A-8E9D-103C1AE3E0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B7C-2FAE-46B5-88D2-B55CAB9C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95C-3008-424D-819A-F17F8F02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71F-EF06-48F4-82BD-F422DBE0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E0C-2F4A-4398-89D3-061DFD47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4D2-1733-4F40-94DE-EBBDFE7C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E55A-E8D4-437B-8EF6-311EE691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839-409E-44F3-920C-5E800F09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E674-742C-4831-8BF9-0E8DF2F2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415A-2628-46B0-BAF0-E2E7B084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701-A37A-4C29-A100-E7643A9B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5933-B211-44A1-A186-5F92DFDE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24A-0048-4CAA-B34D-846EBEE2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D59E-9F5E-41E4-822E-A873165163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657600" y="1835280"/>
            <a:ext cx="54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家的大花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3813480" y="3733920"/>
            <a:ext cx="50990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565560" y="3176640"/>
            <a:ext cx="14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我家的大花园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2438280" y="1752480"/>
            <a:ext cx="304920" cy="3314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86400 h 3314880"/>
              <a:gd name="textAreaBottom" fmla="*/ 3228480 h 331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63320" y="1535040"/>
            <a:ext cx="798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昆虫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035400" y="1535040"/>
            <a:ext cx="1003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色彩丰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31720" y="3154320"/>
            <a:ext cx="1003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阳光明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035400" y="3154320"/>
            <a:ext cx="1003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光芒四射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533520" y="1514160"/>
            <a:ext cx="8076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花开了，就像花睡醒了。鸟飞了，就像鸟上天玩去了。虫子叫了，就像虫子在说话了。一切都活了，要做什么，就做什么，要怎么样，就怎么样，都是自由的。南瓜愿意爬上架就爬上架，愿意爬上房就爬上房。黄瓜愿意开一朵花，就开一朵花；愿意结一个瓜，就结一个瓜；若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ruò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都不愿意，就是一朵花也不开，一个瓜也不结，也没有人问它。玉米愿意长多高就长多高，它若愿意长上天去，也没有人管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ɡuǎn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蝴蝶随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suí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意地飞，一会儿飞来一对黄蝴蝶，一会儿又飞走了一只白蝴蝶。它们是从谁家来的，又飞到谁家去？太阳也不知道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只是天空蓝蓝的，又高又远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5486400" y="4191120"/>
            <a:ext cx="3429000" cy="1981080"/>
          </a:xfrm>
          <a:prstGeom prst="cloudCallout">
            <a:avLst>
              <a:gd name="adj1" fmla="val 58384"/>
              <a:gd name="adj2" fmla="val 65217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大花园里的生物是怎样无拘无束地生长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457200" y="152388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花开了，就像花睡醒了。鸟飞了，就像鸟上天玩去了。虫子叫了，就像虫子在说话了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838080" y="3505320"/>
            <a:ext cx="7467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就像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就像鸟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533520" y="1665720"/>
            <a:ext cx="8076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花开了，就像花睡醒了。鸟飞了，就像鸟上天玩去了。虫子叫了，就像虫子在说话了。一切都活了，要做什么，就做什么，要怎么样，就怎么样，都是自由的。南瓜愿意爬上架就爬上架，愿意爬上房就爬上房。黄瓜愿意开一朵花，就开一朵花；愿意结一个瓜，就结一个瓜；若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ruò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都不愿意，就是一朵花也不开，一个瓜也不结，也没有人问它。玉米愿意长多高就长多高，它若愿意长上天去，也没有人管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ɡuǎn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蝴蝶随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suí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意地飞，一会儿飞来一对黄蝴蝶，一会儿又飞走了一只白蝴蝶。它们是从谁家来的，又飞到谁家去？太阳也不知道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只是天空蓝蓝的，又高又远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6400800" y="114300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"/>
          <p:cNvSpPr/>
          <p:nvPr/>
        </p:nvSpPr>
        <p:spPr>
          <a:xfrm>
            <a:off x="609480" y="1523880"/>
            <a:ext cx="79250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>
            <a:off x="609480" y="190512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152280" y="2133720"/>
            <a:ext cx="733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切都活了，要做什么，就做什么，要怎么样，就怎么样，都是自由的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809880" y="304812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124080" y="3886200"/>
            <a:ext cx="3353040" cy="992160"/>
          </a:xfrm>
          <a:prstGeom prst="wedgeRoundRectCallout">
            <a:avLst>
              <a:gd name="adj1" fmla="val -14583"/>
              <a:gd name="adj2" fmla="val -140907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里的“自由”是什么意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914400" y="152280"/>
            <a:ext cx="4038480" cy="1830600"/>
          </a:xfrm>
          <a:prstGeom prst="cloudCallout">
            <a:avLst>
              <a:gd name="adj1" fmla="val -61069"/>
              <a:gd name="adj2" fmla="val 64393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课文中是说谁这样自由？这意味着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533520" y="1665720"/>
            <a:ext cx="8076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花开了，就像花睡醒了。鸟飞了，就像鸟上天玩去了。虫子叫了，就像虫子在说话了。一切都活了，要做什么，就做什么，要怎么样，就怎么样，都是自由的。南瓜愿意爬上架就爬上架，愿意爬上房就爬上房。黄瓜愿意开一朵花，就开一朵花；愿意结一个瓜，就结一个瓜；若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ruò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都不愿意，就是一朵花也不开，一个瓜也不结，也没有人问它。玉米愿意长多高就长多高，它若愿意长上天去，也没有人管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ɡuǎn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蝴蝶随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suí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意地飞，一会儿飞来一对黄蝴蝶，一会儿又飞走了一只白蝴蝶。它们是从谁家来的，又飞到谁家去？太阳也不知道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只是天空蓝蓝的，又高又远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6477120" y="106668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8153280" y="152388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609480" y="190512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3048120" y="396252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565560" y="3176640"/>
            <a:ext cx="14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我家的大花园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2438280" y="1752480"/>
            <a:ext cx="304920" cy="3314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86400 h 3314880"/>
              <a:gd name="textAreaBottom" fmla="*/ 3228480 h 331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163320" y="1535040"/>
            <a:ext cx="798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昆虫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035400" y="1535040"/>
            <a:ext cx="1003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色彩丰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231720" y="3154320"/>
            <a:ext cx="1003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阳光明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6035400" y="3154320"/>
            <a:ext cx="1003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光芒四射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643200" y="4602240"/>
            <a:ext cx="52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一切都活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6035400" y="4602240"/>
            <a:ext cx="1003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自由随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4"/>
          <p:cNvSpPr/>
          <p:nvPr/>
        </p:nvSpPr>
        <p:spPr>
          <a:xfrm>
            <a:off x="1752480" y="1676520"/>
            <a:ext cx="5639040" cy="3504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讨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如果你是这个大花园中的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种植物或动物，你希望是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你想说些什么？做些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09"/>
          <p:cNvPicPr/>
          <p:nvPr/>
        </p:nvPicPr>
        <p:blipFill>
          <a:blip r:embed="rId1"/>
          <a:stretch/>
        </p:blipFill>
        <p:spPr>
          <a:xfrm>
            <a:off x="1752480" y="2133720"/>
            <a:ext cx="1148040" cy="2342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2128680" y="3409920"/>
            <a:ext cx="447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3429000" y="2133720"/>
            <a:ext cx="380880" cy="2590560"/>
          </a:xfrm>
          <a:custGeom>
            <a:avLst/>
            <a:gdLst>
              <a:gd name="textAreaLeft" fmla="*/ 243360 w 380880"/>
              <a:gd name="textAreaRight" fmla="*/ 381240 w 38088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175280" y="1982880"/>
            <a:ext cx="2606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　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175280" y="4267080"/>
            <a:ext cx="2606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mà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　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046160" y="460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练 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09"/>
          <p:cNvPicPr/>
          <p:nvPr/>
        </p:nvPicPr>
        <p:blipFill>
          <a:blip r:embed="rId1"/>
          <a:stretch/>
        </p:blipFill>
        <p:spPr>
          <a:xfrm>
            <a:off x="1752480" y="2133720"/>
            <a:ext cx="1148040" cy="2342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2128680" y="3409920"/>
            <a:ext cx="447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结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429000" y="2133720"/>
            <a:ext cx="380880" cy="2590560"/>
          </a:xfrm>
          <a:custGeom>
            <a:avLst/>
            <a:gdLst>
              <a:gd name="textAreaLeft" fmla="*/ 243360 w 380880"/>
              <a:gd name="textAreaRight" fmla="*/ 381240 w 38088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175280" y="1982880"/>
            <a:ext cx="2606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ji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　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175280" y="4267080"/>
            <a:ext cx="2606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ji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é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（　　　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41360" y="236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324000" y="2006280"/>
            <a:ext cx="8496000" cy="17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家有一个大花园，这花园里蝴蝶、蜻蜓、蚂［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mà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］蚱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zhà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、蜜蜂，样样都有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蝴蝶有白蝴蝶、黄蝴蝶，这两种蝴蝶极小，不太好看。好看的是大红蝴蝶，满身带着金粉。蜻蜓是金的，蚂蚱是绿的。蜜蜂则</a:t>
            </a:r>
            <a:r>
              <a:rPr b="0" lang="zh-CN" sz="27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嗡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wēnɡ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嗡地飞着，满身</a:t>
            </a:r>
            <a:r>
              <a:rPr b="0" lang="zh-CN" sz="27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绒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rónɡ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毛，落到一朵花上，圆圆的就像一个小毛球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658680" y="380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家的大花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419480" y="4572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找错别字并改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295800" y="1905120"/>
            <a:ext cx="1669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、密蜂则嗡嗡地飞着，满身绒毛。（　　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638880" y="4267080"/>
            <a:ext cx="1669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、园子里阳光明眉，天空显得特别高。（　　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按要求写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花儿开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扩句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站在阳台上，我可以清楚地看到花园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有的景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缩句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拓展延伸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真读课文的第二自然段，仿写一段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3282-0E93-453A-8559-D9C17977C5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533520" y="2913840"/>
            <a:ext cx="807696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园子里阳光明</a:t>
            </a:r>
            <a:r>
              <a:rPr b="0" lang="zh-CN" sz="27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媚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mèi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天空显得特别高。太阳光芒四射，亮得人睁不开眼睛，亮得</a:t>
            </a:r>
            <a:r>
              <a:rPr b="0" lang="zh-CN" sz="27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蚯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qiū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7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蚓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yìn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不</a:t>
            </a:r>
            <a:r>
              <a:rPr b="0" lang="zh-CN" sz="27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敢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ɡǎn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钻出地面，</a:t>
            </a:r>
            <a:r>
              <a:rPr b="0" lang="zh-CN" sz="27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蝙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biān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7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" action="ppaction://hlinksldjump"/>
              </a:rPr>
              <a:t>蝠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黑体"/>
              </a:rPr>
              <a:t>ú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敢从黑暗的地方飞出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1541520" y="6311880"/>
            <a:ext cx="605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533520" y="1580760"/>
            <a:ext cx="8076960" cy="27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花开了，就像花睡醒了。鸟飞了，就像鸟上天玩去了。虫子叫了，就像虫子在说话了。一切都活了，要做什么，就做什么，要怎么样，就怎么样，都是自由的。南瓜愿意爬上架就爬上架，愿意爬上房就爬上房。黄瓜愿意开一朵花，就开一朵花；愿意结一个瓜，就结一个瓜；</a:t>
            </a:r>
            <a:r>
              <a:rPr b="0" lang="zh-CN" sz="27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若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ruò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都不愿意，就是一朵花也不开，一个瓜也不结，也没有人问它。玉米愿意长多高就长多高，它若愿意长上天去，也没有人</a:t>
            </a:r>
            <a:r>
              <a:rPr b="0" lang="zh-CN" sz="27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管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ɡuǎn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蝴蝶</a:t>
            </a:r>
            <a:r>
              <a:rPr b="0" lang="zh-CN" sz="27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随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suí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意地飞，一会儿飞来一对黄蝴蝶，一会儿又飞走了一只白蝴蝶。它们是从谁家来的，又飞到谁家去？太阳也不知道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只是天空蓝蓝的，又高又远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24000" y="2871360"/>
            <a:ext cx="849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家有一个大花园，这花园里蝴蝶、蜻蜓、蚂［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mà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］蚱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zhà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、蜜蜂，样样都有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658680" y="654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家的大花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3505320" y="4191120"/>
            <a:ext cx="4114800" cy="1523880"/>
          </a:xfrm>
          <a:prstGeom prst="cloudCallout">
            <a:avLst>
              <a:gd name="adj1" fmla="val -46101"/>
              <a:gd name="adj2" fmla="val 82189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最喜欢大花园的哪个地方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24000" y="269568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　　蝴蝶有白蝴蝶、黄蝴蝶，这两种蝴蝶极小，不太好看。好看的是大红蝴蝶，满身带着金粉。蜻蜓是金的，蚂蚱是绿的。蜜蜂则嗡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wēnɡ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嗡地飞着，满身绒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rónɡ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）毛，落到一朵花上，圆圆的就像一个小毛球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4572000" y="0"/>
            <a:ext cx="4343400" cy="1828800"/>
          </a:xfrm>
          <a:prstGeom prst="cloudCallout">
            <a:avLst>
              <a:gd name="adj1" fmla="val 47550"/>
              <a:gd name="adj2" fmla="val 81134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哪些地方可看出大花园很热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1066680" y="274320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2514600" y="358128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2209680" y="274320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3581280" y="274320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2514600" y="3200400"/>
            <a:ext cx="1371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6629400" y="320040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457200" y="358128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2514600" y="3581280"/>
            <a:ext cx="5486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457200" y="4038480"/>
            <a:ext cx="7772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2955960" y="25909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65560" y="3176640"/>
            <a:ext cx="14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我家的大花园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438280" y="1752480"/>
            <a:ext cx="304920" cy="3314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86400 h 3314880"/>
              <a:gd name="textAreaBottom" fmla="*/ 3228480 h 331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163320" y="1535040"/>
            <a:ext cx="798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昆虫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6035400" y="1535040"/>
            <a:ext cx="1003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色彩丰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533520" y="297036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园子里阳光明媚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mèi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天空显得特别高。太阳光芒四射，亮得人睁不开眼睛，亮得蚯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qiū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蚓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yìn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不敢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ɡǎn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钻出地面，蝙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biān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蝠（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黑体"/>
              </a:rPr>
              <a:t>ú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敢从黑暗的地方飞出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914400" y="380880"/>
            <a:ext cx="3276720" cy="1676520"/>
          </a:xfrm>
          <a:prstGeom prst="cloudCallout">
            <a:avLst>
              <a:gd name="adj1" fmla="val -58287"/>
              <a:gd name="adj2" fmla="val 69412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哪些地方看出大花园里的阳光灿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8001000" y="304812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685800" y="3886200"/>
            <a:ext cx="7467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609480" y="4267080"/>
            <a:ext cx="38102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533520" y="297036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园子里阳光明媚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mèi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天空显得特别高。太阳光芒四射，亮得人睁不开眼睛，亮得蚯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qiū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蚓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yìn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不敢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ɡǎn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钻出地面，蝙（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</a:rPr>
              <a:t>biān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蝠（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黑体"/>
              </a:rPr>
              <a:t>ú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敢从黑暗的地方飞出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2362320" y="3048120"/>
            <a:ext cx="1371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>
            <a:off x="990720" y="3429000"/>
            <a:ext cx="1371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7T08:28:3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8:11Z</dcterms:modified>
  <cp:revision>12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