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CD0E-CCF1-495F-9241-7AA85847B7D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7B4F-205C-4291-B490-BE467D1CC83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593A-9B3E-42D1-BADD-D2AD579F8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1FC3-CDF5-4E1D-A478-BFAF8028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D473-024B-45BF-A2D5-0906067D8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EC41-BBF6-4E17-BA84-CEBEAA636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464F-EB49-42E5-BE5A-511DFE03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0274-E7D6-4C54-B3BE-2314801D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7697-578F-4848-BDD1-D49A6F21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E2D4-FE12-4698-A705-54DBD6B4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1E0C-9F9E-4BD7-9685-6AE581FB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011C-570C-403A-A102-7B92369D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20D9-D468-40B5-B7AE-41C177F7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FEE4-384C-4167-8208-9A01FA19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9DCD-E612-4ABF-8388-43BE989BFF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威尼斯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3"/>
          <p:cNvSpPr txBox="1"/>
          <p:nvPr/>
        </p:nvSpPr>
        <p:spPr>
          <a:xfrm>
            <a:off x="896760" y="1698480"/>
            <a:ext cx="7350480" cy="215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206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中宋"/>
              </a:rPr>
              <a:t>威尼斯的小艇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206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1617840" y="601992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200642514361014949"/>
          <p:cNvPicPr/>
          <p:nvPr/>
        </p:nvPicPr>
        <p:blipFill>
          <a:blip r:embed="rId1"/>
          <a:stretch/>
        </p:blipFill>
        <p:spPr>
          <a:xfrm>
            <a:off x="0" y="0"/>
            <a:ext cx="421164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picws2ry75h"/>
          <p:cNvPicPr/>
          <p:nvPr/>
        </p:nvPicPr>
        <p:blipFill>
          <a:blip r:embed="rId2"/>
          <a:stretch/>
        </p:blipFill>
        <p:spPr>
          <a:xfrm>
            <a:off x="4284720" y="0"/>
            <a:ext cx="4859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2006425144238773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b2802a026b04c4344afb51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-151200"/>
            <a:ext cx="563868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展示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7720" y="914040"/>
            <a:ext cx="70866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会表演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我是威尼斯的船夫，我可以向各位游客介绍我令人惊叹的驾驶技术，招徕顾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32"/>
          <p:cNvPicPr/>
          <p:nvPr/>
        </p:nvPicPr>
        <p:blipFill>
          <a:blip r:embed="rId2"/>
          <a:stretch/>
        </p:blipFill>
        <p:spPr>
          <a:xfrm>
            <a:off x="990720" y="2590920"/>
            <a:ext cx="6858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b2802a026b04c4344afb51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研探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习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默读第五、六自然段，体会威尼斯的人们与小艇的密切关系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受威尼斯夜晚的宁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法：自学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后对子交流，组内讨论，然后抽学生代表回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b2802a026b04c4344afb51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学情展示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03848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展示内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会填表。（认真看课文第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会朗读：小艇与人们生活息息相关，白天艇动人动，夜晚艇停城静，我能读出威尼斯夜晚的宁静。（有感情地朗读第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724280" y="1143000"/>
          <a:ext cx="4038480" cy="5362560"/>
        </p:xfrm>
        <a:graphic>
          <a:graphicData uri="http://schemas.openxmlformats.org/drawingml/2006/table">
            <a:tbl>
              <a:tblPr/>
              <a:tblGrid>
                <a:gridCol w="685800"/>
                <a:gridCol w="1219320"/>
                <a:gridCol w="533160"/>
                <a:gridCol w="160020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时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人  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活  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 rowSpan="5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白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3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夜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Rectangle 43"/>
          <p:cNvSpPr/>
          <p:nvPr/>
        </p:nvSpPr>
        <p:spPr>
          <a:xfrm>
            <a:off x="5609880" y="2109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Arial"/>
                <a:ea typeface="楷体_GB2312"/>
              </a:rPr>
              <a:t>商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4"/>
          <p:cNvSpPr/>
          <p:nvPr/>
        </p:nvSpPr>
        <p:spPr>
          <a:xfrm>
            <a:off x="7467840" y="21099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Arial"/>
                <a:ea typeface="楷体_GB2312"/>
              </a:rPr>
              <a:t>做生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5"/>
          <p:cNvSpPr/>
          <p:nvPr/>
        </p:nvSpPr>
        <p:spPr>
          <a:xfrm>
            <a:off x="5334120" y="27432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Arial"/>
                <a:ea typeface="楷体_GB2312"/>
              </a:rPr>
              <a:t>青年妇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6"/>
          <p:cNvSpPr/>
          <p:nvPr/>
        </p:nvSpPr>
        <p:spPr>
          <a:xfrm>
            <a:off x="7238880" y="2743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高声谈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7"/>
          <p:cNvSpPr/>
          <p:nvPr/>
        </p:nvSpPr>
        <p:spPr>
          <a:xfrm>
            <a:off x="5562720" y="32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Arial"/>
                <a:ea typeface="楷体_GB2312"/>
              </a:rPr>
              <a:t>孩子、保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8"/>
          <p:cNvSpPr/>
          <p:nvPr/>
        </p:nvSpPr>
        <p:spPr>
          <a:xfrm>
            <a:off x="7315200" y="3352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Arial"/>
                <a:ea typeface="楷体_GB2312"/>
              </a:rPr>
              <a:t>呼吸新鲜空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9"/>
          <p:cNvSpPr/>
          <p:nvPr/>
        </p:nvSpPr>
        <p:spPr>
          <a:xfrm>
            <a:off x="5579640" y="4267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Arial"/>
                <a:ea typeface="楷体_GB2312"/>
              </a:rPr>
              <a:t>老人全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0"/>
          <p:cNvSpPr/>
          <p:nvPr/>
        </p:nvSpPr>
        <p:spPr>
          <a:xfrm>
            <a:off x="7392960" y="4267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Arial"/>
                <a:ea typeface="楷体_GB2312"/>
              </a:rPr>
              <a:t>去教堂祷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1"/>
          <p:cNvSpPr/>
          <p:nvPr/>
        </p:nvSpPr>
        <p:spPr>
          <a:xfrm>
            <a:off x="5640480" y="5068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楷体_GB2312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2"/>
          <p:cNvSpPr/>
          <p:nvPr/>
        </p:nvSpPr>
        <p:spPr>
          <a:xfrm>
            <a:off x="7589880" y="5068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楷体_GB2312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3"/>
          <p:cNvSpPr/>
          <p:nvPr/>
        </p:nvSpPr>
        <p:spPr>
          <a:xfrm>
            <a:off x="5638680" y="5867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Arial"/>
                <a:ea typeface="楷体_GB2312"/>
              </a:rPr>
              <a:t>人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4"/>
          <p:cNvSpPr/>
          <p:nvPr/>
        </p:nvSpPr>
        <p:spPr>
          <a:xfrm>
            <a:off x="7467480" y="5867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Arial"/>
                <a:ea typeface="楷体_GB2312"/>
              </a:rPr>
              <a:t>看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b2802a026b04c4344afb51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4876920" y="76320"/>
            <a:ext cx="41907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Times New Roman"/>
                <a:ea typeface="楷体_GB2312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半夜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戏院散场了，一大群人拥出来，走上了各自雇定的小艇。簇拥在一起的小艇一会儿就散开了，消失在弯曲的河道中，传来一片哗笑和告别的声音。水面上渐渐沉寂，只见月亮的影子在水中摇晃。高大的石头建筑耸立在河边，古老的桥梁横在水上，大大小小的船都停泊在码头上。静寂笼罩着这座水上城市，古老的威尼斯又沉沉地入睡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df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秋日的私语.mp3" descr=""/>
          <p:cNvPicPr/>
          <p:nvPr/>
        </p:nvPicPr>
        <p:blipFill>
          <a:blip r:embed="rId3"/>
          <a:stretch/>
        </p:blipFill>
        <p:spPr>
          <a:xfrm>
            <a:off x="4191120" y="62485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202529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WordArt 3"/>
          <p:cNvSpPr txBox="1"/>
          <p:nvPr/>
        </p:nvSpPr>
        <p:spPr>
          <a:xfrm>
            <a:off x="2286000" y="380880"/>
            <a:ext cx="3267000" cy="59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黑体"/>
              </a:rPr>
              <a:t>威尼斯夜景欣赏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351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2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b2802a026b04c4344afb51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609480" y="762120"/>
            <a:ext cx="792504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学习目标</a:t>
            </a:r>
            <a:r>
              <a:rPr b="1" lang="en-US" sz="54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能正确、流利、有感情地朗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能了解威尼斯小艇的特点以及它同威尼斯水城的关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2007523182045666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232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df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with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威尼斯夜景"/>
          <p:cNvPicPr/>
          <p:nvPr/>
        </p:nvPicPr>
        <p:blipFill>
          <a:blip r:embed="rId1"/>
          <a:stretch/>
        </p:blipFill>
        <p:spPr>
          <a:xfrm>
            <a:off x="-539640" y="-1249200"/>
            <a:ext cx="9864720" cy="835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%E5%A8%81%E5%B0%BC%E6%96%AF%E4%BA%BA%20%E5%A4%9C%E6%99%AF6"/>
          <p:cNvPicPr/>
          <p:nvPr/>
        </p:nvPicPr>
        <p:blipFill>
          <a:blip r:embed="rId1"/>
          <a:stretch/>
        </p:blipFill>
        <p:spPr>
          <a:xfrm>
            <a:off x="-331920" y="0"/>
            <a:ext cx="9475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b2802a026b04c4344afb51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归纳总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80880" y="1599840"/>
            <a:ext cx="792504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通过介绍威尼斯小艇的（   ）特点，船夫驾驶小艇的（   ）以及小艇和（   ）的密切关系，展现了威尼斯这座水上名城特有的风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了课文我最想说的是（           ）。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b2802a026b04c4344afb51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巩固提升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51920" y="1599840"/>
            <a:ext cx="861084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把下列句子补充为比喻句。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小艇的船头和船艄向上翘起，像            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威尼斯的小艇行动轻快灵活，仿佛          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船夫的驾驶技术特别好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别好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现在哪里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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"/>
          <p:cNvSpPr/>
          <p:nvPr/>
        </p:nvSpPr>
        <p:spPr>
          <a:xfrm flipH="1">
            <a:off x="685800" y="5257800"/>
            <a:ext cx="7391520" cy="66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>
            <a:off x="6248520" y="27432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7"/>
          <p:cNvSpPr/>
          <p:nvPr/>
        </p:nvSpPr>
        <p:spPr>
          <a:xfrm>
            <a:off x="6629400" y="33526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1"/>
          <p:cNvSpPr/>
          <p:nvPr/>
        </p:nvSpPr>
        <p:spPr>
          <a:xfrm>
            <a:off x="685800" y="60721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3333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8752-C1C9-4669-B31F-625109C58CB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b2802a026b04c4344afb51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研探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习指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默读课文二、三、四自然段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文中勾画出作者描写小艇样子和特点的句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思考：第四自然段是围绕哪句话来写的，写出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法：自学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后对子交流，组内讨论，抽签确定展示内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b2802a026b04c4344afb51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8960" y="-151200"/>
            <a:ext cx="563868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学情展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762120"/>
            <a:ext cx="8229600" cy="586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展示内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我会发现：找出第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的三个比喻句，思考怎样生动地描写出小艇的外形特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把小艇比作（      ），写出了它（       ）的特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把小艇比作（      ），写出了它（       ）的特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把小艇比作（      ），写出了它（       ）的特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我会画图：根据这三个比喻句的描写，把小艇的样子画出来，并讲一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我会朗读：如果我是小艇中的游客，我会惊叹船夫的驾驶技术超级棒呢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会表演：如果我是威尼斯的船夫，我可以向各位游客介绍我令人惊叹的驾驶技术，招徕顾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13"/>
          <p:cNvSpPr/>
          <p:nvPr/>
        </p:nvSpPr>
        <p:spPr>
          <a:xfrm>
            <a:off x="3200400" y="16002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b2802a026b04c4344afb51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5638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展示内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8600" y="1294920"/>
            <a:ext cx="86868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我会发现：找出第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的三个比喻句，思考作者是怎样生动地描写出小艇的外形特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把小艇比作（     ），写出了它（          ）的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把小艇比作（     ），写出了它（          ）的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把小艇比作（     ），写出了它（          ）的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971800" y="33670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独木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6553080" y="33670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长、窄、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2971800" y="41911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新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6705720" y="419112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两头翘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3048120" y="49528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水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6629400" y="49528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轻快灵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b2802a026b04c4344afb51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56386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展示内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838080" y="1752120"/>
            <a:ext cx="746784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我会画图：根据这三个比喻句的描写，把小艇的样子画出来，并讲一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b2802a026b04c4344afb51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1320840" y="380880"/>
            <a:ext cx="3416400" cy="8254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威尼斯的小艇有二三十英尺长，又窄又深，有点像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独木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6858000" y="2743200"/>
            <a:ext cx="1828800" cy="8254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船头和船艄向上翘起，像挂在天边的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新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1523880" y="6019920"/>
            <a:ext cx="6248520" cy="459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动轻快灵活，仿佛田沟里的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水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"/>
          <p:cNvSpPr/>
          <p:nvPr/>
        </p:nvSpPr>
        <p:spPr>
          <a:xfrm flipH="1">
            <a:off x="7848000" y="380880"/>
            <a:ext cx="533160" cy="129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"/>
          <p:cNvSpPr/>
          <p:nvPr/>
        </p:nvSpPr>
        <p:spPr>
          <a:xfrm>
            <a:off x="7315200" y="990720"/>
            <a:ext cx="457200" cy="457200"/>
          </a:xfrm>
          <a:custGeom>
            <a:avLst/>
            <a:gdLst>
              <a:gd name="textAreaLeft" fmla="*/ 207360 w 457200"/>
              <a:gd name="textAreaRight" fmla="*/ 249840 w 457200"/>
              <a:gd name="textAreaTop" fmla="*/ 207360 h 457200"/>
              <a:gd name="textAreaBottom" fmla="*/ 24984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5" y="9805"/>
                </a:lnTo>
                <a:lnTo>
                  <a:pt x="10800" y="0"/>
                </a:lnTo>
                <a:lnTo>
                  <a:pt x="11795" y="9805"/>
                </a:lnTo>
                <a:lnTo>
                  <a:pt x="21600" y="10800"/>
                </a:lnTo>
                <a:lnTo>
                  <a:pt x="11795" y="11795"/>
                </a:lnTo>
                <a:lnTo>
                  <a:pt x="10800" y="21600"/>
                </a:lnTo>
                <a:lnTo>
                  <a:pt x="9805" y="1179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7010280" y="380880"/>
            <a:ext cx="457200" cy="457200"/>
          </a:xfrm>
          <a:custGeom>
            <a:avLst/>
            <a:gdLst>
              <a:gd name="textAreaLeft" fmla="*/ 207360 w 457200"/>
              <a:gd name="textAreaRight" fmla="*/ 249840 w 457200"/>
              <a:gd name="textAreaTop" fmla="*/ 207360 h 457200"/>
              <a:gd name="textAreaBottom" fmla="*/ 24984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5" y="9805"/>
                </a:lnTo>
                <a:lnTo>
                  <a:pt x="10800" y="0"/>
                </a:lnTo>
                <a:lnTo>
                  <a:pt x="11795" y="9805"/>
                </a:lnTo>
                <a:lnTo>
                  <a:pt x="21600" y="10800"/>
                </a:lnTo>
                <a:lnTo>
                  <a:pt x="11795" y="11795"/>
                </a:lnTo>
                <a:lnTo>
                  <a:pt x="10800" y="21600"/>
                </a:lnTo>
                <a:lnTo>
                  <a:pt x="9805" y="1179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9"/>
          <p:cNvSpPr/>
          <p:nvPr/>
        </p:nvSpPr>
        <p:spPr>
          <a:xfrm>
            <a:off x="8305920" y="1523880"/>
            <a:ext cx="457200" cy="457200"/>
          </a:xfrm>
          <a:custGeom>
            <a:avLst/>
            <a:gdLst>
              <a:gd name="textAreaLeft" fmla="*/ 207360 w 457200"/>
              <a:gd name="textAreaRight" fmla="*/ 249840 w 457200"/>
              <a:gd name="textAreaTop" fmla="*/ 207360 h 457200"/>
              <a:gd name="textAreaBottom" fmla="*/ 24984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5" y="9805"/>
                </a:lnTo>
                <a:lnTo>
                  <a:pt x="10800" y="0"/>
                </a:lnTo>
                <a:lnTo>
                  <a:pt x="11795" y="9805"/>
                </a:lnTo>
                <a:lnTo>
                  <a:pt x="21600" y="10800"/>
                </a:lnTo>
                <a:lnTo>
                  <a:pt x="11795" y="11795"/>
                </a:lnTo>
                <a:lnTo>
                  <a:pt x="10800" y="21600"/>
                </a:lnTo>
                <a:lnTo>
                  <a:pt x="9805" y="1179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0"/>
          <p:cNvSpPr/>
          <p:nvPr/>
        </p:nvSpPr>
        <p:spPr>
          <a:xfrm>
            <a:off x="8458200" y="304920"/>
            <a:ext cx="457200" cy="457200"/>
          </a:xfrm>
          <a:custGeom>
            <a:avLst/>
            <a:gdLst>
              <a:gd name="textAreaLeft" fmla="*/ 207360 w 457200"/>
              <a:gd name="textAreaRight" fmla="*/ 249840 w 457200"/>
              <a:gd name="textAreaTop" fmla="*/ 207360 h 457200"/>
              <a:gd name="textAreaBottom" fmla="*/ 24984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5" y="9805"/>
                </a:lnTo>
                <a:lnTo>
                  <a:pt x="10800" y="0"/>
                </a:lnTo>
                <a:lnTo>
                  <a:pt x="11795" y="9805"/>
                </a:lnTo>
                <a:lnTo>
                  <a:pt x="21600" y="10800"/>
                </a:lnTo>
                <a:lnTo>
                  <a:pt x="11795" y="11795"/>
                </a:lnTo>
                <a:lnTo>
                  <a:pt x="10800" y="21600"/>
                </a:lnTo>
                <a:lnTo>
                  <a:pt x="9805" y="1179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1"/>
          <p:cNvSpPr/>
          <p:nvPr/>
        </p:nvSpPr>
        <p:spPr>
          <a:xfrm>
            <a:off x="7315200" y="1905120"/>
            <a:ext cx="457200" cy="457200"/>
          </a:xfrm>
          <a:custGeom>
            <a:avLst/>
            <a:gdLst>
              <a:gd name="textAreaLeft" fmla="*/ 207360 w 457200"/>
              <a:gd name="textAreaRight" fmla="*/ 249840 w 457200"/>
              <a:gd name="textAreaTop" fmla="*/ 207360 h 457200"/>
              <a:gd name="textAreaBottom" fmla="*/ 24984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5" y="9805"/>
                </a:lnTo>
                <a:lnTo>
                  <a:pt x="10800" y="0"/>
                </a:lnTo>
                <a:lnTo>
                  <a:pt x="11795" y="9805"/>
                </a:lnTo>
                <a:lnTo>
                  <a:pt x="21600" y="10800"/>
                </a:lnTo>
                <a:lnTo>
                  <a:pt x="11795" y="11795"/>
                </a:lnTo>
                <a:lnTo>
                  <a:pt x="10800" y="21600"/>
                </a:lnTo>
                <a:lnTo>
                  <a:pt x="9805" y="1179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2"/>
          <p:cNvSpPr/>
          <p:nvPr/>
        </p:nvSpPr>
        <p:spPr>
          <a:xfrm>
            <a:off x="338040" y="2720880"/>
            <a:ext cx="0" cy="1590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3"/>
          <p:cNvSpPr/>
          <p:nvPr/>
        </p:nvSpPr>
        <p:spPr>
          <a:xfrm>
            <a:off x="4572000" y="26668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1600200" y="3733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二三十英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AutoShape 15"/>
          <p:cNvCxnSpPr>
            <a:stCxn id="82" idx="0"/>
            <a:endCxn id="82" idx="1"/>
          </p:cNvCxnSpPr>
          <p:nvPr/>
        </p:nvCxnSpPr>
        <p:spPr>
          <a:xfrm>
            <a:off x="337680" y="43113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86" name="Line 16"/>
          <p:cNvSpPr/>
          <p:nvPr/>
        </p:nvSpPr>
        <p:spPr>
          <a:xfrm>
            <a:off x="320760" y="3962520"/>
            <a:ext cx="135576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7"/>
          <p:cNvSpPr/>
          <p:nvPr/>
        </p:nvSpPr>
        <p:spPr>
          <a:xfrm flipH="1">
            <a:off x="3276720" y="3962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8"/>
          <p:cNvGrpSpPr/>
          <p:nvPr/>
        </p:nvGrpSpPr>
        <p:grpSpPr>
          <a:xfrm>
            <a:off x="99360" y="1492920"/>
            <a:ext cx="5160240" cy="1888920"/>
            <a:chOff x="99360" y="1492920"/>
            <a:chExt cx="5160240" cy="1888920"/>
          </a:xfrm>
        </p:grpSpPr>
        <p:grpSp>
          <p:nvGrpSpPr>
            <p:cNvPr id="89" name="Group 19"/>
            <p:cNvGrpSpPr/>
            <p:nvPr/>
          </p:nvGrpSpPr>
          <p:grpSpPr>
            <a:xfrm>
              <a:off x="99360" y="1492920"/>
              <a:ext cx="5160240" cy="1458000"/>
              <a:chOff x="99360" y="1492920"/>
              <a:chExt cx="5160240" cy="1458000"/>
            </a:xfrm>
          </p:grpSpPr>
          <p:sp>
            <p:nvSpPr>
              <p:cNvPr id="90" name="未知"/>
              <p:cNvSpPr/>
              <p:nvPr/>
            </p:nvSpPr>
            <p:spPr>
              <a:xfrm rot="16537800">
                <a:off x="-63000" y="1738800"/>
                <a:ext cx="1112040" cy="681120"/>
              </a:xfrm>
              <a:custGeom>
                <a:avLst/>
                <a:gdLst/>
                <a:ahLst/>
                <a:rect l="l" t="t" r="r" b="b"/>
                <a:pathLst>
                  <a:path w="392" h="496">
                    <a:moveTo>
                      <a:pt x="0" y="400"/>
                    </a:moveTo>
                    <a:cubicBezTo>
                      <a:pt x="0" y="336"/>
                      <a:pt x="32" y="128"/>
                      <a:pt x="96" y="64"/>
                    </a:cubicBezTo>
                    <a:cubicBezTo>
                      <a:pt x="160" y="0"/>
                      <a:pt x="376" y="8"/>
                      <a:pt x="384" y="16"/>
                    </a:cubicBezTo>
                    <a:cubicBezTo>
                      <a:pt x="392" y="24"/>
                      <a:pt x="192" y="40"/>
                      <a:pt x="144" y="112"/>
                    </a:cubicBezTo>
                    <a:cubicBezTo>
                      <a:pt x="96" y="184"/>
                      <a:pt x="120" y="400"/>
                      <a:pt x="96" y="448"/>
                    </a:cubicBezTo>
                    <a:cubicBezTo>
                      <a:pt x="72" y="496"/>
                      <a:pt x="0" y="464"/>
                      <a:pt x="0" y="400"/>
                    </a:cubicBezTo>
                    <a:close/>
                  </a:path>
                </a:pathLst>
              </a:custGeom>
              <a:solidFill>
                <a:srgbClr val="66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未知"/>
              <p:cNvSpPr/>
              <p:nvPr/>
            </p:nvSpPr>
            <p:spPr>
              <a:xfrm rot="478800">
                <a:off x="4265640" y="1683000"/>
                <a:ext cx="914400" cy="1210320"/>
              </a:xfrm>
              <a:custGeom>
                <a:avLst/>
                <a:gdLst/>
                <a:ahLst/>
                <a:rect l="l" t="t" r="r" b="b"/>
                <a:pathLst>
                  <a:path w="392" h="496">
                    <a:moveTo>
                      <a:pt x="0" y="400"/>
                    </a:moveTo>
                    <a:cubicBezTo>
                      <a:pt x="0" y="336"/>
                      <a:pt x="32" y="128"/>
                      <a:pt x="96" y="64"/>
                    </a:cubicBezTo>
                    <a:cubicBezTo>
                      <a:pt x="160" y="0"/>
                      <a:pt x="376" y="8"/>
                      <a:pt x="384" y="16"/>
                    </a:cubicBezTo>
                    <a:cubicBezTo>
                      <a:pt x="392" y="24"/>
                      <a:pt x="192" y="40"/>
                      <a:pt x="144" y="112"/>
                    </a:cubicBezTo>
                    <a:cubicBezTo>
                      <a:pt x="96" y="184"/>
                      <a:pt x="120" y="400"/>
                      <a:pt x="96" y="448"/>
                    </a:cubicBezTo>
                    <a:cubicBezTo>
                      <a:pt x="72" y="496"/>
                      <a:pt x="0" y="464"/>
                      <a:pt x="0" y="400"/>
                    </a:cubicBezTo>
                    <a:close/>
                  </a:path>
                </a:pathLst>
              </a:custGeom>
              <a:solidFill>
                <a:srgbClr val="66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AutoShape 22"/>
              <p:cNvSpPr/>
              <p:nvPr/>
            </p:nvSpPr>
            <p:spPr>
              <a:xfrm>
                <a:off x="4572000" y="1946880"/>
                <a:ext cx="304560" cy="79560"/>
              </a:xfrm>
              <a:prstGeom prst="flowChartTerminator">
                <a:avLst/>
              </a:prstGeom>
              <a:solidFill>
                <a:srgbClr val="66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AutoShape 23"/>
              <p:cNvSpPr/>
              <p:nvPr/>
            </p:nvSpPr>
            <p:spPr>
              <a:xfrm>
                <a:off x="4516200" y="2172960"/>
                <a:ext cx="304920" cy="79200"/>
              </a:xfrm>
              <a:prstGeom prst="flowChartTerminator">
                <a:avLst/>
              </a:prstGeom>
              <a:solidFill>
                <a:srgbClr val="66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AutoShape 24"/>
              <p:cNvSpPr/>
              <p:nvPr/>
            </p:nvSpPr>
            <p:spPr>
              <a:xfrm>
                <a:off x="4440240" y="2412000"/>
                <a:ext cx="304560" cy="79200"/>
              </a:xfrm>
              <a:prstGeom prst="flowChartTerminator">
                <a:avLst/>
              </a:prstGeom>
              <a:solidFill>
                <a:srgbClr val="66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Oval 25"/>
              <p:cNvSpPr/>
              <p:nvPr/>
            </p:nvSpPr>
            <p:spPr>
              <a:xfrm>
                <a:off x="4806720" y="1581840"/>
                <a:ext cx="228600" cy="239040"/>
              </a:xfrm>
              <a:prstGeom prst="ellipse">
                <a:avLst/>
              </a:prstGeom>
              <a:solidFill>
                <a:srgbClr val="66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AutoShape 26"/>
            <p:cNvSpPr/>
            <p:nvPr/>
          </p:nvSpPr>
          <p:spPr>
            <a:xfrm rot="16252200">
              <a:off x="2031480" y="930600"/>
              <a:ext cx="879480" cy="3962520"/>
            </a:xfrm>
            <a:custGeom>
              <a:avLst/>
              <a:gdLst>
                <a:gd name="textAreaLeft" fmla="*/ 239760 w 879480"/>
                <a:gd name="textAreaRight" fmla="*/ 609120 w 879480"/>
                <a:gd name="textAreaTop" fmla="*/ 621360 h 3962520"/>
                <a:gd name="textAreaBottom" fmla="*/ 3341160 h 396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281" y="2684"/>
                    <a:pt x="14962" y="5080"/>
                    <a:pt x="14962" y="10800"/>
                  </a:cubicBezTo>
                  <a:cubicBezTo>
                    <a:pt x="14962" y="16520"/>
                    <a:pt x="18281" y="1891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 Box 27"/>
          <p:cNvSpPr/>
          <p:nvPr/>
        </p:nvSpPr>
        <p:spPr>
          <a:xfrm>
            <a:off x="1752480" y="41148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      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8"/>
          <p:cNvSpPr/>
          <p:nvPr/>
        </p:nvSpPr>
        <p:spPr>
          <a:xfrm>
            <a:off x="2057400" y="4343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IHz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b2802a026b04c4344afb51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8960" y="-227160"/>
            <a:ext cx="5638680" cy="98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展示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51920" y="609480"/>
            <a:ext cx="853452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我会朗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我是小艇中的游客，我会惊叹船夫的驾驶技术超级棒呢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船夫的驾驶技术特别好。行船的速度极快，来往船只很多，他操纵自如，毫不手忙脚乱。不管怎么拥挤，他总能左拐右拐地挤过去。遇到极窄的地方，他总能平稳地穿过，而且速度非常快，还能作急转弯。两边的建筑飞一般地往后倒退，我们的眼睛忙极了，不知看哪一处好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6T08:32:1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52:59Z</dcterms:modified>
  <cp:revision>11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