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0A00-4A3D-4CA6-A23A-4725E6AB64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5978-6029-42CD-8ABB-7BBC111B4F0B}" type="slidenum">
              <a:rPr b="0" lang="zh-CN" sz="1200" spc="-1" strike="noStrike">
                <a:solidFill>
                  <a:srgbClr val="0074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D6EA-2ABE-4C82-9C5D-703392FF16AD}" type="slidenum">
              <a:rPr b="0" lang="zh-CN" sz="1200" spc="-1" strike="noStrike">
                <a:solidFill>
                  <a:srgbClr val="0074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399-9D01-47E3-9EC6-35633540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32D-8896-4FA2-82AB-AE5C3FD7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F04-86D4-41E1-9D3E-DEE00296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056-A2E3-4B85-AA0E-34A42333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130-4195-4CB8-B6DA-8AD6EB81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D79-CF51-400D-8150-E08F82FF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131-7654-472A-8960-701458A6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E2C-8270-4258-BAB8-1498E244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FCE-67D6-4AD0-8308-1EABAD05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C82-98D9-4811-9C5F-D17E9A66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BD9-CF4D-4A36-AC26-DC22F953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E47-967C-4BDB-A62C-8F505113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931B-E4AE-4CAB-A571-66F5B1FEF210}" type="slidenum">
              <a:rPr b="0" lang="zh-CN" sz="1400" spc="-1" strike="noStrike">
                <a:solidFill>
                  <a:srgbClr val="0074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19280" y="1817640"/>
            <a:ext cx="6121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微软雅黑"/>
              </a:rPr>
              <a:t>网上拜年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3464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71640" y="3429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因为因特网的快捷与便利让人与人之间的时间和空间缩短了，人们可以通过因特网展开视频对话，所以说因特网让我们贴得更近了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4188600" y="1157400"/>
            <a:ext cx="3648240" cy="2310840"/>
            <a:chOff x="4188600" y="1157400"/>
            <a:chExt cx="3648240" cy="2310840"/>
          </a:xfrm>
        </p:grpSpPr>
        <p:sp>
          <p:nvSpPr>
            <p:cNvPr id="88" name="AutoShape 4"/>
            <p:cNvSpPr/>
            <p:nvPr/>
          </p:nvSpPr>
          <p:spPr>
            <a:xfrm rot="378600">
              <a:off x="4284720" y="1341360"/>
              <a:ext cx="3455640" cy="1942920"/>
            </a:xfrm>
            <a:prstGeom prst="cloudCallout">
              <a:avLst>
                <a:gd name="adj1" fmla="val -108736"/>
                <a:gd name="adj2" fmla="val 6791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4805640" y="1516320"/>
              <a:ext cx="2538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因特网让我们贴的更近了。”是什么意思？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90" name="WordArt 6"/>
          <p:cNvSpPr txBox="1"/>
          <p:nvPr/>
        </p:nvSpPr>
        <p:spPr>
          <a:xfrm>
            <a:off x="1116000" y="105264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问题思考</a:t>
            </a:r>
            <a:endParaRPr b="1" lang="en-US" sz="2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ren06"/>
          <p:cNvPicPr/>
          <p:nvPr/>
        </p:nvPicPr>
        <p:blipFill>
          <a:blip r:embed="rId2"/>
          <a:stretch/>
        </p:blipFill>
        <p:spPr>
          <a:xfrm>
            <a:off x="900000" y="3284640"/>
            <a:ext cx="2009880" cy="3024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2987640" y="2133720"/>
            <a:ext cx="4392720" cy="2520720"/>
            <a:chOff x="2987640" y="2133720"/>
            <a:chExt cx="4392720" cy="2520720"/>
          </a:xfrm>
        </p:grpSpPr>
        <p:sp>
          <p:nvSpPr>
            <p:cNvPr id="94" name="AutoShape 5"/>
            <p:cNvSpPr/>
            <p:nvPr/>
          </p:nvSpPr>
          <p:spPr>
            <a:xfrm>
              <a:off x="2987640" y="2133720"/>
              <a:ext cx="4392720" cy="2520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3564000" y="2628720"/>
              <a:ext cx="367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</a:rPr>
                <a:t>互联网真是有趣啊！让我们一起有感情地朗读全文。 </a:t>
              </a:r>
              <a:endParaRPr b="1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3"/>
          <p:cNvGrpSpPr/>
          <p:nvPr/>
        </p:nvGrpSpPr>
        <p:grpSpPr>
          <a:xfrm>
            <a:off x="1158840" y="1656720"/>
            <a:ext cx="3732120" cy="2391480"/>
            <a:chOff x="1158840" y="1656720"/>
            <a:chExt cx="3732120" cy="2391480"/>
          </a:xfrm>
        </p:grpSpPr>
        <p:sp>
          <p:nvSpPr>
            <p:cNvPr id="98" name="AutoShape 4"/>
            <p:cNvSpPr/>
            <p:nvPr/>
          </p:nvSpPr>
          <p:spPr>
            <a:xfrm rot="378600">
              <a:off x="1258560" y="1844640"/>
              <a:ext cx="3531960" cy="2015640"/>
            </a:xfrm>
            <a:prstGeom prst="cloudCallout">
              <a:avLst>
                <a:gd name="adj1" fmla="val 88250"/>
                <a:gd name="adj2" fmla="val 4037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1369800" y="2081520"/>
              <a:ext cx="3325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</a:rPr>
                <a:t>   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</a:rPr>
                <a:t>我可以把这篇课文有感情的读出来了！你可以吗？</a:t>
              </a:r>
              <a:endParaRPr b="1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00" name="Picture 6" descr="ren03"/>
          <p:cNvPicPr/>
          <p:nvPr/>
        </p:nvPicPr>
        <p:blipFill>
          <a:blip r:embed="rId3"/>
          <a:stretch/>
        </p:blipFill>
        <p:spPr>
          <a:xfrm>
            <a:off x="5435640" y="3500280"/>
            <a:ext cx="2111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87280" y="765000"/>
            <a:ext cx="165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Times New Roman"/>
              </a:rPr>
              <a:t>做一做</a:t>
            </a:r>
            <a:endParaRPr b="1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16000" y="1557360"/>
            <a:ext cx="669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一、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看词语，写拼音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上网（）（）       拜年（）（） 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标本（）（）      曲子（）（）      　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不错（）（）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二、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比一比，再组词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网（　　）　　标（　　）　　　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错（　　）　　贴（　　）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冈（　　）　    林（　　）　　　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钱（　　）　　战（　　）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小学语文（散文）02-4"/>
          <p:cNvPicPr/>
          <p:nvPr/>
        </p:nvPicPr>
        <p:blipFill>
          <a:blip r:embed="rId1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4227480" y="452160"/>
            <a:ext cx="3497040" cy="2859840"/>
            <a:chOff x="4227480" y="452160"/>
            <a:chExt cx="3497040" cy="2859840"/>
          </a:xfrm>
        </p:grpSpPr>
        <p:sp>
          <p:nvSpPr>
            <p:cNvPr id="105" name="AutoShape 4"/>
            <p:cNvSpPr/>
            <p:nvPr/>
          </p:nvSpPr>
          <p:spPr>
            <a:xfrm rot="378600">
              <a:off x="4356000" y="622440"/>
              <a:ext cx="3240000" cy="2518920"/>
            </a:xfrm>
            <a:prstGeom prst="cloudCallout">
              <a:avLst>
                <a:gd name="adj1" fmla="val -94504"/>
                <a:gd name="adj2" fmla="val 4497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4437360" y="902160"/>
              <a:ext cx="29696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7400"/>
                  </a:solidFill>
                  <a:latin typeface="Times New Roman"/>
                </a:rPr>
                <a:t>1.</a:t>
              </a:r>
              <a:r>
                <a:rPr b="1" lang="zh-CN" sz="2400" spc="-1" strike="noStrike">
                  <a:solidFill>
                    <a:srgbClr val="007400"/>
                  </a:solidFill>
                  <a:latin typeface="Times New Roman"/>
                </a:rPr>
                <a:t>利用假日的时间，让家长带着自己去网上看一看，认识因特网。</a:t>
              </a: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07" name="Picture 6" descr="ren05"/>
          <p:cNvPicPr/>
          <p:nvPr/>
        </p:nvPicPr>
        <p:blipFill>
          <a:blip r:embed="rId3"/>
          <a:stretch/>
        </p:blipFill>
        <p:spPr>
          <a:xfrm>
            <a:off x="611280" y="2781360"/>
            <a:ext cx="2544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小学语文（散文）02-4"/>
          <p:cNvPicPr/>
          <p:nvPr/>
        </p:nvPicPr>
        <p:blipFill>
          <a:blip r:embed="rId1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3"/>
          <p:cNvGrpSpPr/>
          <p:nvPr/>
        </p:nvGrpSpPr>
        <p:grpSpPr>
          <a:xfrm>
            <a:off x="3751200" y="797040"/>
            <a:ext cx="3657600" cy="2383920"/>
            <a:chOff x="3751200" y="797040"/>
            <a:chExt cx="3657600" cy="2383920"/>
          </a:xfrm>
        </p:grpSpPr>
        <p:sp>
          <p:nvSpPr>
            <p:cNvPr id="110" name="AutoShape 4"/>
            <p:cNvSpPr/>
            <p:nvPr/>
          </p:nvSpPr>
          <p:spPr>
            <a:xfrm rot="378600">
              <a:off x="3851280" y="980640"/>
              <a:ext cx="3457080" cy="2016000"/>
            </a:xfrm>
            <a:prstGeom prst="cloudCallout">
              <a:avLst>
                <a:gd name="adj1" fmla="val -94504"/>
                <a:gd name="adj2" fmla="val 4497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3938040" y="1204920"/>
              <a:ext cx="31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2.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有条件的，也可以试一试在电脑上制作贺卡。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12" name="Picture 6" descr="ren05"/>
          <p:cNvPicPr/>
          <p:nvPr/>
        </p:nvPicPr>
        <p:blipFill>
          <a:blip r:embed="rId3"/>
          <a:stretch/>
        </p:blipFill>
        <p:spPr>
          <a:xfrm>
            <a:off x="611280" y="2781360"/>
            <a:ext cx="2544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小学语文（散文）02-4"/>
          <p:cNvPicPr/>
          <p:nvPr/>
        </p:nvPicPr>
        <p:blipFill>
          <a:blip r:embed="rId1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4011120" y="372600"/>
            <a:ext cx="3642480" cy="2895120"/>
            <a:chOff x="4011120" y="372600"/>
            <a:chExt cx="3642480" cy="2895120"/>
          </a:xfrm>
        </p:grpSpPr>
        <p:sp>
          <p:nvSpPr>
            <p:cNvPr id="115" name="AutoShape 4"/>
            <p:cNvSpPr/>
            <p:nvPr/>
          </p:nvSpPr>
          <p:spPr>
            <a:xfrm rot="378600">
              <a:off x="4140000" y="550800"/>
              <a:ext cx="3384000" cy="2538720"/>
            </a:xfrm>
            <a:prstGeom prst="cloudCallout">
              <a:avLst>
                <a:gd name="adj1" fmla="val -94504"/>
                <a:gd name="adj2" fmla="val 4497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225320" y="832680"/>
              <a:ext cx="3101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3.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春节快到了，你怎么给亲友送去祝贺呢？想一想，然后做一做。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17" name="Picture 6" descr="ren05"/>
          <p:cNvPicPr/>
          <p:nvPr/>
        </p:nvPicPr>
        <p:blipFill>
          <a:blip r:embed="rId3"/>
          <a:stretch/>
        </p:blipFill>
        <p:spPr>
          <a:xfrm>
            <a:off x="611280" y="2781360"/>
            <a:ext cx="2544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54EA-0AE0-49E5-B583-969651F0E4B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4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认识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个生字，会写其中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个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正确、流利地朗读课文，理解课文内容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了解网络知识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小学语文（散文）02-2"/>
          <p:cNvPicPr/>
          <p:nvPr/>
        </p:nvPicPr>
        <p:blipFill>
          <a:blip r:embed="rId1"/>
          <a:stretch/>
        </p:blipFill>
        <p:spPr>
          <a:xfrm>
            <a:off x="684360" y="693720"/>
            <a:ext cx="1741320" cy="35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916360" y="0"/>
            <a:ext cx="5256000" cy="676908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"/>
          <p:cNvSpPr/>
          <p:nvPr/>
        </p:nvSpPr>
        <p:spPr>
          <a:xfrm>
            <a:off x="46080" y="6070680"/>
            <a:ext cx="77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更多免费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模板尽在：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57040"/>
            <a:ext cx="4427640" cy="660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4716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619280" y="2060640"/>
            <a:ext cx="640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</a:rPr>
              <a:t>轻声朗读课文，读准字音，找出不会读的词语，用笔画出来。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</a:rPr>
              <a:t> </a:t>
            </a:r>
            <a:endParaRPr b="1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9" name="Picture 3" descr="小学语文（散文）02-2"/>
          <p:cNvPicPr/>
          <p:nvPr/>
        </p:nvPicPr>
        <p:blipFill>
          <a:blip r:embed="rId1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animal03"/>
          <p:cNvPicPr/>
          <p:nvPr/>
        </p:nvPicPr>
        <p:blipFill>
          <a:blip r:embed="rId2"/>
          <a:stretch/>
        </p:blipFill>
        <p:spPr>
          <a:xfrm>
            <a:off x="5867280" y="3357720"/>
            <a:ext cx="1692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332000" y="1935000"/>
            <a:ext cx="2232000" cy="1781280"/>
            <a:chOff x="1332000" y="1935000"/>
            <a:chExt cx="2232000" cy="1781280"/>
          </a:xfrm>
        </p:grpSpPr>
        <p:pic>
          <p:nvPicPr>
            <p:cNvPr id="62" name="Picture 3" descr="14"/>
            <p:cNvPicPr/>
            <p:nvPr/>
          </p:nvPicPr>
          <p:blipFill>
            <a:blip r:embed="rId1"/>
            <a:stretch/>
          </p:blipFill>
          <p:spPr>
            <a:xfrm>
              <a:off x="1332000" y="1935000"/>
              <a:ext cx="216072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4"/>
            <p:cNvSpPr/>
            <p:nvPr/>
          </p:nvSpPr>
          <p:spPr>
            <a:xfrm>
              <a:off x="1692360" y="1996920"/>
              <a:ext cx="187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认一认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读一读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64" name="Picture 5" descr="小学语文（散文）02-2"/>
          <p:cNvPicPr/>
          <p:nvPr/>
        </p:nvPicPr>
        <p:blipFill>
          <a:blip r:embed="rId2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067280" y="371628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气 氛     表   达   祝  福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69280" y="1847880"/>
            <a:ext cx="350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宋体"/>
                <a:ea typeface="宋体"/>
              </a:rPr>
              <a:t>jùn měi píng mù jí zi</a:t>
            </a:r>
            <a:endParaRPr b="1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911040" y="3068640"/>
            <a:ext cx="373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宋体"/>
                <a:ea typeface="宋体"/>
              </a:rPr>
              <a:t>qì fēng biāo dá zhù fú</a:t>
            </a:r>
            <a:endParaRPr b="1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682080" y="2421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俊  美    屏  幕   集 子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796560" y="5013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心   花    怒  放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880080" y="4437000"/>
            <a:ext cx="29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xīn huā nù fàng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小学语文（散文）02-2"/>
          <p:cNvPicPr/>
          <p:nvPr/>
        </p:nvPicPr>
        <p:blipFill>
          <a:blip r:embed="rId1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3"/>
          <p:cNvGrpSpPr/>
          <p:nvPr/>
        </p:nvGrpSpPr>
        <p:grpSpPr>
          <a:xfrm>
            <a:off x="1332000" y="1935000"/>
            <a:ext cx="2160360" cy="1781280"/>
            <a:chOff x="1332000" y="1935000"/>
            <a:chExt cx="2160360" cy="1781280"/>
          </a:xfrm>
        </p:grpSpPr>
        <p:pic>
          <p:nvPicPr>
            <p:cNvPr id="73" name="Picture 4" descr="14"/>
            <p:cNvPicPr/>
            <p:nvPr/>
          </p:nvPicPr>
          <p:blipFill>
            <a:blip r:embed="rId2"/>
            <a:stretch/>
          </p:blipFill>
          <p:spPr>
            <a:xfrm>
              <a:off x="1332000" y="1935000"/>
              <a:ext cx="216036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5"/>
            <p:cNvSpPr/>
            <p:nvPr/>
          </p:nvSpPr>
          <p:spPr>
            <a:xfrm>
              <a:off x="1763280" y="227628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写一写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75" name="Text Box 6"/>
          <p:cNvSpPr/>
          <p:nvPr/>
        </p:nvSpPr>
        <p:spPr>
          <a:xfrm>
            <a:off x="4427640" y="2708280"/>
            <a:ext cx="38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网      拜      标      曲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错      显      贴      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258920" y="364500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电子邮件是通过互联网发送的一种文字信息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4202280" y="1299600"/>
            <a:ext cx="3620520" cy="2059920"/>
            <a:chOff x="4202280" y="1299600"/>
            <a:chExt cx="3620520" cy="2059920"/>
          </a:xfrm>
        </p:grpSpPr>
        <p:sp>
          <p:nvSpPr>
            <p:cNvPr id="78" name="AutoShape 4"/>
            <p:cNvSpPr/>
            <p:nvPr/>
          </p:nvSpPr>
          <p:spPr>
            <a:xfrm rot="378600">
              <a:off x="4284360" y="1484280"/>
              <a:ext cx="3455640" cy="1690200"/>
            </a:xfrm>
            <a:prstGeom prst="cloudCallout">
              <a:avLst>
                <a:gd name="adj1" fmla="val -108736"/>
                <a:gd name="adj2" fmla="val 6791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79" name="Text Box 5"/>
            <p:cNvSpPr/>
            <p:nvPr/>
          </p:nvSpPr>
          <p:spPr>
            <a:xfrm>
              <a:off x="4805640" y="1636560"/>
              <a:ext cx="25383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电子邮件”是什么呢？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80" name="WordArt 6"/>
          <p:cNvSpPr txBox="1"/>
          <p:nvPr/>
        </p:nvSpPr>
        <p:spPr>
          <a:xfrm>
            <a:off x="1547640" y="1125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问题思考</a:t>
            </a:r>
            <a:endParaRPr b="1" lang="en-US" sz="2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58920" y="364500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心花怒放”的意思是形容高兴极了，课文中指全家人听了爷爷的钢琴名曲，非常高兴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4202280" y="1299600"/>
            <a:ext cx="3620520" cy="2059920"/>
            <a:chOff x="4202280" y="1299600"/>
            <a:chExt cx="3620520" cy="2059920"/>
          </a:xfrm>
        </p:grpSpPr>
        <p:sp>
          <p:nvSpPr>
            <p:cNvPr id="83" name="AutoShape 4"/>
            <p:cNvSpPr/>
            <p:nvPr/>
          </p:nvSpPr>
          <p:spPr>
            <a:xfrm rot="378600">
              <a:off x="4284360" y="1484280"/>
              <a:ext cx="3455640" cy="1690200"/>
            </a:xfrm>
            <a:prstGeom prst="cloudCallout">
              <a:avLst>
                <a:gd name="adj1" fmla="val -108736"/>
                <a:gd name="adj2" fmla="val 6791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4805640" y="1636560"/>
              <a:ext cx="25383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心花怒放”是什么意思呢？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85" name="WordArt 6"/>
          <p:cNvSpPr txBox="1"/>
          <p:nvPr/>
        </p:nvSpPr>
        <p:spPr>
          <a:xfrm>
            <a:off x="1547640" y="1125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问题思考</a:t>
            </a:r>
            <a:endParaRPr b="1" lang="en-US" sz="2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6:37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3:10Z</dcterms:modified>
  <cp:revision>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