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0F1-2033-45EB-B4C5-E3D206294C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1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6A0-4BA3-4C34-9E31-8C6A4A4F7C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55F-453D-4E9F-B839-33824D0D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9E-3C02-476A-AF38-7B67DF0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56D-EF20-449E-8C3C-F40564A7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874-1770-415E-A3C4-35487869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354-5A50-4E57-A50C-DC798D1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F16-19B3-4D91-A3E8-C1885AE9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519-6765-4585-A2AD-DFECFAC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4D0-8E46-4DF0-A503-E7B00996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058-D677-4842-B003-2B67158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DBE-F996-4A02-B38D-CBA6B094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336-DC6C-4778-890E-C73B65E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AC7-9091-4D73-924F-F06DD50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57F7-FAB2-46F4-9DDB-0617011C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hyperlink" Target="file:///&#20116;&#26376;&#30340;&#30000;&#37326;.ppt" TargetMode="External"/><Relationship Id="rId4" Type="http://schemas.openxmlformats.org/officeDocument/2006/relationships/image" Target="../media/image13.jpeg"/><Relationship Id="rId5" Type="http://schemas.openxmlformats.org/officeDocument/2006/relationships/hyperlink" Target="file:///&#20116;&#26376;&#30340;&#30000;&#37326;.ppt" TargetMode="External"/><Relationship Id="rId6" Type="http://schemas.openxmlformats.org/officeDocument/2006/relationships/image" Target="../media/image14.jpeg"/><Relationship Id="rId7" Type="http://schemas.openxmlformats.org/officeDocument/2006/relationships/hyperlink" Target="file:///&#20116;&#26376;&#30340;&#30000;&#37326;.ppt" TargetMode="External"/><Relationship Id="rId8" Type="http://schemas.openxmlformats.org/officeDocument/2006/relationships/image" Target="../media/image15.jpeg"/><Relationship Id="rId9" Type="http://schemas.openxmlformats.org/officeDocument/2006/relationships/hyperlink" Target="file:///&#20116;&#26376;&#30340;&#30000;&#37326;.ppt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file:///&#20116;&#26376;&#30340;&#30000;&#37326;.ppt" TargetMode="External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0116;&#26376;&#30340;&#30000;&#37326;.ppt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hyperlink" Target="file:///&#20116;&#26376;&#30340;&#30000;&#37326;.ppt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20116;&#26376;&#30340;&#30000;&#37326;.ppt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五月的田野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295280" y="126828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五月的田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水稻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5"/>
          <p:cNvSpPr/>
          <p:nvPr/>
        </p:nvSpPr>
        <p:spPr>
          <a:xfrm>
            <a:off x="213840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0101015124513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71640" y="11145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3512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16000" y="76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品读要求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763640" y="1484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是通过课文中的哪些词句感受到田野美丽，孩子快乐的呢？在文中勾画出相关的语句，再说一说，读一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>
            <a:hlinkClick r:id="rId2"/>
          </p:cNvPr>
          <p:cNvSpPr/>
          <p:nvPr/>
        </p:nvSpPr>
        <p:spPr>
          <a:xfrm>
            <a:off x="3492360" y="580536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3794"/>
                </a:moveTo>
                <a:lnTo>
                  <a:pt x="21473" y="10800"/>
                </a:lnTo>
                <a:lnTo>
                  <a:pt x="746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>
            <a:hlinkClick r:id="rId3"/>
          </p:cNvPr>
          <p:cNvSpPr/>
          <p:nvPr/>
        </p:nvSpPr>
        <p:spPr>
          <a:xfrm>
            <a:off x="4284720" y="5805360"/>
            <a:ext cx="574560" cy="43344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27" h="21600">
                <a:moveTo>
                  <a:pt x="0" y="0"/>
                </a:moveTo>
                <a:lnTo>
                  <a:pt x="28627" y="0"/>
                </a:lnTo>
                <a:lnTo>
                  <a:pt x="28627" y="21600"/>
                </a:lnTo>
                <a:lnTo>
                  <a:pt x="0" y="21600"/>
                </a:lnTo>
                <a:close/>
              </a:path>
              <a:path fill="lightenLess" w="28627" h="21600">
                <a:moveTo>
                  <a:pt x="0" y="0"/>
                </a:moveTo>
                <a:lnTo>
                  <a:pt x="28627" y="0"/>
                </a:lnTo>
                <a:lnTo>
                  <a:pt x="27227" y="1400"/>
                </a:lnTo>
                <a:lnTo>
                  <a:pt x="1400" y="1400"/>
                </a:lnTo>
                <a:close/>
              </a:path>
              <a:path fill="darken" w="28627" h="21600">
                <a:moveTo>
                  <a:pt x="28627" y="0"/>
                </a:moveTo>
                <a:lnTo>
                  <a:pt x="28627" y="21600"/>
                </a:lnTo>
                <a:lnTo>
                  <a:pt x="27227" y="20200"/>
                </a:lnTo>
                <a:lnTo>
                  <a:pt x="27227" y="1400"/>
                </a:lnTo>
                <a:close/>
              </a:path>
              <a:path fill="darkenLess" w="28627" h="21600">
                <a:moveTo>
                  <a:pt x="28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27" y="20200"/>
                </a:lnTo>
                <a:close/>
              </a:path>
              <a:path fill="lighten" w="28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27" h="21600">
                <a:moveTo>
                  <a:pt x="7307" y="3794"/>
                </a:moveTo>
                <a:lnTo>
                  <a:pt x="21320" y="10800"/>
                </a:lnTo>
                <a:lnTo>
                  <a:pt x="730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>
            <a:hlinkClick r:id="rId5"/>
          </p:cNvPr>
          <p:cNvSpPr/>
          <p:nvPr/>
        </p:nvSpPr>
        <p:spPr>
          <a:xfrm>
            <a:off x="5003640" y="580536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>
            <a:hlinkClick r:id="rId7"/>
          </p:cNvPr>
          <p:cNvSpPr/>
          <p:nvPr/>
        </p:nvSpPr>
        <p:spPr>
          <a:xfrm>
            <a:off x="5651640" y="580536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5663" y="3794"/>
                </a:moveTo>
                <a:lnTo>
                  <a:pt x="19676" y="10800"/>
                </a:lnTo>
                <a:lnTo>
                  <a:pt x="5663" y="17806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>
            <a:hlinkClick r:id="rId9"/>
          </p:cNvPr>
          <p:cNvSpPr/>
          <p:nvPr/>
        </p:nvSpPr>
        <p:spPr>
          <a:xfrm>
            <a:off x="6372360" y="5805360"/>
            <a:ext cx="503280" cy="433440"/>
          </a:xfrm>
          <a:custGeom>
            <a:avLst/>
            <a:gdLst>
              <a:gd name="textAreaLeft" fmla="*/ 28080 w 503280"/>
              <a:gd name="textAreaRight" fmla="*/ 475200 w 5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078" h="21600">
                <a:moveTo>
                  <a:pt x="0" y="0"/>
                </a:moveTo>
                <a:lnTo>
                  <a:pt x="25078" y="0"/>
                </a:lnTo>
                <a:lnTo>
                  <a:pt x="25078" y="21600"/>
                </a:lnTo>
                <a:lnTo>
                  <a:pt x="0" y="21600"/>
                </a:lnTo>
                <a:close/>
              </a:path>
              <a:path fill="lightenLess" w="25078" h="21600">
                <a:moveTo>
                  <a:pt x="0" y="0"/>
                </a:moveTo>
                <a:lnTo>
                  <a:pt x="25078" y="0"/>
                </a:lnTo>
                <a:lnTo>
                  <a:pt x="23678" y="1400"/>
                </a:lnTo>
                <a:lnTo>
                  <a:pt x="1400" y="1400"/>
                </a:lnTo>
                <a:close/>
              </a:path>
              <a:path fill="darken" w="25078" h="21600">
                <a:moveTo>
                  <a:pt x="25078" y="0"/>
                </a:moveTo>
                <a:lnTo>
                  <a:pt x="25078" y="21600"/>
                </a:lnTo>
                <a:lnTo>
                  <a:pt x="23678" y="20200"/>
                </a:lnTo>
                <a:lnTo>
                  <a:pt x="23678" y="1400"/>
                </a:lnTo>
                <a:close/>
              </a:path>
              <a:path fill="darkenLess" w="25078" h="21600">
                <a:moveTo>
                  <a:pt x="25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8" y="20200"/>
                </a:lnTo>
                <a:close/>
              </a:path>
              <a:path fill="lighten" w="25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8" h="21600">
                <a:moveTo>
                  <a:pt x="5532" y="3794"/>
                </a:moveTo>
                <a:lnTo>
                  <a:pt x="19545" y="10800"/>
                </a:lnTo>
                <a:lnTo>
                  <a:pt x="5532" y="17806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>
            <a:hlinkClick r:id="rId11"/>
          </p:cNvPr>
          <p:cNvSpPr/>
          <p:nvPr/>
        </p:nvSpPr>
        <p:spPr>
          <a:xfrm>
            <a:off x="7093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1332000" y="1916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619280" y="1628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859280" y="907920"/>
            <a:ext cx="40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麦子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黄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豆荚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青青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在五月的田野里，它们散发出阵阵清香。在灿烂的阳光下，它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甜甜地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>
            <a:hlinkClick r:id="rId1"/>
          </p:cNvPr>
          <p:cNvSpPr/>
          <p:nvPr/>
        </p:nvSpPr>
        <p:spPr>
          <a:xfrm>
            <a:off x="5724360" y="58770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10800"/>
                </a:moveTo>
                <a:lnTo>
                  <a:pt x="26418" y="3794"/>
                </a:lnTo>
                <a:lnTo>
                  <a:pt x="264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1484_200806110042156"/>
          <p:cNvPicPr/>
          <p:nvPr/>
        </p:nvPicPr>
        <p:blipFill>
          <a:blip r:embed="rId2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豆荚"/>
          <p:cNvPicPr/>
          <p:nvPr/>
        </p:nvPicPr>
        <p:blipFill>
          <a:blip r:embed="rId3"/>
          <a:stretch/>
        </p:blipFill>
        <p:spPr>
          <a:xfrm>
            <a:off x="0" y="3284640"/>
            <a:ext cx="47163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200812240345475185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01480" y="1700280"/>
            <a:ext cx="8642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黄黄的    嫩嫩的   蓝蓝的      青青的    甜甜的   暖暖的              软软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>
            <a:hlinkClick r:id="rId2"/>
          </p:cNvPr>
          <p:cNvSpPr/>
          <p:nvPr/>
        </p:nvSpPr>
        <p:spPr>
          <a:xfrm>
            <a:off x="7308720" y="6497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柳笛和榆钱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684360" y="38955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月的风暖暖的，油光光的泥土软软的。我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着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在田埂上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冷不丁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泥土会从我们的脚趾缝里冒出来，真舒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>
            <a:hlinkClick r:id="rId2"/>
          </p:cNvPr>
          <p:cNvSpPr/>
          <p:nvPr/>
        </p:nvSpPr>
        <p:spPr>
          <a:xfrm>
            <a:off x="8424720" y="6426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3087133_152754055351_2"/>
          <p:cNvPicPr/>
          <p:nvPr/>
        </p:nvPicPr>
        <p:blipFill>
          <a:blip r:embed="rId3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柳笛和榆钱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-757080" y="2060640"/>
            <a:ext cx="66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814920" y="83664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根柔软的柳条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节笔直的竹管，柳条做鞭子，竹管做笛子。竹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鞭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下，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鸭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羊群，在田野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撒着欢儿地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把鸭子撵到刚翻过的地里去吧，那里的草虫最多：把羊儿赶到河边去吧，那里的青草真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>
            <a:hlinkClick r:id="rId2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柳笛和榆钱-02"/>
          <p:cNvPicPr/>
          <p:nvPr/>
        </p:nvPicPr>
        <p:blipFill>
          <a:blip r:embed="rId3"/>
          <a:stretch/>
        </p:blipFill>
        <p:spPr>
          <a:xfrm>
            <a:off x="0" y="0"/>
            <a:ext cx="3564000" cy="256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u=317273406,1232506574&amp;fm=0&amp;gp=0"/>
          <p:cNvPicPr/>
          <p:nvPr/>
        </p:nvPicPr>
        <p:blipFill>
          <a:blip r:embed="rId4"/>
          <a:stretch/>
        </p:blipFill>
        <p:spPr>
          <a:xfrm>
            <a:off x="0" y="2565360"/>
            <a:ext cx="3564000" cy="223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83bd9dfe6cc6aa9bb58f31e8"/>
          <p:cNvPicPr/>
          <p:nvPr/>
        </p:nvPicPr>
        <p:blipFill>
          <a:blip r:embed="rId5"/>
          <a:stretch/>
        </p:blipFill>
        <p:spPr>
          <a:xfrm>
            <a:off x="0" y="4778280"/>
            <a:ext cx="3564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柳笛和榆钱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84360" y="549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麦田的沟沿上、豆地的田埂上，我们找到一小捧一小捧的嫩青草，放进竹篮里。我们忙碌着，心里真高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里的小兔又有青草吃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/>
          </p:cNvPr>
          <p:cNvSpPr/>
          <p:nvPr/>
        </p:nvSpPr>
        <p:spPr>
          <a:xfrm>
            <a:off x="7380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小兔"/>
          <p:cNvPicPr/>
          <p:nvPr/>
        </p:nvPicPr>
        <p:blipFill>
          <a:blip r:embed="rId3"/>
          <a:stretch/>
        </p:blipFill>
        <p:spPr>
          <a:xfrm>
            <a:off x="1692360" y="4005360"/>
            <a:ext cx="50036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柳笛和榆钱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0" y="907920"/>
            <a:ext cx="89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忙完了，肚子也咕咕叫了，我们摘来嫩豆荚，拿出铁锅和米，自己做饭吃。一会儿米饭熟了，豆荚熟了，喷香的饭菜比什么都可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200942111054184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>
            <a:hlinkClick r:id="rId3"/>
          </p:cNvPr>
          <p:cNvSpPr/>
          <p:nvPr/>
        </p:nvSpPr>
        <p:spPr>
          <a:xfrm>
            <a:off x="8494560" y="6237360"/>
            <a:ext cx="649440" cy="3585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105" h="21600">
                <a:moveTo>
                  <a:pt x="0" y="0"/>
                </a:moveTo>
                <a:lnTo>
                  <a:pt x="39105" y="0"/>
                </a:lnTo>
                <a:lnTo>
                  <a:pt x="39105" y="21600"/>
                </a:lnTo>
                <a:lnTo>
                  <a:pt x="0" y="21600"/>
                </a:lnTo>
                <a:close/>
              </a:path>
              <a:path fill="lightenLess" w="39105" h="21600">
                <a:moveTo>
                  <a:pt x="0" y="0"/>
                </a:moveTo>
                <a:lnTo>
                  <a:pt x="39105" y="0"/>
                </a:lnTo>
                <a:lnTo>
                  <a:pt x="37705" y="1400"/>
                </a:lnTo>
                <a:lnTo>
                  <a:pt x="1400" y="1400"/>
                </a:lnTo>
                <a:close/>
              </a:path>
              <a:path fill="darken" w="39105" h="21600">
                <a:moveTo>
                  <a:pt x="39105" y="0"/>
                </a:moveTo>
                <a:lnTo>
                  <a:pt x="39105" y="21600"/>
                </a:lnTo>
                <a:lnTo>
                  <a:pt x="37705" y="20200"/>
                </a:lnTo>
                <a:lnTo>
                  <a:pt x="37705" y="1400"/>
                </a:lnTo>
                <a:close/>
              </a:path>
              <a:path fill="darkenLess" w="39105" h="21600">
                <a:moveTo>
                  <a:pt x="3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5" y="20200"/>
                </a:lnTo>
                <a:close/>
              </a:path>
              <a:path fill="lighten" w="3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5" h="21600">
                <a:moveTo>
                  <a:pt x="12546" y="10800"/>
                </a:moveTo>
                <a:lnTo>
                  <a:pt x="26559" y="3794"/>
                </a:lnTo>
                <a:lnTo>
                  <a:pt x="265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975272436a5718f5600094950f3d2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>
            <a:hlinkClick r:id="rId2"/>
          </p:cNvPr>
          <p:cNvSpPr/>
          <p:nvPr/>
        </p:nvSpPr>
        <p:spPr>
          <a:xfrm>
            <a:off x="795672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4724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哦，黄的是麦子，青的是豆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20080906092641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五月的田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麦子熟的时候，豆荚也长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麦子是黄黄的，豆荚是青青的。在五月的田野里，它们散发出阵阵清香。在灿烂的阳光下，它们甜甜地笑了。这时候，我们忙碌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五月的田野背景乐.mp3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ver dir="d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小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五月的田野背景乐.mp3" descr=""/>
          <p:cNvPicPr/>
          <p:nvPr/>
        </p:nvPicPr>
        <p:blipFill>
          <a:blip r:embed="rId2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047600" y="5950080"/>
            <a:ext cx="52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1-101129104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0" y="836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五月的风暖暖的，油光光的泥土软软的。我们光着脚走在田埂上，冷不丁地，泥土会从我们的脚趾缝里冒出来，真舒服。折一根柔软的柳条，削一节笔直的竹管，柳条做鞭子，竹管做笛子。竹笛吹一声，鞭子甩几下，我们撵着鸭子，赶着羊群，在田野里撒着欢儿地跑。把鸭子撵到刚翻过的地里去吧，那里的草虫最多：把羊儿赶到河边去吧，那里的青草真嫩。从麦田的沟沿上、豆地的田埂上，我们找到一小捧一小捧的嫩青草，放进竹篮里。我们忙碌着，心里真高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家里的小兔又有青草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615f61ac917247e42a9ad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24000" y="9079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忙完了，肚子也咕咕叫了，我们摘来嫩豆荚，拿出铁锅和米，自己做饭吃。一会儿米饭熟了，豆荚熟了，喷香的饭菜比什么都可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吃饱了，我们也乏了，往草地上一躺，闭上眼睛。当我们睁开眼睛的时候，眼前是一片青黄。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黄的是麦子，青的是豆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1" descr="2009422016599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332000" y="170028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403280" y="1844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908000" y="981000"/>
            <a:ext cx="6050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月的麦子是黄黄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月的豆荚是青青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月的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2009420102823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1116000" y="2593800"/>
            <a:ext cx="6481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00000" y="98100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能留心生活，细心体会生活，把五月的田野描绘得如此美妙。我们也可以到田野里去玩耍，也可以用美丽的画笔或文字记录下美好的时刻、美妙的感受，再把它珍藏在小本本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24000" y="189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笔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DBD3-3AB5-4B10-91D6-67FE4DC481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60230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21e89a1bdbg213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21e89f6c76g2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73298235743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903031227319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yzyey_2007111821010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豆荚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0:11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17Z</dcterms:modified>
  <cp:revision>1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