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DCA-0D2D-4F87-B1E3-BF213A8D9D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0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742A-3D27-409E-99B9-8FB338B51E61}" type="slidenum">
              <a:rPr b="0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085-BF4B-4F86-9DD7-F32C84A3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2E2-A2E7-4F3E-86DB-B6BF9E17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B75-B234-4408-BD3F-73A2BDCA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1A8-92D1-4635-AF07-7B2430A2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0401-53AF-4F33-97B1-11F5391A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688E-E3D1-4D76-8761-E612A715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820F-4D24-4DAE-9564-242C3A21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6C38-FA3D-4E75-A2EB-6FC4498D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7381-70A2-40BE-A7FD-9A3590DF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A662-21E3-478A-87A3-CA48EDCD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29DB-765C-404A-AC66-2E45919A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92F-E035-4886-AC3C-DC22ACBA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170D-9FFD-4E6B-8367-5AD2414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046B-3878-44A3-9489-E742B86A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A6E3-817C-4668-9DF0-5D8BB388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00BB-E447-43FB-8BC3-90FC18A0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C82A-20E6-40CC-9B9F-18DF8839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288-AE12-4856-BA26-EDC621E4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AC9-EF63-4BB7-B4AC-B57CF18A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3A6-F958-48B3-9EF0-FD2AE7D0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21D-29AD-4F91-B42F-3D6ED359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650-26B3-45D0-B22E-69802844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D1B-8473-4D85-B6D2-1E89ADF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F4E-C2E3-42FB-AAE1-B9283659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2E2B-2303-4711-BF20-9B68901D2DE8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BCE4-ED8F-405F-AA67-81910DA6B08B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49236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539640" y="981000"/>
            <a:ext cx="748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cc00"/>
                </a:solidFill>
                <a:latin typeface="微软雅黑"/>
              </a:rPr>
              <a:t>维也纳森林的故事</a:t>
            </a:r>
            <a:endParaRPr b="1" lang="en-US" sz="1800" spc="1" strike="noStrike">
              <a:ln w="0">
                <a:noFill/>
              </a:ln>
              <a:solidFill>
                <a:srgbClr val="ffcc00"/>
              </a:solidFill>
              <a:latin typeface="微软雅黑"/>
              <a:ea typeface="微软雅黑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4689360" y="414972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ffcc00"/>
                </a:solidFill>
                <a:latin typeface="宋体"/>
              </a:rPr>
              <a:t>冯骥才</a:t>
            </a:r>
            <a:endParaRPr b="0" lang="en-US" sz="4800" spc="1" strike="noStrike">
              <a:ln w="0">
                <a:noFill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106" name="矩形 10"/>
          <p:cNvSpPr/>
          <p:nvPr/>
        </p:nvSpPr>
        <p:spPr>
          <a:xfrm>
            <a:off x="1447920" y="58053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cc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http_imgload (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116000" y="1268280"/>
            <a:ext cx="6913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据课文内容解释下列画线词语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森林不单使人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赏心悦目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，还神奇地调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着气温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只要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目力所及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那些远远站在楼顶上的一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座座雕像的面孔，都能看得一清二楚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绝无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尘烟障目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476360" y="2852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赏心悦目：指因欣赏美好的情景而心情舒畅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997080" y="501336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目力所及：视力所能达到的地方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403280" y="566100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尘烟障目：像烟一样飞扬的尘土阻隔视线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4" descr="http_imgload (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838080" y="1905120"/>
            <a:ext cx="75675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187280" y="1341360"/>
            <a:ext cx="676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黑体"/>
              </a:rPr>
              <a:t>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1476360" y="1628640"/>
            <a:ext cx="20955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楷体_GB2312"/>
              </a:rPr>
              <a:t>课堂探究：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059640" y="2924280"/>
            <a:ext cx="31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作者用丰富的材料让我们感受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人与自然和谐、融洽的关系。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从文中哪些地方体会到了呢？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画相关语句，再体会着读一读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933840"/>
            <a:ext cx="88200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维也纳人的骄傲与福气之一，是他们生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层层叠叠的绿色包围之中。森林不单是维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纳人度假的去处，平日黄昏，人们也常常驱车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到城市东北角的卡伦堡山上，大口呼吸林海中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清新湿润的空气 。放眼远眺，绿海无边，每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一棵树都是一朵绿色的浪花。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  <a:ea typeface="Tahoma"/>
              </a:rPr>
              <a:t>多少棵树才汇成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  <a:ea typeface="Tahoma"/>
              </a:rPr>
              <a:t>   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  <a:ea typeface="Tahoma"/>
              </a:rPr>
              <a:t>这海一样无边无际的森林？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维也纳人的眼睛整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天为城市的奇光异彩所眩惑，此刻觉得绿色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Tahoma"/>
              </a:rPr>
              <a:t>是一种净化眼睛和心灵的颜色。</a:t>
            </a:r>
            <a:r>
              <a:rPr b="1" lang="zh-CN" sz="32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1729800" y="1067760"/>
            <a:ext cx="57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维也纳森林到底有多大？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有人说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Tahoma"/>
              </a:rPr>
              <a:t>40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  <a:ea typeface="Tahoma"/>
              </a:rPr>
              <a:t>平方千米，有人说方圆百里，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其实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这个被称作“森林王国”的奥地利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拥有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370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万公顷森林，整个国土的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44%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被森林覆盖。处处森林相连，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谁能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到这维也纳森林的边缘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684360" y="243972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向阳的山坡上，林色鲜翠；背阴的山坡上，森森然像一片埋伏在那里披甲戴盔的兵阵。森林之间是大片大片的开满鲜花的牧草，很难看见土的颜色。</a:t>
            </a:r>
            <a:r>
              <a:rPr b="1" lang="zh-CN" sz="1800" spc="-1" strike="noStrike">
                <a:solidFill>
                  <a:srgbClr val="003366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468360" y="1197000"/>
            <a:ext cx="83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每逢春天，树上开花，小鸟欢叫，各种野生小动物奔跃其间。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  <a:ea typeface="Tahoma"/>
              </a:rPr>
              <a:t>这与南部蒂罗尔州那种高山峻岭、松柏参天、雪溪喷泻的景象全然两样。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这里的森林清新柔和，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温文尔雅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倒与维也纳这个城市的味道更相调和。</a:t>
            </a:r>
            <a:br>
              <a:rPr sz="3600"/>
            </a:b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1879560" y="1242720"/>
            <a:ext cx="523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森林不单使人赏心悦目，还神奇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调节着气温。在维也纳，无论太阳怎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灼热，只要站在树荫里，便立刻清爽宜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人。中午与早晚，温差非常分明。即使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炎夏时节，日落之后，空气也会很快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爽下来，维也纳人在夏天夜里也要盖被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子睡觉，特别是一场雨后，天气如秋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2304360" y="406800"/>
            <a:ext cx="4569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我在游览维也纳郊外一座皇家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猎宫时，骤然风雷交加，大雨疾降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忽见大片草地冒起浓浓白烟，林间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更是烟雾飞扬，真是壮观。这种景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象以前很少见到。导游告诉我，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因为森林和草地吸收阳光的热量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冷雨一浇，顿成烟雾。我才知道森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林与草地作用的非凡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2035800" y="1558080"/>
            <a:ext cx="530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在这个百万人口的大城市里，无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何处，张目一看，总有鲜艳的花木在视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之内；放眼望去，空气透明，视线无阻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目力所及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，那些远远站在楼顶上的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座座雕像的面孔，都能看得一清二楚，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无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尘烟障目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2220120" y="622440"/>
            <a:ext cx="429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一天黄昏，我在城市公园里正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欣赏露天音乐会，忽然大厅上发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声声鸣叫，音调似猫，其声洪亮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扭头望去，原来是一只大孔雀站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上面。孔雀是逞强好胜的飞禽，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要与乐队一比高低。这引得人们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笑起来，但无人驱赶它，乐队更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劲地演奏，随后便是乐队与孔雀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奏边唱，奇妙之极。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20093300162989491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1488960" y="189000"/>
            <a:ext cx="304812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写作背景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143000" y="2057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625320" y="1303200"/>
            <a:ext cx="853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冯骥才说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创作这部作品之前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有两件事对我的触动非常大。一是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998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我国长江流域发生的那场特大的洪灾；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二是连续不断的席卷大半个中国的沙尘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暴。这些大自然的灾难给人们再一次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响了警钟：人类要善待大自然。同时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也强烈地撞击着作为一名新闻工作者的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责任感，从而引发了深层的思考，把创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作的视角投向了环保。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2023560" y="907920"/>
            <a:ext cx="46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还有比这更美好的表达大自然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与人类亲密和谐的颂歌吗？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Picture 4" descr="03718890671671b6a977a4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WordArt 5"/>
          <p:cNvSpPr txBox="1"/>
          <p:nvPr/>
        </p:nvSpPr>
        <p:spPr>
          <a:xfrm>
            <a:off x="2133720" y="4191120"/>
            <a:ext cx="48765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感悟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743200" y="2057400"/>
            <a:ext cx="4343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表达形式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形散而神不散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形散神聚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4" descr="p2009521044456526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26920" y="404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1d0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18728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58920" y="3645000"/>
            <a:ext cx="31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2050920" y="620640"/>
            <a:ext cx="4876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启示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042920" y="350028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ff"/>
                </a:solidFill>
                <a:latin typeface="Arial"/>
                <a:ea typeface="黑体"/>
              </a:rPr>
              <a:t>美好的环境，和谐的家园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ff"/>
                </a:solidFill>
                <a:latin typeface="Arial"/>
                <a:ea typeface="黑体"/>
              </a:rPr>
              <a:t>需要我们共同创建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文本框 1"/>
          <p:cNvSpPr/>
          <p:nvPr/>
        </p:nvSpPr>
        <p:spPr>
          <a:xfrm>
            <a:off x="1814400" y="54468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Picture 4" descr="20089210113885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28600" y="32767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1833480" y="961920"/>
            <a:ext cx="5553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中宋"/>
              </a:rPr>
              <a:t>课后作业（选其中一项）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952560" y="199692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学了本文之后，你最大的感想是什么？用一段一百字左右的话写下来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黑体"/>
              </a:rPr>
              <a:t>课后阅读冯冀才相关作品或了解中国环境问题，并提出建议。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328920" y="1628640"/>
            <a:ext cx="203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E56-41B6-4915-A8D1-308ACC24DB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3" descr="19"/>
          <p:cNvPicPr/>
          <p:nvPr/>
        </p:nvPicPr>
        <p:blipFill>
          <a:blip r:embed="rId1"/>
          <a:stretch/>
        </p:blipFill>
        <p:spPr>
          <a:xfrm>
            <a:off x="0" y="-158760"/>
            <a:ext cx="9356760" cy="701676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820800" y="765000"/>
            <a:ext cx="771516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音乐之都 维也纳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4" descr="u=2112087324,3479099926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4" descr="http_imgload (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838080" y="1905120"/>
            <a:ext cx="7567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39640" y="1628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116000" y="1844640"/>
            <a:ext cx="70563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、给画线字选正确的读音，在下面打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√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公</a:t>
            </a:r>
            <a:r>
              <a:rPr b="1" lang="zh-CN" sz="2800" spc="-1" strike="noStrike" u="sng">
                <a:solidFill>
                  <a:srgbClr val="006666"/>
                </a:solidFill>
                <a:uFillTx/>
                <a:latin typeface="黑体"/>
                <a:ea typeface="黑体"/>
              </a:rPr>
              <a:t>顷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1" lang="en-US" sz="4000" spc="-1" strike="noStrike">
                <a:solidFill>
                  <a:srgbClr val="003366"/>
                </a:solidFill>
                <a:latin typeface="黑体"/>
                <a:ea typeface="黑体"/>
              </a:rPr>
              <a:t>ǐ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ng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q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ī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ng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）　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颁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布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(pān 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bān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柏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树（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bǎi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3366"/>
                </a:solidFill>
                <a:latin typeface="宋体"/>
                <a:ea typeface="黑体"/>
              </a:rPr>
              <a:t>ó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）  　　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骤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然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(zhòu j</a:t>
            </a:r>
            <a:r>
              <a:rPr b="1" lang="zh-CN" sz="2800" spc="-1" strike="noStrike">
                <a:solidFill>
                  <a:srgbClr val="003366"/>
                </a:solidFill>
                <a:latin typeface="宋体"/>
                <a:ea typeface="黑体"/>
              </a:rPr>
              <a:t>ù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眺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望（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ti</a:t>
            </a:r>
            <a:r>
              <a:rPr b="1" lang="zh-CN" sz="2800" spc="-1" strike="noStrike">
                <a:solidFill>
                  <a:srgbClr val="003366"/>
                </a:solidFill>
                <a:latin typeface="宋体"/>
                <a:ea typeface="黑体"/>
              </a:rPr>
              <a:t>à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o tiǎo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）　　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黑体"/>
                <a:ea typeface="黑体"/>
              </a:rPr>
              <a:t>炫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惑（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xu</a:t>
            </a:r>
            <a:r>
              <a:rPr b="1" lang="zh-CN" sz="2800" spc="-1" strike="noStrike">
                <a:solidFill>
                  <a:srgbClr val="003366"/>
                </a:solidFill>
                <a:latin typeface="宋体"/>
                <a:ea typeface="黑体"/>
              </a:rPr>
              <a:t>á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n xu</a:t>
            </a:r>
            <a:r>
              <a:rPr b="1" lang="zh-CN" sz="2800" spc="-1" strike="noStrike">
                <a:solidFill>
                  <a:srgbClr val="003366"/>
                </a:solidFill>
                <a:latin typeface="宋体"/>
                <a:ea typeface="黑体"/>
              </a:rPr>
              <a:t>à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n</a:t>
            </a: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13200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494080" y="3141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759636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6877080" y="3068640"/>
            <a:ext cx="59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2475000" y="39528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064200" y="400536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2422800" y="4941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7247160" y="4941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4:01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2:15Z</dcterms:modified>
  <cp:revision>7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