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9.gif" ContentType="image/gif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chimes.wav" ContentType="audio/x-wav"/>
  <Override PartName="/ppt/media/image13.gif" ContentType="image/gif"/>
  <Override PartName="/ppt/media/image8.gif" ContentType="image/gif"/>
  <Override PartName="/ppt/media/image19.wmf" ContentType="image/x-wmf"/>
  <Override PartName="/ppt/media/image4.jpeg" ContentType="image/jpeg"/>
  <Override PartName="/ppt/media/image2.png" ContentType="image/png"/>
  <Override PartName="/ppt/media/image5.gif" ContentType="image/gif"/>
  <Override PartName="/ppt/media/image14.jpeg" ContentType="image/jpeg"/>
  <Override PartName="/ppt/media/projctor.wav" ContentType="audio/x-wav"/>
  <Override PartName="/ppt/media/type.wav" ContentType="audio/x-wav"/>
  <Override PartName="/ppt/media/laser.wav" ContentType="audio/x-wav"/>
  <Override PartName="/ppt/media/image18.wmf" ContentType="image/x-wmf"/>
  <Override PartName="/ppt/media/camera.wav" ContentType="audio/x-wav"/>
  <Override PartName="/ppt/media/image17.gif" ContentType="image/gif"/>
  <Override PartName="/ppt/media/image21.png" ContentType="image/png"/>
  <Override PartName="/ppt/media/image16.gif" ContentType="image/gif"/>
  <Override PartName="/ppt/media/image15.png" ContentType="image/png"/>
  <Override PartName="/ppt/media/image3.png" ContentType="image/png"/>
  <Override PartName="/ppt/media/image23.gif" ContentType="image/gif"/>
  <Override PartName="/ppt/media/image12.png" ContentType="image/pn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E26D-9CF1-4E4A-B739-DD8DBC346BF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315D-BAA8-41D7-A920-74898E98CF7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30FA-3126-435A-A7EA-477E8279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3C82-E333-42DB-8528-53E85D21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DBC8-ED7F-4663-9AF9-074CC5739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2549-F41F-4A02-BDDF-363C083D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4FA4-332C-483E-9633-F727D04B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4BC0-EC4F-4032-B0E8-0DEC4F33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E30A-874D-46F5-954F-BA44F7EB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89E4-8F6D-4B7D-9075-5B0FD093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20DF-4A31-4D6F-890D-FAE717E5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F91C-C65D-4D18-B2AF-B3A6885F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3A8D-E09F-46F8-903A-5E67EFFE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3391-4F18-4FB1-B9B7-562A115C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EECF-8C01-484B-8098-C8B016D3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D082-07EA-41E1-A77D-C7EDC3D2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D264-0DB0-4C6C-A6CF-6881AD72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F31B-8633-43DC-A960-4D204690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90F6-34F3-46BB-8582-422D967E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EBB0-495E-4128-ACB0-BFC0729E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F51D-7B37-4C79-8DB0-0B61E708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0F8E-C8ED-4EA1-81F7-D2F8A841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DBF7-B9C7-4BFB-AAEF-3455E8BE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D3C-7F7B-4F28-840A-704CA293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29A0-D181-46FA-92B2-CF7EEBA7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CFDC-290A-4BD4-B79F-FB9D9AEE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1768-3E7D-4860-A5BC-0A56286F5E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47AE-9418-4E94-89FD-50A58EE64A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6.gif"/><Relationship Id="rId3" Type="http://schemas.openxmlformats.org/officeDocument/2006/relationships/audio" Target="../media/projctor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laser.wav"/><Relationship Id="rId7" Type="http://schemas.openxmlformats.org/officeDocument/2006/relationships/audio" Target="../media/camera.wav"/><Relationship Id="rId8" Type="http://schemas.openxmlformats.org/officeDocument/2006/relationships/audio" Target="../media/laser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audio" Target="../media/projctor.wav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audio" Target="../media/projctor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gif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33"/>
                </a:solidFill>
                <a:latin typeface="微软雅黑"/>
                <a:ea typeface="微软雅黑"/>
              </a:rPr>
              <a:t>晓出净慈寺送林子方</a:t>
            </a:r>
            <a:br>
              <a:rPr sz="4800"/>
            </a:br>
            <a:br>
              <a:rPr sz="4800"/>
            </a:b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杨万里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二泉映月.MP3" descr=""/>
          <p:cNvPicPr/>
          <p:nvPr/>
        </p:nvPicPr>
        <p:blipFill>
          <a:blip r:embed="rId2"/>
          <a:stretch/>
        </p:blipFill>
        <p:spPr>
          <a:xfrm>
            <a:off x="304920" y="5486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矩形 4" descr=""/>
          <p:cNvPicPr/>
          <p:nvPr/>
        </p:nvPicPr>
        <p:blipFill>
          <a:blip r:embed="rId3"/>
          <a:stretch/>
        </p:blipFill>
        <p:spPr>
          <a:xfrm>
            <a:off x="1486080" y="5800680"/>
            <a:ext cx="6573600" cy="571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6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moban/                  PPT</a:t>
            </a: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素材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背景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beijing/                   PPT</a:t>
            </a: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图表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xiazai/                     PPT</a:t>
            </a: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ziliao/                   </a:t>
            </a: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fanwen/       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shiti/                     </a:t>
            </a: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jiaoan/         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论坛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课件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语文课件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kejian/yuwen/    </a:t>
            </a: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数学课件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kejian/shuxu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英语课件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kejian/yingyu/    </a:t>
            </a: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美术课件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kejian/meishu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科学课件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kejian/kexue/     </a:t>
            </a: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物理课件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kejian/wuli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化学课件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kejian/huaxue/  </a:t>
            </a: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生物课件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kejian/shengwu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地理课件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kejian/dili/          </a:t>
            </a: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历史课件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kejian/lishi/  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C:\WINDOWS\Application Data\Microsoft\Media Catalog\剪辑0025.WMF"/>
          <p:cNvPicPr/>
          <p:nvPr/>
        </p:nvPicPr>
        <p:blipFill>
          <a:blip r:embed="rId1"/>
          <a:stretch/>
        </p:blipFill>
        <p:spPr>
          <a:xfrm>
            <a:off x="0" y="1676520"/>
            <a:ext cx="9524880" cy="54673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304920" y="762120"/>
            <a:ext cx="38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宋体"/>
              </a:rPr>
              <a:t>接天莲叶无穷碧</a:t>
            </a:r>
            <a:r>
              <a:rPr b="1" lang="zh-CN" sz="3200" spc="-1" strike="noStrike">
                <a:solidFill>
                  <a:srgbClr val="ff0033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3962520" y="0"/>
            <a:ext cx="4114800" cy="1371600"/>
          </a:xfrm>
          <a:prstGeom prst="cloudCallout">
            <a:avLst>
              <a:gd name="adj1" fmla="val -88041"/>
              <a:gd name="adj2" fmla="val 6597"/>
            </a:avLst>
          </a:prstGeom>
          <a:solidFill>
            <a:srgbClr val="cc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因莲叶面积很广，似与天相接，呈现无穷的碧绿。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C:\WINDOWS\Application Data\Microsoft\Media Catalog\剪辑0009.WMF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998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映日荷花别样红</a:t>
            </a:r>
            <a:r>
              <a:rPr b="0" lang="zh-CN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0033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别样：特别，不一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别样红：红得特别，红得另有一种模样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219320" y="4038480"/>
            <a:ext cx="5181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projctor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dur="indefinite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西湖六月风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3124080" y="3124080"/>
            <a:ext cx="381240" cy="1905120"/>
          </a:xfrm>
          <a:custGeom>
            <a:avLst/>
            <a:gdLst>
              <a:gd name="textAreaLeft" fmla="*/ 243720 w 381240"/>
              <a:gd name="textAreaRight" fmla="*/ 381600 w 381240"/>
              <a:gd name="textAreaTop" fmla="*/ 49320 h 1905120"/>
              <a:gd name="textAreaBottom" fmla="*/ 185580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581280" y="28195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莲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365760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荷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4800600" y="2362320"/>
            <a:ext cx="533520" cy="15238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4800600" y="4419720"/>
            <a:ext cx="533520" cy="15238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5486400" y="21337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    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5410080" y="34290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无穷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5486400" y="41911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映    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5410080" y="54864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别样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0" y="5943600"/>
            <a:ext cx="91440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绿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得无边无际     </a:t>
            </a:r>
            <a:r>
              <a:rPr b="1" lang="zh-CN" sz="4800" spc="-1" strike="noStrike">
                <a:solidFill>
                  <a:srgbClr val="ff66ff"/>
                </a:solidFill>
                <a:latin typeface="Times New Roman"/>
              </a:rPr>
              <a:t>红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得另有一种模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17" descr="F:\大师素材\GIF动画插件2\GIF-476.gif"/>
          <p:cNvPicPr/>
          <p:nvPr/>
        </p:nvPicPr>
        <p:blipFill>
          <a:blip r:embed="rId1"/>
          <a:stretch/>
        </p:blipFill>
        <p:spPr>
          <a:xfrm>
            <a:off x="7772400" y="0"/>
            <a:ext cx="1371600" cy="1322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8" descr="F:\大师素材\GIF动画插件2\GIF-475.gif"/>
          <p:cNvPicPr/>
          <p:nvPr/>
        </p:nvPicPr>
        <p:blipFill>
          <a:blip r:embed="rId2"/>
          <a:stretch/>
        </p:blipFill>
        <p:spPr>
          <a:xfrm>
            <a:off x="0" y="0"/>
            <a:ext cx="1371600" cy="1322280"/>
          </a:xfrm>
          <a:prstGeom prst="rect">
            <a:avLst/>
          </a:prstGeom>
          <a:ln w="0">
            <a:noFill/>
          </a:ln>
        </p:spPr>
      </p:pic>
      <p:sp>
        <p:nvSpPr>
          <p:cNvPr id="157" name="WordArt 19"/>
          <p:cNvSpPr txBox="1"/>
          <p:nvPr/>
        </p:nvSpPr>
        <p:spPr>
          <a:xfrm>
            <a:off x="1600200" y="533520"/>
            <a:ext cx="5943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西湖六月风光到底有何不同？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53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西湖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projctor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8" descr="荷花2"/>
          <p:cNvPicPr/>
          <p:nvPr/>
        </p:nvPicPr>
        <p:blipFill>
          <a:blip r:embed="rId1"/>
          <a:stretch/>
        </p:blipFill>
        <p:spPr>
          <a:xfrm>
            <a:off x="-76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13716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毕 竟 ／西 湖 ／／六 月 中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风 光 ／不 与／／ 四 时 同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接 天／莲 叶／／ 无 穷 碧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映 日／ 荷 花 ／／别 样 红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0663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33"/>
                </a:solidFill>
                <a:latin typeface="Arial"/>
              </a:rPr>
              <a:t>晓出净慈寺送林子方</a:t>
            </a:r>
            <a:br>
              <a:rPr sz="5400"/>
            </a:b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2" name="pindu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0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500"/>
                            </p:stCondLst>
                            <p:childTnLst>
                              <p:par>
                                <p:cTn id="225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2" descr="D:\西湖风光\新建文件夹\hehua\20050601093200812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spcBef>
                <a:spcPts val="38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100" spc="-1" strike="noStrike">
                <a:solidFill>
                  <a:srgbClr val="ffff00"/>
                </a:solidFill>
                <a:latin typeface="Arial"/>
              </a:rPr>
              <a:t>作  业</a:t>
            </a:r>
            <a:endParaRPr b="0" lang="en-US" sz="61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900000" y="2862360"/>
            <a:ext cx="56390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看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作文：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映日荷花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》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10" descr="F:\大师素材\GIF动画插件2\GIF-482.gif"/>
          <p:cNvPicPr/>
          <p:nvPr/>
        </p:nvPicPr>
        <p:blipFill>
          <a:blip r:embed="rId2"/>
          <a:stretch/>
        </p:blipFill>
        <p:spPr>
          <a:xfrm>
            <a:off x="7308720" y="2205000"/>
            <a:ext cx="1268640" cy="1314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0135-FD06-4591-A6B1-E645BA80CF6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6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资料背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680" y="129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晓出净慈寺送林子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南宋诗人杨万里作品。六月的一天清晨，诗人在杭州西湖南岸净慈寺送别好友林子方，看到西湖的景色特别绚丽，心里很高兴，便写下了这首诗。诗的一、二行分别交待了时间和地点，概括了西湖六月风光与一年中其它时间的景色不同。三、四句分别讲荷叶和荷花。荷叶多得与天相接，无边无际，一片碧绿；荷花在朝阳的映照下，更显得格外红艳。全诗的字里行间流露出诗人对六月西湖的热烈赞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4" descr="F:\大师素材\GIF动画插件2\GIF-388.GIF"/>
          <p:cNvPicPr/>
          <p:nvPr/>
        </p:nvPicPr>
        <p:blipFill>
          <a:blip r:embed="rId2"/>
          <a:stretch/>
        </p:blipFill>
        <p:spPr>
          <a:xfrm>
            <a:off x="2209680" y="45720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0" y="16002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  <a:ea typeface="经典隶书简"/>
              </a:rPr>
              <a:t>      </a:t>
            </a:r>
            <a:r>
              <a:rPr b="1" lang="zh-CN" sz="6000" spc="-1" strike="noStrike">
                <a:solidFill>
                  <a:srgbClr val="00ff00"/>
                </a:solidFill>
                <a:latin typeface="Times New Roman"/>
                <a:ea typeface="经典隶书简"/>
              </a:rPr>
              <a:t>晓出</a:t>
            </a:r>
            <a:r>
              <a:rPr b="0" lang="zh-CN" sz="6000" spc="-1" strike="noStrike" u="sng">
                <a:solidFill>
                  <a:srgbClr val="ff0033"/>
                </a:solidFill>
                <a:uFillTx/>
                <a:latin typeface="Times New Roman"/>
                <a:ea typeface="经典隶书简"/>
                <a:hlinkClick r:id="rId2" action="ppaction://hlinksldjump"/>
              </a:rPr>
              <a:t>净慈寺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经典隶书简"/>
              </a:rPr>
              <a:t>送林子方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                          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杨万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AutoShape 5">
            <a:hlinkClick r:id="rId4" action="ppaction://hlinksldjump"/>
          </p:cNvPr>
          <p:cNvSpPr/>
          <p:nvPr/>
        </p:nvSpPr>
        <p:spPr>
          <a:xfrm>
            <a:off x="7467480" y="624852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继  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WordArt 7"/>
          <p:cNvSpPr txBox="1"/>
          <p:nvPr/>
        </p:nvSpPr>
        <p:spPr>
          <a:xfrm>
            <a:off x="4114800" y="4343400"/>
            <a:ext cx="1295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净慈寺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1476360" y="0"/>
            <a:ext cx="2232000" cy="1197000"/>
          </a:xfrm>
          <a:prstGeom prst="cloudCallout">
            <a:avLst>
              <a:gd name="adj1" fmla="val -26671"/>
              <a:gd name="adj2" fmla="val 81300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早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走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projctor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0520" y="1828800"/>
            <a:ext cx="5867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Verdana"/>
              </a:rPr>
              <a:t>净慈寺</a:t>
            </a:r>
            <a:r>
              <a:rPr b="0" lang="zh-CN" sz="3200" spc="-1" strike="noStrike">
                <a:solidFill>
                  <a:srgbClr val="0000ff"/>
                </a:solidFill>
                <a:latin typeface="Verdana"/>
              </a:rPr>
              <a:t>：位于西湖南岸南屏山慧日峰下，吴越始建，称“永明禅院”，饱经沧桑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。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寺内有宗镜堂、慧日阁、济祖殿、运木井等古迹，山门前有放生池。为著名的西湖十景之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AutoShape 5">
            <a:hlinkClick r:id="" action="ppaction://hlinkshowjump?jump=previousslide"/>
          </p:cNvPr>
          <p:cNvSpPr/>
          <p:nvPr/>
        </p:nvSpPr>
        <p:spPr>
          <a:xfrm>
            <a:off x="7391520" y="609588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420" h="21600">
                <a:moveTo>
                  <a:pt x="19203" y="7493"/>
                </a:moveTo>
                <a:lnTo>
                  <a:pt x="22711" y="7493"/>
                </a:lnTo>
                <a:lnTo>
                  <a:pt x="22711" y="12828"/>
                </a:lnTo>
                <a:cubicBezTo>
                  <a:pt x="22711" y="13751"/>
                  <a:pt x="23512" y="14482"/>
                  <a:pt x="24547" y="14482"/>
                </a:cubicBezTo>
                <a:lnTo>
                  <a:pt x="26210" y="14482"/>
                </a:lnTo>
                <a:cubicBezTo>
                  <a:pt x="27246" y="14482"/>
                  <a:pt x="28046" y="13751"/>
                  <a:pt x="28046" y="12828"/>
                </a:cubicBezTo>
                <a:lnTo>
                  <a:pt x="28046" y="7493"/>
                </a:lnTo>
                <a:lnTo>
                  <a:pt x="26210" y="7493"/>
                </a:lnTo>
                <a:lnTo>
                  <a:pt x="29717" y="3985"/>
                </a:lnTo>
                <a:lnTo>
                  <a:pt x="33390" y="7493"/>
                </a:lnTo>
                <a:lnTo>
                  <a:pt x="31554" y="7493"/>
                </a:lnTo>
                <a:lnTo>
                  <a:pt x="31554" y="12828"/>
                </a:lnTo>
                <a:cubicBezTo>
                  <a:pt x="31554" y="15596"/>
                  <a:pt x="28978" y="18155"/>
                  <a:pt x="26210" y="18155"/>
                </a:cubicBezTo>
                <a:lnTo>
                  <a:pt x="24547" y="18155"/>
                </a:lnTo>
                <a:cubicBezTo>
                  <a:pt x="21780" y="18155"/>
                  <a:pt x="19203" y="15596"/>
                  <a:pt x="19203" y="12828"/>
                </a:cubicBezTo>
                <a:close/>
              </a:path>
            </a:pathLst>
          </a:custGeom>
          <a:solidFill>
            <a:srgbClr val="96969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7" descr="F:\大师素材\GIF动画插件2\GIF-409.GIF"/>
          <p:cNvPicPr/>
          <p:nvPr/>
        </p:nvPicPr>
        <p:blipFill>
          <a:blip r:embed="rId2"/>
          <a:stretch/>
        </p:blipFill>
        <p:spPr>
          <a:xfrm>
            <a:off x="5105520" y="4419720"/>
            <a:ext cx="1279440" cy="1314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F:\大师素材\GIF动画插件2\GIF-378.GIF"/>
          <p:cNvPicPr/>
          <p:nvPr/>
        </p:nvPicPr>
        <p:blipFill>
          <a:blip r:embed="rId3"/>
          <a:stretch/>
        </p:blipFill>
        <p:spPr>
          <a:xfrm>
            <a:off x="3781440" y="4978440"/>
            <a:ext cx="704880" cy="635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F:\大师素材\GIF动画插件2\GIF-378.GIF"/>
          <p:cNvPicPr/>
          <p:nvPr/>
        </p:nvPicPr>
        <p:blipFill>
          <a:blip r:embed="rId4"/>
          <a:stretch/>
        </p:blipFill>
        <p:spPr>
          <a:xfrm>
            <a:off x="3076560" y="4978440"/>
            <a:ext cx="704880" cy="635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F:\大师素材\GIF动画插件2\GIF-378.GIF"/>
          <p:cNvPicPr/>
          <p:nvPr/>
        </p:nvPicPr>
        <p:blipFill>
          <a:blip r:embed="rId5"/>
          <a:stretch/>
        </p:blipFill>
        <p:spPr>
          <a:xfrm>
            <a:off x="3429000" y="5715000"/>
            <a:ext cx="704880" cy="63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F:\大师素材\GIF动画插件2\GIF-378.GIF"/>
          <p:cNvPicPr/>
          <p:nvPr/>
        </p:nvPicPr>
        <p:blipFill>
          <a:blip r:embed="rId6"/>
          <a:stretch/>
        </p:blipFill>
        <p:spPr>
          <a:xfrm>
            <a:off x="4390920" y="5715000"/>
            <a:ext cx="704880" cy="63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F:\大师素材\GIF动画插件2\GIF-378.GIF"/>
          <p:cNvPicPr/>
          <p:nvPr/>
        </p:nvPicPr>
        <p:blipFill>
          <a:blip r:embed="rId7"/>
          <a:stretch/>
        </p:blipFill>
        <p:spPr>
          <a:xfrm>
            <a:off x="2562120" y="5715000"/>
            <a:ext cx="704880" cy="635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8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Verdana"/>
              </a:rPr>
              <a:t> </a:t>
            </a:r>
            <a:r>
              <a:rPr b="0" lang="en-US" sz="4400" spc="-1" strike="noStrike">
                <a:solidFill>
                  <a:srgbClr val="ffcc66"/>
                </a:solidFill>
                <a:latin typeface="宋体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980720" y="1447560"/>
            <a:ext cx="7162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杨万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1127—1206)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吉州吉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今江西吉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人，字廷秀，号诚斋。绍兴二十四年进士。孝宗时官至太子侍读。光宗召为秘书监。工诗。为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南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四大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之一。初学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江西诗派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，后学王安石及晚唐诗，终自成一家。一生作诗二万余首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AutoShape 4">
            <a:hlinkClick r:id="" action="ppaction://hlinkshowjump?jump=previousslide"/>
          </p:cNvPr>
          <p:cNvSpPr/>
          <p:nvPr/>
        </p:nvSpPr>
        <p:spPr>
          <a:xfrm>
            <a:off x="6659640" y="6095880"/>
            <a:ext cx="1728720" cy="53352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9956" h="21600">
                <a:moveTo>
                  <a:pt x="0" y="0"/>
                </a:moveTo>
                <a:lnTo>
                  <a:pt x="69956" y="0"/>
                </a:lnTo>
                <a:lnTo>
                  <a:pt x="69956" y="21600"/>
                </a:lnTo>
                <a:lnTo>
                  <a:pt x="0" y="21600"/>
                </a:lnTo>
                <a:close/>
              </a:path>
              <a:path fill="lightenLess" w="69956" h="21600">
                <a:moveTo>
                  <a:pt x="0" y="0"/>
                </a:moveTo>
                <a:lnTo>
                  <a:pt x="69956" y="0"/>
                </a:lnTo>
                <a:lnTo>
                  <a:pt x="68556" y="1400"/>
                </a:lnTo>
                <a:lnTo>
                  <a:pt x="1400" y="1400"/>
                </a:lnTo>
                <a:close/>
              </a:path>
              <a:path fill="darken" w="69956" h="21600">
                <a:moveTo>
                  <a:pt x="69956" y="0"/>
                </a:moveTo>
                <a:lnTo>
                  <a:pt x="69956" y="21600"/>
                </a:lnTo>
                <a:lnTo>
                  <a:pt x="68556" y="20200"/>
                </a:lnTo>
                <a:lnTo>
                  <a:pt x="68556" y="1400"/>
                </a:lnTo>
                <a:close/>
              </a:path>
              <a:path fill="darkenLess" w="69956" h="21600">
                <a:moveTo>
                  <a:pt x="699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556" y="20200"/>
                </a:lnTo>
                <a:close/>
              </a:path>
              <a:path fill="lighten" w="699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956" h="21600">
                <a:moveTo>
                  <a:pt x="27972" y="7493"/>
                </a:moveTo>
                <a:lnTo>
                  <a:pt x="31479" y="7493"/>
                </a:lnTo>
                <a:lnTo>
                  <a:pt x="31479" y="12828"/>
                </a:lnTo>
                <a:cubicBezTo>
                  <a:pt x="31479" y="13751"/>
                  <a:pt x="32280" y="14482"/>
                  <a:pt x="33316" y="14482"/>
                </a:cubicBezTo>
                <a:lnTo>
                  <a:pt x="34978" y="14482"/>
                </a:lnTo>
                <a:cubicBezTo>
                  <a:pt x="36014" y="14482"/>
                  <a:pt x="36814" y="13751"/>
                  <a:pt x="36814" y="12828"/>
                </a:cubicBezTo>
                <a:lnTo>
                  <a:pt x="36814" y="7493"/>
                </a:lnTo>
                <a:lnTo>
                  <a:pt x="34978" y="7493"/>
                </a:lnTo>
                <a:lnTo>
                  <a:pt x="38486" y="3985"/>
                </a:lnTo>
                <a:lnTo>
                  <a:pt x="42159" y="7493"/>
                </a:lnTo>
                <a:lnTo>
                  <a:pt x="40322" y="7493"/>
                </a:lnTo>
                <a:lnTo>
                  <a:pt x="40322" y="12828"/>
                </a:lnTo>
                <a:cubicBezTo>
                  <a:pt x="40322" y="15596"/>
                  <a:pt x="37746" y="18155"/>
                  <a:pt x="34978" y="18155"/>
                </a:cubicBezTo>
                <a:lnTo>
                  <a:pt x="33316" y="18155"/>
                </a:lnTo>
                <a:cubicBezTo>
                  <a:pt x="30548" y="18155"/>
                  <a:pt x="27972" y="15596"/>
                  <a:pt x="27972" y="12828"/>
                </a:cubicBezTo>
                <a:close/>
              </a:path>
            </a:pathLst>
          </a:custGeom>
          <a:solidFill>
            <a:srgbClr val="96969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11" descr="F:\大师素材\古人图片\张若虚.JPG"/>
          <p:cNvPicPr/>
          <p:nvPr/>
        </p:nvPicPr>
        <p:blipFill>
          <a:blip r:embed="rId2"/>
          <a:stretch/>
        </p:blipFill>
        <p:spPr>
          <a:xfrm>
            <a:off x="304920" y="0"/>
            <a:ext cx="1782720" cy="236232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1"/>
          <p:cNvSpPr/>
          <p:nvPr/>
        </p:nvSpPr>
        <p:spPr>
          <a:xfrm>
            <a:off x="2394000" y="6095880"/>
            <a:ext cx="547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更多免费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模板尽在：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361960" y="2057400"/>
            <a:ext cx="5105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ff00"/>
                </a:solidFill>
                <a:latin typeface="Times New Roman"/>
                <a:ea typeface="隶书"/>
              </a:rPr>
              <a:t>初读理解词语。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ff00"/>
                </a:solidFill>
                <a:latin typeface="Times New Roman"/>
                <a:ea typeface="隶书"/>
              </a:rPr>
              <a:t>再读理解诗句。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zh-CN" sz="4600" spc="-1" strike="noStrike">
                <a:solidFill>
                  <a:srgbClr val="ffff00"/>
                </a:solidFill>
                <a:latin typeface="Times New Roman"/>
                <a:ea typeface="隶书"/>
              </a:rPr>
              <a:t>细读理解诗意。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zh-CN" sz="4600" spc="-1" strike="noStrike">
                <a:solidFill>
                  <a:srgbClr val="ffff00"/>
                </a:solidFill>
                <a:latin typeface="Times New Roman"/>
                <a:ea typeface="隶书"/>
              </a:rPr>
              <a:t>品读领悟诗境。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WordArt 3"/>
          <p:cNvSpPr txBox="1"/>
          <p:nvPr/>
        </p:nvSpPr>
        <p:spPr>
          <a:xfrm rot="20932200">
            <a:off x="685800" y="30492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6726000"/>
                </a:gradFill>
                <a:latin typeface="华文新魏"/>
              </a:rPr>
              <a:t>学习方法：</a:t>
            </a:r>
            <a:endParaRPr b="1" lang="en-US" sz="6000" spc="-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6726000"/>
              </a:gradFill>
              <a:latin typeface="华文新魏"/>
              <a:ea typeface="华文新魏"/>
            </a:endParaRPr>
          </a:p>
        </p:txBody>
      </p:sp>
      <p:pic>
        <p:nvPicPr>
          <p:cNvPr id="120" name="Picture 5" descr="F:\大师素材\GIF动画插件2\GIF-502.gif"/>
          <p:cNvPicPr/>
          <p:nvPr/>
        </p:nvPicPr>
        <p:blipFill>
          <a:blip r:embed="rId5"/>
          <a:stretch/>
        </p:blipFill>
        <p:spPr>
          <a:xfrm>
            <a:off x="228600" y="152280"/>
            <a:ext cx="1074600" cy="1589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6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835280" y="2781360"/>
            <a:ext cx="54482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imes New Roman"/>
              </a:rPr>
              <a:t>杨万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500" spc="-1" strike="noStrike">
                <a:solidFill>
                  <a:srgbClr val="ffff00"/>
                </a:solidFill>
                <a:latin typeface="Times New Roman"/>
              </a:rPr>
              <a:t>毕竟西湖六月中，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500" spc="-1" strike="noStrike">
                <a:solidFill>
                  <a:srgbClr val="ffff00"/>
                </a:solidFill>
                <a:latin typeface="Times New Roman"/>
              </a:rPr>
              <a:t>风光不与四时同。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500" spc="-1" strike="noStrike">
                <a:solidFill>
                  <a:srgbClr val="ffff00"/>
                </a:solidFill>
                <a:latin typeface="Times New Roman"/>
              </a:rPr>
              <a:t>接天莲叶无穷碧，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500" spc="-1" strike="noStrike">
                <a:solidFill>
                  <a:srgbClr val="ffff00"/>
                </a:solidFill>
                <a:latin typeface="Times New Roman"/>
              </a:rPr>
              <a:t>映日荷花别样红。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64600" dir="20925162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33"/>
                </a:solidFill>
                <a:latin typeface="Times New Roman"/>
                <a:ea typeface="经典隶书简"/>
              </a:rPr>
              <a:t>晓出净慈寺送林子方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3" name="朗读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53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0"/>
                            </p:stCondLst>
                            <p:childTnLst>
                              <p:par>
                                <p:cTn id="6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85800" y="2057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毕竟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西湖六月中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1447920" y="2514600"/>
            <a:ext cx="22860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0" y="6375"/>
                </a:moveTo>
                <a:lnTo>
                  <a:pt x="-720" y="18900"/>
                </a:lnTo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毕竟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：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到底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1066680" y="3657600"/>
            <a:ext cx="32292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1" y="-1800"/>
                </a:moveTo>
                <a:lnTo>
                  <a:pt x="20835" y="-1800"/>
                </a:lnTo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风光不与四时同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1447920" y="4572000"/>
            <a:ext cx="220968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6052" y="-1800"/>
                </a:moveTo>
                <a:lnTo>
                  <a:pt x="20483" y="-1800"/>
                </a:lnTo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四时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：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四季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9" descr="F:\大师素材\GIF动画插件2\GIF-475.gif"/>
          <p:cNvPicPr/>
          <p:nvPr/>
        </p:nvPicPr>
        <p:blipFill>
          <a:blip r:embed="rId1"/>
          <a:stretch/>
        </p:blipFill>
        <p:spPr>
          <a:xfrm>
            <a:off x="0" y="0"/>
            <a:ext cx="1371600" cy="1322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F:\大师素材\GIF动画插件2\GIF-476.gif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322280"/>
          </a:xfrm>
          <a:prstGeom prst="rect">
            <a:avLst/>
          </a:prstGeom>
          <a:ln w="0">
            <a:noFill/>
          </a:ln>
        </p:spPr>
      </p:pic>
      <p:sp>
        <p:nvSpPr>
          <p:cNvPr id="130" name="WordArt 11"/>
          <p:cNvSpPr txBox="1"/>
          <p:nvPr/>
        </p:nvSpPr>
        <p:spPr>
          <a:xfrm>
            <a:off x="2286000" y="457200"/>
            <a:ext cx="4572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ffff99">
                      <a:alpha val="50000"/>
                    </a:srgbClr>
                  </a:outerShdw>
                </a:effectLst>
                <a:latin typeface="宋体"/>
              </a:rPr>
              <a:t>学习一、二句</a:t>
            </a:r>
            <a:endParaRPr b="0" lang="en-US" sz="2400" spc="1" strike="noStrike">
              <a:ln w="9360">
                <a:solidFill>
                  <a:srgbClr val="ff00ff"/>
                </a:solidFill>
                <a:round/>
              </a:ln>
              <a:solidFill>
                <a:srgbClr val="ffff00"/>
              </a:solidFill>
              <a:effectLst>
                <a:outerShdw dist="153753" dir="2700000" blurRad="0" rotWithShape="0">
                  <a:srgbClr val="ffff99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3" name="projctor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2052"/>
          <p:cNvSpPr/>
          <p:nvPr/>
        </p:nvSpPr>
        <p:spPr>
          <a:xfrm>
            <a:off x="1371600" y="160020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</a:rPr>
              <a:t>那么西湖六月的风光和其它时间的不同之处在哪里呢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2053" descr="F:\大师素材\GIF动画插件2\GIF-475.gif"/>
          <p:cNvPicPr/>
          <p:nvPr/>
        </p:nvPicPr>
        <p:blipFill>
          <a:blip r:embed="rId1"/>
          <a:stretch/>
        </p:blipFill>
        <p:spPr>
          <a:xfrm>
            <a:off x="0" y="0"/>
            <a:ext cx="1371600" cy="1322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054" descr="F:\大师素材\GIF动画插件2\GIF-476.gif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322280"/>
          </a:xfrm>
          <a:prstGeom prst="rect">
            <a:avLst/>
          </a:prstGeom>
          <a:ln w="0">
            <a:noFill/>
          </a:ln>
        </p:spPr>
      </p:pic>
      <p:sp>
        <p:nvSpPr>
          <p:cNvPr id="135" name="WordArt 2056"/>
          <p:cNvSpPr txBox="1"/>
          <p:nvPr/>
        </p:nvSpPr>
        <p:spPr>
          <a:xfrm>
            <a:off x="1981080" y="4343400"/>
            <a:ext cx="4572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333300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ffff99">
                      <a:alpha val="50000"/>
                    </a:srgbClr>
                  </a:outerShdw>
                </a:effectLst>
                <a:latin typeface="宋体"/>
              </a:rPr>
              <a:t>学习三、四句</a:t>
            </a:r>
            <a:endParaRPr b="0" lang="en-US" sz="2400" spc="1" strike="noStrike">
              <a:ln w="9360">
                <a:solidFill>
                  <a:srgbClr val="333300"/>
                </a:solidFill>
                <a:round/>
              </a:ln>
              <a:solidFill>
                <a:srgbClr val="000000"/>
              </a:solidFill>
              <a:effectLst>
                <a:outerShdw dist="153753" dir="2700000" blurRad="0" rotWithShape="0">
                  <a:srgbClr val="ffff99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3" name="projctor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dur="indefinite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12:40:5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1:02Z</dcterms:modified>
  <cp:revision>5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