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456B-819B-4987-96AF-E6C08204B9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81E7-D8F8-45DE-B01B-62B7FA5841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36A-674D-4822-A3EF-CE01F707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3C5-C1FF-4F35-A438-04A2116D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ED7-EC56-4E12-ADC6-BEF02447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75E-E496-4DB2-B6E1-25535587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677-85E0-4015-99F0-EB78B2C7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178-7C57-436A-A7A4-79284F83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30B-8713-4396-A18D-5BAA4617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ADB-C86A-4947-9636-B04E417A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741-0CFF-40A3-9F81-4955D063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87A-11F3-47A6-B118-2B659879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969-DBB0-415D-BC81-E4B0F297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4DC-DA56-40FB-95F0-5134E0DA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44A3-95FE-4B5B-A617-F9BB502F3B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8153280" cy="55623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6" descr=""/>
          <p:cNvPicPr/>
          <p:nvPr/>
        </p:nvPicPr>
        <p:blipFill>
          <a:blip r:embed="rId3"/>
          <a:stretch/>
        </p:blipFill>
        <p:spPr>
          <a:xfrm>
            <a:off x="960480" y="2147760"/>
            <a:ext cx="7434360" cy="1324080"/>
          </a:xfrm>
          <a:prstGeom prst="rect">
            <a:avLst/>
          </a:prstGeom>
          <a:ln w="0">
            <a:noFill/>
          </a:ln>
        </p:spPr>
      </p:pic>
      <p:pic>
        <p:nvPicPr>
          <p:cNvPr id="50" name="矩形 7" descr=""/>
          <p:cNvPicPr/>
          <p:nvPr/>
        </p:nvPicPr>
        <p:blipFill>
          <a:blip r:embed="rId4"/>
          <a:stretch/>
        </p:blipFill>
        <p:spPr>
          <a:xfrm>
            <a:off x="1969920" y="5638680"/>
            <a:ext cx="55008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20070714_14"/>
          <p:cNvPicPr/>
          <p:nvPr/>
        </p:nvPicPr>
        <p:blipFill>
          <a:blip r:embed="rId1"/>
          <a:stretch/>
        </p:blipFill>
        <p:spPr>
          <a:xfrm>
            <a:off x="-380880" y="-434880"/>
            <a:ext cx="9753480" cy="760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20070714_14"/>
          <p:cNvPicPr/>
          <p:nvPr/>
        </p:nvPicPr>
        <p:blipFill>
          <a:blip r:embed="rId2">
            <a:grayscl/>
          </a:blip>
          <a:stretch/>
        </p:blipFill>
        <p:spPr>
          <a:xfrm>
            <a:off x="-533520" y="-380880"/>
            <a:ext cx="10058400" cy="8204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6781680" y="1219320"/>
            <a:ext cx="140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宋体"/>
              </a:rPr>
              <a:t>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-457200" y="0"/>
            <a:ext cx="4802040" cy="7162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"/>
                            </p:stCondLst>
                            <p:childTnLst>
                              <p:par>
                                <p:cTn id="30" dur="indefinite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20070714_26"/>
          <p:cNvPicPr/>
          <p:nvPr/>
        </p:nvPicPr>
        <p:blipFill>
          <a:blip r:embed="rId1"/>
          <a:stretch/>
        </p:blipFill>
        <p:spPr>
          <a:xfrm>
            <a:off x="0" y="-304920"/>
            <a:ext cx="6743880" cy="10287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7010280" y="1066680"/>
            <a:ext cx="213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宋体"/>
              </a:rPr>
              <a:t>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宋体"/>
              </a:rPr>
              <a:t>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63520" y="1501560"/>
            <a:ext cx="861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惊喜       惊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蝴蝶听了妈妈的话，不再感到 （       ），反而感到很 （         ）。因为再过不久，她就要有一个和她一样漂亮的蝴蝶弟弟了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14600" y="33526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惊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809880" y="2590920"/>
            <a:ext cx="15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惊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52280" y="2286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选词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125880" y="1371600"/>
            <a:ext cx="180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1640" y="630360"/>
            <a:ext cx="8255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惊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小怪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惊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弓之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惊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天动地  打草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惊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胆战心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惊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惊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心动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Arial"/>
              </a:rPr>
              <a:t>魄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pò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惊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慌失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</a:rPr>
              <a:t>措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uò 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W020080228284211874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3241080" y="411480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ffff"/>
                </a:solidFill>
                <a:latin typeface="Arial"/>
                <a:ea typeface="宋体"/>
              </a:rPr>
              <a:t>凤蝶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2819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生字一字一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语文一课一练第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C03F-6512-4DD9-A78A-062AADD62C5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5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本课生字，会写田字格内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正确、流利、有感情地朗读课文，能读好人物对话，理解蝴蝶的发育过程，感悟大自然的神奇，激发探究自然知识的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20070714_26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0070714_25"/>
          <p:cNvPicPr/>
          <p:nvPr/>
        </p:nvPicPr>
        <p:blipFill>
          <a:blip r:embed="rId2"/>
          <a:srcRect l="0" t="0" r="-70" b="-86"/>
          <a:stretch/>
        </p:blipFill>
        <p:spPr>
          <a:xfrm>
            <a:off x="4495680" y="1295280"/>
            <a:ext cx="4343400" cy="4038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361960" y="213372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欣赏课文，理解句子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762120" y="76212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毛毛虫抬起头来，惊喜地喊：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妈妈，妈妈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50880" y="23274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谁是你的妈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蝴蝶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生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838080" y="3733920"/>
            <a:ext cx="7543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毛毛虫仔细看了看小蝴蝶，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不好意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说：“姐姐，你真漂亮，像我妈妈一样漂亮。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09680" y="2362320"/>
            <a:ext cx="518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什么，你说什么？你妈妈是谁？”小蝴蝶惊讶地问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057400" y="2265480"/>
            <a:ext cx="51814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什么，你说什么？你妈妈是谁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小蝴蝶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楷体_GB2312"/>
              </a:rPr>
              <a:t>惊讶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地问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209680" y="3262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04920" y="228600"/>
            <a:ext cx="84582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毛毛虫抬起头来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惊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喊：“妈妈，妈妈！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什么，你说什么？你妈妈是谁？”小蝴蝶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Arial"/>
              </a:rPr>
              <a:t>惊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问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20070714_26"/>
          <p:cNvPicPr/>
          <p:nvPr/>
        </p:nvPicPr>
        <p:blipFill>
          <a:blip r:embed="rId1"/>
          <a:stretch/>
        </p:blipFill>
        <p:spPr>
          <a:xfrm>
            <a:off x="609480" y="3505320"/>
            <a:ext cx="1128960" cy="121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20070714_25"/>
          <p:cNvPicPr/>
          <p:nvPr/>
        </p:nvPicPr>
        <p:blipFill>
          <a:blip r:embed="rId2"/>
          <a:srcRect l="0" t="0" r="-56" b="-60"/>
          <a:stretch/>
        </p:blipFill>
        <p:spPr>
          <a:xfrm>
            <a:off x="533520" y="0"/>
            <a:ext cx="12952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2_Li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5511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676680" y="51055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宋体"/>
              </a:rPr>
              <a:t>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0070714_24"/>
          <p:cNvPicPr/>
          <p:nvPr/>
        </p:nvPicPr>
        <p:blipFill>
          <a:blip r:embed="rId1"/>
          <a:srcRect l="0" t="0" r="-49" b="-72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676680" y="4952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宋体"/>
              </a:rPr>
              <a:t>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88920" y="6508800"/>
            <a:ext cx="65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3:12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5:47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