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609F1-C9B9-4BFD-B1EE-0DD792E38C9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4.xml"/><Relationship Id="rId24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73E89-5704-4124-AE7A-6773BE48126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57E5-9082-4164-9D65-E94E7C124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8B7F-BC36-4247-BC2E-157A142BC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B4FA-7F37-47B8-83B5-38D86F593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C08F-675D-4531-B0DB-8219B6D10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5EF00-BC45-40C9-B0C8-18C07BD8C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F8328-7D64-424A-B232-5C952894B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79C9C-BE70-4A37-B262-5F74EFBE9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B74B8-0930-4753-ADB2-C9DFD9F71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9699B-87A1-4E9B-BD8B-CFBA8EEE8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CA476-0DB5-49F8-A58B-8FADADC44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49654-45BE-4945-8081-2ABF5582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12E1-6FD1-4147-9775-69291C6BD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11556-7FBE-4A21-AD6B-B8C3014E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64745-FE7E-41D5-A176-A04FB03A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27523-D57E-4C77-9562-B500DD9E5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C95CB-FA13-48D1-9FFB-959110F3A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16740-DF24-494F-821C-E0F33877F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8273-4254-48AC-B37A-2BBAE004C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AB51-3FCA-4920-9380-D6F08330D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99CE-27BE-4555-A879-A8D741D6C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5EDA-2888-4EAB-9FD9-7961BEB41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AB50-6BAB-46E4-89D3-1205DBC2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FEE2-60C8-451C-A42B-62313AA7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8B9A-D774-46DE-BE06-E9984C4F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D8E8E-702F-40BE-8173-7A4872E996A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A0C62-A8D1-40E7-B1DB-E4C9139E8D1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矩形 1"/>
          <p:cNvSpPr/>
          <p:nvPr/>
        </p:nvSpPr>
        <p:spPr>
          <a:xfrm>
            <a:off x="2705760" y="765000"/>
            <a:ext cx="383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狐狸哭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5"/>
          <p:cNvSpPr/>
          <p:nvPr/>
        </p:nvSpPr>
        <p:spPr>
          <a:xfrm>
            <a:off x="1858680" y="596736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图片 4" descr=""/>
          <p:cNvPicPr/>
          <p:nvPr/>
        </p:nvPicPr>
        <p:blipFill>
          <a:blip r:embed="rId1"/>
          <a:stretch/>
        </p:blipFill>
        <p:spPr>
          <a:xfrm>
            <a:off x="1547640" y="2290680"/>
            <a:ext cx="601848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4"/>
          <p:cNvSpPr/>
          <p:nvPr/>
        </p:nvSpPr>
        <p:spPr>
          <a:xfrm>
            <a:off x="971640" y="90792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通过交流，在你的印象中狐狸是什么样子的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611280" y="256536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狡猾、懒惰、贪婪、自私、多疑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狐狸哭"/>
          <p:cNvPicPr/>
          <p:nvPr/>
        </p:nvPicPr>
        <p:blipFill>
          <a:blip r:embed="rId1"/>
          <a:stretch/>
        </p:blipFill>
        <p:spPr>
          <a:xfrm>
            <a:off x="611280" y="2852640"/>
            <a:ext cx="2536560" cy="311472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3"/>
          <p:cNvSpPr/>
          <p:nvPr/>
        </p:nvSpPr>
        <p:spPr>
          <a:xfrm>
            <a:off x="2050920" y="1341360"/>
            <a:ext cx="4392720" cy="1944720"/>
          </a:xfrm>
          <a:prstGeom prst="cloudCallout">
            <a:avLst>
              <a:gd name="adj1" fmla="val -42120"/>
              <a:gd name="adj2" fmla="val 75958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长期以来，我们狐狸受尽了人类的不公正对待，委屈着呢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4" descr="狐狸4"/>
          <p:cNvPicPr/>
          <p:nvPr/>
        </p:nvPicPr>
        <p:blipFill>
          <a:blip r:embed="rId1"/>
          <a:stretch/>
        </p:blipFill>
        <p:spPr>
          <a:xfrm>
            <a:off x="395280" y="692280"/>
            <a:ext cx="2303640" cy="258588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1258920" y="69228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3492360" y="260280"/>
            <a:ext cx="5256360" cy="3311640"/>
          </a:xfrm>
          <a:prstGeom prst="wedgeEllipseCallout">
            <a:avLst>
              <a:gd name="adj1" fmla="val -44532"/>
              <a:gd name="adj2" fmla="val 28712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现在就请同学们把自己当成一只小狐狸，放飞想像的翅膀，依据老师的提示大胆想像，尽量做到巧妙、新颖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1332000" y="3500280"/>
            <a:ext cx="6480000" cy="3168720"/>
          </a:xfrm>
          <a:prstGeom prst="horizontalScrol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小狐狸为什么哭了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周围的环境怎样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这件事发生在哪些人物之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他们的语言、动作、神态、心理各是怎样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77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77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77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背景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想一想，说一说：小狐狸为什么哭了，该如何写好这次作文呢？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要讲清狐狸哭的原因，是什么事情使小狐狸哭了，讲清事情的经过。写写周围的环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确定事情的时候，要考虑到自己所选相动物的习性及特征是否相符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想象合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说的时候要语句通顺，用词准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3040200" y="2425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AutoShape 4"/>
          <p:cNvSpPr/>
          <p:nvPr/>
        </p:nvSpPr>
        <p:spPr>
          <a:xfrm>
            <a:off x="539640" y="692280"/>
            <a:ext cx="7632720" cy="460836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组内交流，发表自己的看法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也可以给别人提问题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帮助把过程说具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5"/>
          <p:cNvSpPr/>
          <p:nvPr/>
        </p:nvSpPr>
        <p:spPr>
          <a:xfrm>
            <a:off x="539640" y="174600"/>
            <a:ext cx="741708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习作要求：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）展开丰富的想像，以“小狐狸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……”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或“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的小狐狸”为题进行写作。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）把故事的经过写清楚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。（提示：图画内容可以是故事的结局，也可以是故事的经过，还可以是故事的开端）</a:t>
            </a:r>
            <a:br>
              <a:rPr sz="2400"/>
            </a:b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） 也可以自己另拟题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）作文字数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300-400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之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330066"/>
                </a:solidFill>
                <a:latin typeface="Arial"/>
              </a:rPr>
              <a:t>佳作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1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《</a:t>
            </a:r>
            <a:r>
              <a:rPr b="1" lang="zh-CN" sz="3500" spc="-1" strike="noStrike">
                <a:solidFill>
                  <a:srgbClr val="330066"/>
                </a:solidFill>
                <a:latin typeface="Arial"/>
              </a:rPr>
              <a:t>狐狸和乌鸦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》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0" y="907560"/>
            <a:ext cx="91440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狐狸用花言巧语骗来了乌鸦的肉，在家里津津有味地吃起来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可是，没过多久，它的肚子就开始疼起来，疼得小狐狸在地上直打滚。边滚边想：一定是乌鸦往肉里放了什么东西，我去找乌鸦，让它给我解药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狐狸边哭边奔跑，还摔了好几跤，终于忍着疼痛来到了乌鸦家。“乌鸦，乌鸦，我的肚子好痛啊，你快救救我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……”“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谁呀，在外面吵吵闹闹的。”乌鸦打开门一看，原来是骗走了肉的狐狸。见狐狸痛得死去活来，乌鸦不再计较它以前的坏行为，而是好意地告诉它：“我并没有在肉里加什么东西，你快去九色鹿医生那儿吧！可能是你自己没有注意卫生吧！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它们一起来到了森林医院，找到了九色鹿医生。九色鹿医生用药水清洗了狐狸的肠道，狐狸马上不痛了。九色鹿还给它开了一些药，告诉它今后要注意卫生，可不能叼着什么就吃民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狐狸握着乌鸦的手，激动地说：“谢谢你！我以后再也不做坏事了。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从此，狐狸和乌鸦成了森林里最要好的一对朋友。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背景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-1" strike="noStrike">
                <a:solidFill>
                  <a:srgbClr val="000000"/>
                </a:solidFill>
                <a:latin typeface="Arial"/>
              </a:rPr>
              <a:t>谢谢指导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使用规范说明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3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3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3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3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3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3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3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300" spc="-1" strike="noStrike" u="sng">
                <a:solidFill>
                  <a:srgbClr val="7e9ce8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7e9ce8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100" spc="-1" strike="noStrike" u="sng">
                <a:solidFill>
                  <a:srgbClr val="7e9ce8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7e9ce8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100" spc="-1" strike="noStrike" u="sng">
                <a:solidFill>
                  <a:srgbClr val="7e9ce8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7e9ce8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100" spc="-1" strike="noStrike" u="sng">
                <a:solidFill>
                  <a:srgbClr val="7e9ce8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7e9ce8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100" spc="-1" strike="noStrike" u="sng">
                <a:solidFill>
                  <a:srgbClr val="7e9ce8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1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7e9ce8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100" spc="-1" strike="noStrike" u="sng">
                <a:solidFill>
                  <a:srgbClr val="7e9ce8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7e9ce8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100" spc="-1" strike="noStrike" u="sng">
                <a:solidFill>
                  <a:srgbClr val="7e9ce8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7e9ce8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100" spc="-1" strike="noStrike" u="sng">
                <a:solidFill>
                  <a:srgbClr val="7e9ce8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15C4C-3A2D-4CDD-913D-B456C11AFEE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谜语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755280" y="1719360"/>
            <a:ext cx="7931160" cy="33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     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尖尖嘴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           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细细腿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           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狡猾多疑拖大尾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                  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打一小动物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39640" y="3716280"/>
            <a:ext cx="30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20081299273060_2"/>
          <p:cNvPicPr/>
          <p:nvPr/>
        </p:nvPicPr>
        <p:blipFill>
          <a:blip r:embed="rId1"/>
          <a:stretch/>
        </p:blipFill>
        <p:spPr>
          <a:xfrm>
            <a:off x="0" y="3294000"/>
            <a:ext cx="3564000" cy="3564000"/>
          </a:xfrm>
          <a:prstGeom prst="rect">
            <a:avLst/>
          </a:prstGeom>
          <a:ln w="0">
            <a:noFill/>
          </a:ln>
        </p:spPr>
      </p:pic>
      <p:sp>
        <p:nvSpPr>
          <p:cNvPr id="163" name="文本框 1"/>
          <p:cNvSpPr/>
          <p:nvPr/>
        </p:nvSpPr>
        <p:spPr>
          <a:xfrm>
            <a:off x="2333520" y="587520"/>
            <a:ext cx="511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000" y="105264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66"/>
                </a:solidFill>
                <a:latin typeface="Arial"/>
              </a:rPr>
              <a:t>说一说有关狐狸的成语、寓言、童话</a:t>
            </a: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755640" y="2445840"/>
            <a:ext cx="7942320" cy="112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5360" indent="-315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成语：狐假虎威、狐疑不决、狐朋狗友、狐狸尾巴、一</a:t>
            </a:r>
            <a:r>
              <a:rPr b="1" i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狐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之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755640" y="4005360"/>
            <a:ext cx="80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寓言：狐狸和乌鸦、酸葡萄、狐假虎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矩形 7"/>
          <p:cNvSpPr/>
          <p:nvPr/>
        </p:nvSpPr>
        <p:spPr>
          <a:xfrm>
            <a:off x="4788000" y="292428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狐狸和乌鸦"/>
          <p:cNvPicPr/>
          <p:nvPr/>
        </p:nvPicPr>
        <p:blipFill>
          <a:blip r:embed="rId1"/>
          <a:stretch/>
        </p:blipFill>
        <p:spPr>
          <a:xfrm>
            <a:off x="0" y="200160"/>
            <a:ext cx="9144000" cy="66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狐假虎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QQ截图20140312131833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4"/>
          <p:cNvSpPr/>
          <p:nvPr/>
        </p:nvSpPr>
        <p:spPr>
          <a:xfrm>
            <a:off x="611280" y="1341360"/>
            <a:ext cx="7559640" cy="11912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狗与公鸡结交为朋友，他们一同赶路。到了晚上，公鸡一跃跳到树上，在树枝上栖息，狗就在下面树洞里过夜。黎明到来时，公鸡像往常一样啼叫起来。有只狐狸听见鸡叫，想要吃鸡肉，便跑来站在树下，恭敬地请鸡下来，并说：“多么美的嗓音啊！太悦耳动听了，我真想拥抱你。快下来，让我们一起唱支小夜曲吧。”鸡回答说：“请你去叫醒树洞里的那个看门守夜的，他一开门，我就可以下来。”狐狸立刻去叫门，狗突然跳了起来，把他咬住撕碎了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这故事说明，聪明的人临危不乱，巧妙而轻易地击败敌人。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狐狸和猴子"/>
          <p:cNvPicPr/>
          <p:nvPr/>
        </p:nvPicPr>
        <p:blipFill>
          <a:blip r:embed="rId1"/>
          <a:stretch/>
        </p:blipFill>
        <p:spPr>
          <a:xfrm>
            <a:off x="250920" y="271440"/>
            <a:ext cx="8066160" cy="642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小狐狸哭了"/>
          <p:cNvPicPr/>
          <p:nvPr/>
        </p:nvPicPr>
        <p:blipFill>
          <a:blip r:embed="rId1"/>
          <a:stretch/>
        </p:blipFill>
        <p:spPr>
          <a:xfrm>
            <a:off x="0" y="-674640"/>
            <a:ext cx="9144000" cy="849636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5"/>
          <p:cNvSpPr/>
          <p:nvPr/>
        </p:nvSpPr>
        <p:spPr>
          <a:xfrm>
            <a:off x="4572000" y="5589720"/>
            <a:ext cx="374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755640" y="5734080"/>
            <a:ext cx="691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黑体"/>
              </a:rPr>
              <a:t>      </a:t>
            </a:r>
            <a:r>
              <a:rPr b="1" lang="zh-CN" sz="6000" spc="-1" strike="noStrike">
                <a:solidFill>
                  <a:srgbClr val="00ff00"/>
                </a:solidFill>
                <a:latin typeface="Arial"/>
                <a:ea typeface="黑体"/>
              </a:rPr>
              <a:t>小狐狸     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7" descr="QQ截图20140312134014"/>
          <p:cNvPicPr/>
          <p:nvPr/>
        </p:nvPicPr>
        <p:blipFill>
          <a:blip r:embed="rId2"/>
          <a:stretch/>
        </p:blipFill>
        <p:spPr>
          <a:xfrm>
            <a:off x="4500720" y="5821200"/>
            <a:ext cx="1008000" cy="9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1T00:25:4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03:27Z</dcterms:modified>
  <cp:revision>1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