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7.png" ContentType="image/png"/>
  <Override PartName="/ppt/media/image32.png" ContentType="image/png"/>
  <Override PartName="/ppt/media/image8.png" ContentType="image/png"/>
  <Override PartName="/ppt/media/image9.wmf" ContentType="image/x-wmf"/>
  <Override PartName="/ppt/media/image11.gif" ContentType="image/gif"/>
  <Override PartName="/ppt/media/image10.png" ContentType="image/png"/>
  <Override PartName="/ppt/media/image12.gif" ContentType="image/gif"/>
  <Override PartName="/ppt/media/image13.jpeg" ContentType="image/jpeg"/>
  <Override PartName="/ppt/media/image23.png" ContentType="image/png"/>
  <Override PartName="/ppt/media/image30.png" ContentType="image/png"/>
  <Override PartName="/ppt/media/image29.png" ContentType="image/png"/>
  <Override PartName="/ppt/media/image2.wmf" ContentType="image/x-wmf"/>
  <Override PartName="/ppt/media/image35.png" ContentType="image/png"/>
  <Override PartName="/ppt/media/image20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5.jpeg" ContentType="image/jpeg"/>
  <Override PartName="/ppt/media/image16.gif" ContentType="image/gif"/>
  <Override PartName="/ppt/media/image19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26.png" ContentType="image/png"/>
  <Override PartName="/ppt/media/image3.gif" ContentType="image/gif"/>
  <Override PartName="/ppt/media/image33.gif" ContentType="image/gif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8174-2342-4FD2-8549-BADECD1D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B8B-0979-4CEF-88D1-7AD1B881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2FA-4EBD-4ADE-8EAA-3ABB16D4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2BA-C46E-4DA5-9F7D-4A4CB6CB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9CD-1487-492E-8723-8C021D7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0C4-6EA7-4BFE-B6FF-03E1ACF3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4A8-2573-4EE8-B40A-204F636E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DB2-46C4-44C4-BA6D-FDD0B16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AE0-72AC-4D82-8C98-31333CE2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0FD-F6A2-4DD3-9430-B0A06EE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FA9-C843-40E0-B2C3-F62F78A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DBA-6869-4B07-ABC5-C83F5A7D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1B8-B3D5-4465-A4BD-0154E419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F39-3305-41C1-A0D0-CE7AE08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80D-1643-4FC7-BE06-A0030FC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3F80-4367-481F-9F52-3C01B5929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6.gif"/><Relationship Id="rId3" Type="http://schemas.openxmlformats.org/officeDocument/2006/relationships/image" Target="../media/image3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9.png"/><Relationship Id="rId4" Type="http://schemas.openxmlformats.org/officeDocument/2006/relationships/image" Target="../media/image25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image" Target="../media/image25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074319.mid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NA01441_"/>
          <p:cNvPicPr/>
          <p:nvPr/>
        </p:nvPicPr>
        <p:blipFill>
          <a:blip r:embed="rId2"/>
          <a:stretch/>
        </p:blipFill>
        <p:spPr>
          <a:xfrm>
            <a:off x="0" y="1413000"/>
            <a:ext cx="327672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G00044_"/>
          <p:cNvPicPr/>
          <p:nvPr/>
        </p:nvPicPr>
        <p:blipFill>
          <a:blip r:embed="rId3"/>
          <a:stretch/>
        </p:blipFill>
        <p:spPr>
          <a:xfrm>
            <a:off x="1752480" y="3733920"/>
            <a:ext cx="3581640" cy="269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BD13721_"/>
          <p:cNvPicPr/>
          <p:nvPr/>
        </p:nvPicPr>
        <p:blipFill>
          <a:blip r:embed="rId4"/>
          <a:stretch/>
        </p:blipFill>
        <p:spPr>
          <a:xfrm>
            <a:off x="5435640" y="3645000"/>
            <a:ext cx="24192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D15355_"/>
          <p:cNvPicPr/>
          <p:nvPr/>
        </p:nvPicPr>
        <p:blipFill>
          <a:blip r:embed="rId5"/>
          <a:stretch/>
        </p:blipFill>
        <p:spPr>
          <a:xfrm>
            <a:off x="2843280" y="242100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17"/>
          <p:cNvSpPr/>
          <p:nvPr/>
        </p:nvSpPr>
        <p:spPr>
          <a:xfrm>
            <a:off x="0" y="5751360"/>
            <a:ext cx="9144000" cy="1106640"/>
          </a:xfrm>
          <a:custGeom>
            <a:avLst/>
            <a:gdLst/>
            <a:ahLst/>
            <a:rect l="l" t="t" r="r" b="b"/>
            <a:pathLst>
              <a:path w="5856" h="697">
                <a:moveTo>
                  <a:pt x="273" y="198"/>
                </a:moveTo>
                <a:cubicBezTo>
                  <a:pt x="365" y="194"/>
                  <a:pt x="457" y="195"/>
                  <a:pt x="549" y="186"/>
                </a:cubicBezTo>
                <a:cubicBezTo>
                  <a:pt x="579" y="183"/>
                  <a:pt x="637" y="161"/>
                  <a:pt x="637" y="161"/>
                </a:cubicBezTo>
                <a:cubicBezTo>
                  <a:pt x="1250" y="63"/>
                  <a:pt x="1342" y="0"/>
                  <a:pt x="1814" y="23"/>
                </a:cubicBezTo>
                <a:cubicBezTo>
                  <a:pt x="1922" y="58"/>
                  <a:pt x="2040" y="54"/>
                  <a:pt x="2152" y="73"/>
                </a:cubicBezTo>
                <a:cubicBezTo>
                  <a:pt x="2162" y="104"/>
                  <a:pt x="2178" y="170"/>
                  <a:pt x="2227" y="161"/>
                </a:cubicBezTo>
                <a:cubicBezTo>
                  <a:pt x="2239" y="159"/>
                  <a:pt x="2244" y="144"/>
                  <a:pt x="2252" y="136"/>
                </a:cubicBezTo>
                <a:lnTo>
                  <a:pt x="1728" y="217"/>
                </a:lnTo>
                <a:lnTo>
                  <a:pt x="1728" y="313"/>
                </a:lnTo>
                <a:lnTo>
                  <a:pt x="4656" y="217"/>
                </a:lnTo>
                <a:lnTo>
                  <a:pt x="5856" y="169"/>
                </a:lnTo>
                <a:lnTo>
                  <a:pt x="5856" y="697"/>
                </a:lnTo>
                <a:lnTo>
                  <a:pt x="0" y="697"/>
                </a:lnTo>
                <a:lnTo>
                  <a:pt x="48" y="313"/>
                </a:lnTo>
                <a:lnTo>
                  <a:pt x="48" y="169"/>
                </a:lnTo>
                <a:lnTo>
                  <a:pt x="273" y="198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112680" y="6184800"/>
            <a:ext cx="7367760" cy="444600"/>
          </a:xfrm>
          <a:custGeom>
            <a:avLst/>
            <a:gdLst/>
            <a:ahLst/>
            <a:rect l="l" t="t" r="r" b="b"/>
            <a:pathLst>
              <a:path w="4641" h="336">
                <a:moveTo>
                  <a:pt x="42" y="98"/>
                </a:moveTo>
                <a:cubicBezTo>
                  <a:pt x="218" y="129"/>
                  <a:pt x="427" y="83"/>
                  <a:pt x="605" y="73"/>
                </a:cubicBezTo>
                <a:cubicBezTo>
                  <a:pt x="835" y="0"/>
                  <a:pt x="1092" y="70"/>
                  <a:pt x="1331" y="86"/>
                </a:cubicBezTo>
                <a:cubicBezTo>
                  <a:pt x="1376" y="75"/>
                  <a:pt x="1409" y="59"/>
                  <a:pt x="1457" y="86"/>
                </a:cubicBezTo>
                <a:cubicBezTo>
                  <a:pt x="1468" y="92"/>
                  <a:pt x="1482" y="122"/>
                  <a:pt x="1469" y="123"/>
                </a:cubicBezTo>
                <a:cubicBezTo>
                  <a:pt x="1385" y="127"/>
                  <a:pt x="1219" y="98"/>
                  <a:pt x="1219" y="98"/>
                </a:cubicBezTo>
                <a:cubicBezTo>
                  <a:pt x="1165" y="102"/>
                  <a:pt x="1108" y="94"/>
                  <a:pt x="1056" y="111"/>
                </a:cubicBezTo>
                <a:cubicBezTo>
                  <a:pt x="1028" y="120"/>
                  <a:pt x="1114" y="123"/>
                  <a:pt x="1144" y="123"/>
                </a:cubicBezTo>
                <a:cubicBezTo>
                  <a:pt x="1223" y="123"/>
                  <a:pt x="1303" y="115"/>
                  <a:pt x="1382" y="111"/>
                </a:cubicBezTo>
                <a:cubicBezTo>
                  <a:pt x="1729" y="132"/>
                  <a:pt x="1985" y="142"/>
                  <a:pt x="2371" y="149"/>
                </a:cubicBezTo>
                <a:cubicBezTo>
                  <a:pt x="2650" y="168"/>
                  <a:pt x="2930" y="173"/>
                  <a:pt x="3210" y="186"/>
                </a:cubicBezTo>
                <a:cubicBezTo>
                  <a:pt x="3285" y="194"/>
                  <a:pt x="3362" y="192"/>
                  <a:pt x="3435" y="211"/>
                </a:cubicBezTo>
                <a:cubicBezTo>
                  <a:pt x="3489" y="225"/>
                  <a:pt x="3530" y="276"/>
                  <a:pt x="3585" y="286"/>
                </a:cubicBezTo>
                <a:cubicBezTo>
                  <a:pt x="3708" y="309"/>
                  <a:pt x="3836" y="303"/>
                  <a:pt x="3961" y="311"/>
                </a:cubicBezTo>
                <a:cubicBezTo>
                  <a:pt x="4123" y="270"/>
                  <a:pt x="4287" y="288"/>
                  <a:pt x="4449" y="249"/>
                </a:cubicBezTo>
                <a:cubicBezTo>
                  <a:pt x="4503" y="257"/>
                  <a:pt x="4565" y="246"/>
                  <a:pt x="4612" y="274"/>
                </a:cubicBezTo>
                <a:cubicBezTo>
                  <a:pt x="4641" y="291"/>
                  <a:pt x="4545" y="283"/>
                  <a:pt x="4512" y="286"/>
                </a:cubicBezTo>
                <a:cubicBezTo>
                  <a:pt x="4454" y="291"/>
                  <a:pt x="4395" y="294"/>
                  <a:pt x="4337" y="299"/>
                </a:cubicBezTo>
                <a:cubicBezTo>
                  <a:pt x="4182" y="313"/>
                  <a:pt x="4028" y="326"/>
                  <a:pt x="3873" y="336"/>
                </a:cubicBezTo>
                <a:cubicBezTo>
                  <a:pt x="3514" y="327"/>
                  <a:pt x="3154" y="323"/>
                  <a:pt x="2796" y="299"/>
                </a:cubicBezTo>
                <a:cubicBezTo>
                  <a:pt x="2632" y="312"/>
                  <a:pt x="2486" y="292"/>
                  <a:pt x="2321" y="286"/>
                </a:cubicBezTo>
                <a:cubicBezTo>
                  <a:pt x="1961" y="272"/>
                  <a:pt x="1313" y="266"/>
                  <a:pt x="1018" y="261"/>
                </a:cubicBezTo>
                <a:cubicBezTo>
                  <a:pt x="925" y="252"/>
                  <a:pt x="879" y="270"/>
                  <a:pt x="831" y="199"/>
                </a:cubicBezTo>
                <a:cubicBezTo>
                  <a:pt x="606" y="214"/>
                  <a:pt x="431" y="221"/>
                  <a:pt x="204" y="199"/>
                </a:cubicBezTo>
                <a:cubicBezTo>
                  <a:pt x="187" y="191"/>
                  <a:pt x="171" y="181"/>
                  <a:pt x="154" y="174"/>
                </a:cubicBezTo>
                <a:cubicBezTo>
                  <a:pt x="138" y="168"/>
                  <a:pt x="117" y="172"/>
                  <a:pt x="104" y="161"/>
                </a:cubicBezTo>
                <a:cubicBezTo>
                  <a:pt x="94" y="153"/>
                  <a:pt x="100" y="134"/>
                  <a:pt x="92" y="123"/>
                </a:cubicBezTo>
                <a:cubicBezTo>
                  <a:pt x="70" y="95"/>
                  <a:pt x="47" y="67"/>
                  <a:pt x="17" y="48"/>
                </a:cubicBezTo>
                <a:cubicBezTo>
                  <a:pt x="0" y="37"/>
                  <a:pt x="45" y="79"/>
                  <a:pt x="54" y="98"/>
                </a:cubicBezTo>
                <a:cubicBezTo>
                  <a:pt x="56" y="102"/>
                  <a:pt x="46" y="98"/>
                  <a:pt x="42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3597120" y="1844640"/>
            <a:ext cx="488340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solidFill>
                  <a:srgbClr val="ff0000"/>
                </a:solidFill>
                <a:latin typeface="隶书"/>
              </a:rPr>
              <a:t>小马过河</a:t>
            </a:r>
            <a:endParaRPr b="1" lang="en-US" sz="2800" spc="-1" strike="noStrike">
              <a:ln w="0">
                <a:noFill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1523880" y="61596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81600" y="54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冀教版二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-547560" y="2057400"/>
            <a:ext cx="1017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为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问老牛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立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问松鼠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回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2880" y="928440"/>
            <a:ext cx="734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以下列词语为提示，用自己的话有顺序地复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BD13721_"/>
          <p:cNvPicPr/>
          <p:nvPr/>
        </p:nvPicPr>
        <p:blipFill>
          <a:blip r:embed="rId1"/>
          <a:stretch/>
        </p:blipFill>
        <p:spPr>
          <a:xfrm>
            <a:off x="2895480" y="4343400"/>
            <a:ext cx="2819520" cy="189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j0095742"/>
          <p:cNvPicPr/>
          <p:nvPr/>
        </p:nvPicPr>
        <p:blipFill>
          <a:blip r:embed="rId2"/>
          <a:stretch/>
        </p:blipFill>
        <p:spPr>
          <a:xfrm>
            <a:off x="1981080" y="5170320"/>
            <a:ext cx="1047960" cy="9669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8"/>
          <p:cNvSpPr/>
          <p:nvPr/>
        </p:nvSpPr>
        <p:spPr>
          <a:xfrm>
            <a:off x="57240" y="5405400"/>
            <a:ext cx="9331200" cy="1528920"/>
          </a:xfrm>
          <a:custGeom>
            <a:avLst/>
            <a:gdLst/>
            <a:ahLst/>
            <a:rect l="l" t="t" r="r" b="b"/>
            <a:pathLst>
              <a:path w="5878" h="963">
                <a:moveTo>
                  <a:pt x="432" y="819"/>
                </a:moveTo>
                <a:cubicBezTo>
                  <a:pt x="483" y="802"/>
                  <a:pt x="530" y="802"/>
                  <a:pt x="576" y="771"/>
                </a:cubicBezTo>
                <a:cubicBezTo>
                  <a:pt x="1002" y="778"/>
                  <a:pt x="1403" y="785"/>
                  <a:pt x="1824" y="759"/>
                </a:cubicBezTo>
                <a:cubicBezTo>
                  <a:pt x="2043" y="723"/>
                  <a:pt x="2257" y="669"/>
                  <a:pt x="2472" y="615"/>
                </a:cubicBezTo>
                <a:cubicBezTo>
                  <a:pt x="2504" y="591"/>
                  <a:pt x="2531" y="558"/>
                  <a:pt x="2568" y="543"/>
                </a:cubicBezTo>
                <a:cubicBezTo>
                  <a:pt x="2629" y="518"/>
                  <a:pt x="2760" y="495"/>
                  <a:pt x="2760" y="495"/>
                </a:cubicBezTo>
                <a:cubicBezTo>
                  <a:pt x="2808" y="459"/>
                  <a:pt x="2856" y="423"/>
                  <a:pt x="2904" y="387"/>
                </a:cubicBezTo>
                <a:cubicBezTo>
                  <a:pt x="2944" y="357"/>
                  <a:pt x="3023" y="346"/>
                  <a:pt x="3072" y="339"/>
                </a:cubicBezTo>
                <a:cubicBezTo>
                  <a:pt x="3356" y="298"/>
                  <a:pt x="3435" y="311"/>
                  <a:pt x="3840" y="303"/>
                </a:cubicBezTo>
                <a:cubicBezTo>
                  <a:pt x="3888" y="295"/>
                  <a:pt x="3940" y="301"/>
                  <a:pt x="3984" y="279"/>
                </a:cubicBezTo>
                <a:cubicBezTo>
                  <a:pt x="4047" y="248"/>
                  <a:pt x="4015" y="259"/>
                  <a:pt x="4080" y="243"/>
                </a:cubicBezTo>
                <a:cubicBezTo>
                  <a:pt x="4271" y="100"/>
                  <a:pt x="4673" y="163"/>
                  <a:pt x="4836" y="159"/>
                </a:cubicBezTo>
                <a:cubicBezTo>
                  <a:pt x="5052" y="135"/>
                  <a:pt x="5390" y="0"/>
                  <a:pt x="5520" y="195"/>
                </a:cubicBezTo>
                <a:cubicBezTo>
                  <a:pt x="5488" y="215"/>
                  <a:pt x="5459" y="242"/>
                  <a:pt x="5424" y="255"/>
                </a:cubicBezTo>
                <a:cubicBezTo>
                  <a:pt x="5371" y="275"/>
                  <a:pt x="5312" y="270"/>
                  <a:pt x="5256" y="279"/>
                </a:cubicBezTo>
                <a:cubicBezTo>
                  <a:pt x="5155" y="330"/>
                  <a:pt x="5030" y="320"/>
                  <a:pt x="4920" y="327"/>
                </a:cubicBezTo>
                <a:cubicBezTo>
                  <a:pt x="4773" y="376"/>
                  <a:pt x="4618" y="427"/>
                  <a:pt x="4500" y="531"/>
                </a:cubicBezTo>
                <a:cubicBezTo>
                  <a:pt x="4468" y="560"/>
                  <a:pt x="4401" y="660"/>
                  <a:pt x="4332" y="663"/>
                </a:cubicBezTo>
                <a:cubicBezTo>
                  <a:pt x="4064" y="674"/>
                  <a:pt x="3796" y="671"/>
                  <a:pt x="3528" y="675"/>
                </a:cubicBezTo>
                <a:cubicBezTo>
                  <a:pt x="3138" y="740"/>
                  <a:pt x="2636" y="718"/>
                  <a:pt x="2280" y="723"/>
                </a:cubicBezTo>
                <a:cubicBezTo>
                  <a:pt x="2245" y="794"/>
                  <a:pt x="2260" y="863"/>
                  <a:pt x="2340" y="915"/>
                </a:cubicBezTo>
                <a:cubicBezTo>
                  <a:pt x="2367" y="932"/>
                  <a:pt x="2404" y="924"/>
                  <a:pt x="2436" y="927"/>
                </a:cubicBezTo>
                <a:cubicBezTo>
                  <a:pt x="2484" y="932"/>
                  <a:pt x="2532" y="935"/>
                  <a:pt x="2580" y="939"/>
                </a:cubicBezTo>
                <a:cubicBezTo>
                  <a:pt x="2700" y="935"/>
                  <a:pt x="2820" y="938"/>
                  <a:pt x="2940" y="927"/>
                </a:cubicBezTo>
                <a:cubicBezTo>
                  <a:pt x="2974" y="924"/>
                  <a:pt x="2994" y="891"/>
                  <a:pt x="3024" y="879"/>
                </a:cubicBezTo>
                <a:cubicBezTo>
                  <a:pt x="3100" y="849"/>
                  <a:pt x="3195" y="836"/>
                  <a:pt x="3276" y="831"/>
                </a:cubicBezTo>
                <a:cubicBezTo>
                  <a:pt x="3597" y="810"/>
                  <a:pt x="4372" y="809"/>
                  <a:pt x="4500" y="807"/>
                </a:cubicBezTo>
                <a:cubicBezTo>
                  <a:pt x="4627" y="775"/>
                  <a:pt x="4754" y="772"/>
                  <a:pt x="4884" y="759"/>
                </a:cubicBezTo>
                <a:cubicBezTo>
                  <a:pt x="4978" y="728"/>
                  <a:pt x="5076" y="711"/>
                  <a:pt x="5172" y="687"/>
                </a:cubicBezTo>
                <a:cubicBezTo>
                  <a:pt x="5354" y="505"/>
                  <a:pt x="5127" y="707"/>
                  <a:pt x="5340" y="591"/>
                </a:cubicBezTo>
                <a:cubicBezTo>
                  <a:pt x="5358" y="581"/>
                  <a:pt x="5361" y="556"/>
                  <a:pt x="5376" y="543"/>
                </a:cubicBezTo>
                <a:cubicBezTo>
                  <a:pt x="5386" y="535"/>
                  <a:pt x="5400" y="535"/>
                  <a:pt x="5412" y="531"/>
                </a:cubicBezTo>
                <a:cubicBezTo>
                  <a:pt x="5432" y="535"/>
                  <a:pt x="5456" y="530"/>
                  <a:pt x="5472" y="543"/>
                </a:cubicBezTo>
                <a:cubicBezTo>
                  <a:pt x="5485" y="554"/>
                  <a:pt x="5477" y="576"/>
                  <a:pt x="5484" y="591"/>
                </a:cubicBezTo>
                <a:cubicBezTo>
                  <a:pt x="5513" y="649"/>
                  <a:pt x="5538" y="710"/>
                  <a:pt x="5580" y="759"/>
                </a:cubicBezTo>
                <a:cubicBezTo>
                  <a:pt x="5601" y="783"/>
                  <a:pt x="5878" y="829"/>
                  <a:pt x="5676" y="795"/>
                </a:cubicBezTo>
                <a:cubicBezTo>
                  <a:pt x="5009" y="878"/>
                  <a:pt x="4310" y="814"/>
                  <a:pt x="3636" y="795"/>
                </a:cubicBezTo>
                <a:cubicBezTo>
                  <a:pt x="3332" y="786"/>
                  <a:pt x="2724" y="771"/>
                  <a:pt x="2724" y="771"/>
                </a:cubicBezTo>
                <a:cubicBezTo>
                  <a:pt x="1900" y="689"/>
                  <a:pt x="1067" y="736"/>
                  <a:pt x="240" y="759"/>
                </a:cubicBezTo>
                <a:cubicBezTo>
                  <a:pt x="192" y="763"/>
                  <a:pt x="144" y="766"/>
                  <a:pt x="96" y="771"/>
                </a:cubicBezTo>
                <a:cubicBezTo>
                  <a:pt x="64" y="774"/>
                  <a:pt x="0" y="751"/>
                  <a:pt x="0" y="783"/>
                </a:cubicBezTo>
                <a:cubicBezTo>
                  <a:pt x="0" y="815"/>
                  <a:pt x="64" y="792"/>
                  <a:pt x="96" y="795"/>
                </a:cubicBezTo>
                <a:cubicBezTo>
                  <a:pt x="184" y="803"/>
                  <a:pt x="272" y="817"/>
                  <a:pt x="360" y="819"/>
                </a:cubicBezTo>
                <a:cubicBezTo>
                  <a:pt x="612" y="826"/>
                  <a:pt x="864" y="827"/>
                  <a:pt x="1116" y="831"/>
                </a:cubicBezTo>
                <a:cubicBezTo>
                  <a:pt x="1387" y="848"/>
                  <a:pt x="1665" y="865"/>
                  <a:pt x="1932" y="915"/>
                </a:cubicBezTo>
                <a:cubicBezTo>
                  <a:pt x="2062" y="939"/>
                  <a:pt x="1993" y="942"/>
                  <a:pt x="2124" y="951"/>
                </a:cubicBezTo>
                <a:cubicBezTo>
                  <a:pt x="2212" y="957"/>
                  <a:pt x="2388" y="963"/>
                  <a:pt x="2388" y="963"/>
                </a:cubicBezTo>
                <a:lnTo>
                  <a:pt x="5100" y="675"/>
                </a:lnTo>
                <a:lnTo>
                  <a:pt x="5100" y="435"/>
                </a:lnTo>
                <a:lnTo>
                  <a:pt x="4476" y="53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-50760" y="5910120"/>
            <a:ext cx="9335880" cy="1108080"/>
          </a:xfrm>
          <a:custGeom>
            <a:avLst/>
            <a:gdLst/>
            <a:ahLst/>
            <a:rect l="l" t="t" r="r" b="b"/>
            <a:pathLst>
              <a:path w="5881" h="698">
                <a:moveTo>
                  <a:pt x="284" y="273"/>
                </a:moveTo>
                <a:cubicBezTo>
                  <a:pt x="696" y="244"/>
                  <a:pt x="1106" y="243"/>
                  <a:pt x="1520" y="237"/>
                </a:cubicBezTo>
                <a:cubicBezTo>
                  <a:pt x="1700" y="214"/>
                  <a:pt x="1879" y="183"/>
                  <a:pt x="2060" y="165"/>
                </a:cubicBezTo>
                <a:cubicBezTo>
                  <a:pt x="2228" y="123"/>
                  <a:pt x="2404" y="127"/>
                  <a:pt x="2576" y="117"/>
                </a:cubicBezTo>
                <a:cubicBezTo>
                  <a:pt x="2531" y="151"/>
                  <a:pt x="2494" y="164"/>
                  <a:pt x="2444" y="189"/>
                </a:cubicBezTo>
                <a:cubicBezTo>
                  <a:pt x="2427" y="240"/>
                  <a:pt x="2391" y="273"/>
                  <a:pt x="2336" y="273"/>
                </a:cubicBezTo>
                <a:cubicBezTo>
                  <a:pt x="2486" y="240"/>
                  <a:pt x="2626" y="223"/>
                  <a:pt x="2780" y="213"/>
                </a:cubicBezTo>
                <a:cubicBezTo>
                  <a:pt x="2919" y="222"/>
                  <a:pt x="3051" y="235"/>
                  <a:pt x="3188" y="201"/>
                </a:cubicBezTo>
                <a:cubicBezTo>
                  <a:pt x="3216" y="182"/>
                  <a:pt x="3235" y="164"/>
                  <a:pt x="3272" y="165"/>
                </a:cubicBezTo>
                <a:cubicBezTo>
                  <a:pt x="3384" y="169"/>
                  <a:pt x="3608" y="189"/>
                  <a:pt x="3608" y="189"/>
                </a:cubicBezTo>
                <a:cubicBezTo>
                  <a:pt x="3600" y="201"/>
                  <a:pt x="3595" y="216"/>
                  <a:pt x="3584" y="225"/>
                </a:cubicBezTo>
                <a:cubicBezTo>
                  <a:pt x="3574" y="233"/>
                  <a:pt x="3535" y="238"/>
                  <a:pt x="3548" y="237"/>
                </a:cubicBezTo>
                <a:cubicBezTo>
                  <a:pt x="3683" y="222"/>
                  <a:pt x="3822" y="199"/>
                  <a:pt x="3956" y="177"/>
                </a:cubicBezTo>
                <a:cubicBezTo>
                  <a:pt x="4028" y="165"/>
                  <a:pt x="4103" y="164"/>
                  <a:pt x="4172" y="141"/>
                </a:cubicBezTo>
                <a:cubicBezTo>
                  <a:pt x="4228" y="122"/>
                  <a:pt x="4239" y="117"/>
                  <a:pt x="4316" y="105"/>
                </a:cubicBezTo>
                <a:cubicBezTo>
                  <a:pt x="4501" y="75"/>
                  <a:pt x="4551" y="79"/>
                  <a:pt x="4748" y="69"/>
                </a:cubicBezTo>
                <a:cubicBezTo>
                  <a:pt x="4863" y="11"/>
                  <a:pt x="5024" y="27"/>
                  <a:pt x="5144" y="21"/>
                </a:cubicBezTo>
                <a:cubicBezTo>
                  <a:pt x="5164" y="17"/>
                  <a:pt x="5184" y="9"/>
                  <a:pt x="5204" y="9"/>
                </a:cubicBezTo>
                <a:cubicBezTo>
                  <a:pt x="5228" y="9"/>
                  <a:pt x="5264" y="0"/>
                  <a:pt x="5276" y="21"/>
                </a:cubicBezTo>
                <a:cubicBezTo>
                  <a:pt x="5289" y="43"/>
                  <a:pt x="5265" y="72"/>
                  <a:pt x="5252" y="93"/>
                </a:cubicBezTo>
                <a:cubicBezTo>
                  <a:pt x="5244" y="105"/>
                  <a:pt x="5202" y="117"/>
                  <a:pt x="5216" y="117"/>
                </a:cubicBezTo>
                <a:cubicBezTo>
                  <a:pt x="5245" y="117"/>
                  <a:pt x="5272" y="101"/>
                  <a:pt x="5300" y="93"/>
                </a:cubicBezTo>
                <a:cubicBezTo>
                  <a:pt x="5412" y="18"/>
                  <a:pt x="5696" y="65"/>
                  <a:pt x="5804" y="69"/>
                </a:cubicBezTo>
                <a:cubicBezTo>
                  <a:pt x="5796" y="241"/>
                  <a:pt x="5881" y="446"/>
                  <a:pt x="5780" y="585"/>
                </a:cubicBezTo>
                <a:cubicBezTo>
                  <a:pt x="5709" y="682"/>
                  <a:pt x="5540" y="588"/>
                  <a:pt x="5420" y="597"/>
                </a:cubicBezTo>
                <a:cubicBezTo>
                  <a:pt x="5353" y="602"/>
                  <a:pt x="5283" y="640"/>
                  <a:pt x="5216" y="645"/>
                </a:cubicBezTo>
                <a:cubicBezTo>
                  <a:pt x="5112" y="652"/>
                  <a:pt x="5008" y="653"/>
                  <a:pt x="4904" y="657"/>
                </a:cubicBezTo>
                <a:cubicBezTo>
                  <a:pt x="4416" y="698"/>
                  <a:pt x="3918" y="657"/>
                  <a:pt x="3428" y="645"/>
                </a:cubicBezTo>
                <a:cubicBezTo>
                  <a:pt x="2476" y="659"/>
                  <a:pt x="1535" y="654"/>
                  <a:pt x="584" y="621"/>
                </a:cubicBezTo>
                <a:cubicBezTo>
                  <a:pt x="453" y="608"/>
                  <a:pt x="316" y="617"/>
                  <a:pt x="188" y="585"/>
                </a:cubicBezTo>
                <a:cubicBezTo>
                  <a:pt x="132" y="571"/>
                  <a:pt x="86" y="543"/>
                  <a:pt x="32" y="525"/>
                </a:cubicBezTo>
                <a:cubicBezTo>
                  <a:pt x="27" y="484"/>
                  <a:pt x="0" y="300"/>
                  <a:pt x="32" y="273"/>
                </a:cubicBezTo>
                <a:cubicBezTo>
                  <a:pt x="69" y="242"/>
                  <a:pt x="128" y="285"/>
                  <a:pt x="176" y="285"/>
                </a:cubicBezTo>
                <a:cubicBezTo>
                  <a:pt x="212" y="285"/>
                  <a:pt x="248" y="277"/>
                  <a:pt x="284" y="27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800280" y="6262560"/>
            <a:ext cx="8367480" cy="519120"/>
          </a:xfrm>
          <a:custGeom>
            <a:avLst/>
            <a:gdLst/>
            <a:ahLst/>
            <a:rect l="l" t="t" r="r" b="b"/>
            <a:pathLst>
              <a:path w="5271" h="327">
                <a:moveTo>
                  <a:pt x="0" y="207"/>
                </a:moveTo>
                <a:cubicBezTo>
                  <a:pt x="425" y="116"/>
                  <a:pt x="888" y="133"/>
                  <a:pt x="1320" y="123"/>
                </a:cubicBezTo>
                <a:cubicBezTo>
                  <a:pt x="1386" y="101"/>
                  <a:pt x="1455" y="96"/>
                  <a:pt x="1524" y="87"/>
                </a:cubicBezTo>
                <a:cubicBezTo>
                  <a:pt x="1540" y="75"/>
                  <a:pt x="1558" y="65"/>
                  <a:pt x="1572" y="51"/>
                </a:cubicBezTo>
                <a:cubicBezTo>
                  <a:pt x="1586" y="37"/>
                  <a:pt x="1588" y="7"/>
                  <a:pt x="1608" y="3"/>
                </a:cubicBezTo>
                <a:cubicBezTo>
                  <a:pt x="1622" y="0"/>
                  <a:pt x="1624" y="27"/>
                  <a:pt x="1632" y="39"/>
                </a:cubicBezTo>
                <a:cubicBezTo>
                  <a:pt x="1579" y="92"/>
                  <a:pt x="1538" y="102"/>
                  <a:pt x="1464" y="123"/>
                </a:cubicBezTo>
                <a:cubicBezTo>
                  <a:pt x="1674" y="263"/>
                  <a:pt x="2119" y="138"/>
                  <a:pt x="2400" y="123"/>
                </a:cubicBezTo>
                <a:cubicBezTo>
                  <a:pt x="2435" y="228"/>
                  <a:pt x="2399" y="157"/>
                  <a:pt x="2628" y="171"/>
                </a:cubicBezTo>
                <a:cubicBezTo>
                  <a:pt x="2800" y="182"/>
                  <a:pt x="2757" y="178"/>
                  <a:pt x="2892" y="195"/>
                </a:cubicBezTo>
                <a:cubicBezTo>
                  <a:pt x="2977" y="188"/>
                  <a:pt x="3093" y="149"/>
                  <a:pt x="3168" y="147"/>
                </a:cubicBezTo>
                <a:cubicBezTo>
                  <a:pt x="3480" y="139"/>
                  <a:pt x="3792" y="139"/>
                  <a:pt x="4104" y="135"/>
                </a:cubicBezTo>
                <a:cubicBezTo>
                  <a:pt x="4165" y="128"/>
                  <a:pt x="4235" y="104"/>
                  <a:pt x="4296" y="99"/>
                </a:cubicBezTo>
                <a:cubicBezTo>
                  <a:pt x="4376" y="92"/>
                  <a:pt x="4456" y="91"/>
                  <a:pt x="4536" y="87"/>
                </a:cubicBezTo>
                <a:cubicBezTo>
                  <a:pt x="4598" y="108"/>
                  <a:pt x="4653" y="115"/>
                  <a:pt x="4716" y="99"/>
                </a:cubicBezTo>
                <a:cubicBezTo>
                  <a:pt x="4852" y="103"/>
                  <a:pt x="4988" y="105"/>
                  <a:pt x="5124" y="111"/>
                </a:cubicBezTo>
                <a:cubicBezTo>
                  <a:pt x="5164" y="113"/>
                  <a:pt x="5227" y="87"/>
                  <a:pt x="5244" y="123"/>
                </a:cubicBezTo>
                <a:cubicBezTo>
                  <a:pt x="5271" y="181"/>
                  <a:pt x="5228" y="251"/>
                  <a:pt x="5220" y="315"/>
                </a:cubicBezTo>
                <a:cubicBezTo>
                  <a:pt x="5128" y="304"/>
                  <a:pt x="5034" y="289"/>
                  <a:pt x="4944" y="267"/>
                </a:cubicBezTo>
                <a:cubicBezTo>
                  <a:pt x="4987" y="238"/>
                  <a:pt x="4987" y="231"/>
                  <a:pt x="5052" y="231"/>
                </a:cubicBezTo>
                <a:cubicBezTo>
                  <a:pt x="5068" y="231"/>
                  <a:pt x="5020" y="241"/>
                  <a:pt x="5004" y="243"/>
                </a:cubicBezTo>
                <a:cubicBezTo>
                  <a:pt x="4940" y="249"/>
                  <a:pt x="4876" y="250"/>
                  <a:pt x="4812" y="255"/>
                </a:cubicBezTo>
                <a:cubicBezTo>
                  <a:pt x="4444" y="282"/>
                  <a:pt x="5035" y="257"/>
                  <a:pt x="4272" y="279"/>
                </a:cubicBezTo>
                <a:cubicBezTo>
                  <a:pt x="4019" y="295"/>
                  <a:pt x="3785" y="319"/>
                  <a:pt x="3528" y="327"/>
                </a:cubicBezTo>
                <a:cubicBezTo>
                  <a:pt x="2900" y="309"/>
                  <a:pt x="2272" y="306"/>
                  <a:pt x="1644" y="291"/>
                </a:cubicBezTo>
                <a:cubicBezTo>
                  <a:pt x="1242" y="267"/>
                  <a:pt x="848" y="251"/>
                  <a:pt x="444" y="243"/>
                </a:cubicBezTo>
                <a:cubicBezTo>
                  <a:pt x="336" y="236"/>
                  <a:pt x="228" y="219"/>
                  <a:pt x="120" y="219"/>
                </a:cubicBezTo>
                <a:cubicBezTo>
                  <a:pt x="1" y="219"/>
                  <a:pt x="70" y="254"/>
                  <a:pt x="0" y="20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752480" y="6629400"/>
            <a:ext cx="5626080" cy="190440"/>
          </a:xfrm>
          <a:custGeom>
            <a:avLst/>
            <a:gdLst/>
            <a:ahLst/>
            <a:rect l="l" t="t" r="r" b="b"/>
            <a:pathLst>
              <a:path w="3544" h="120">
                <a:moveTo>
                  <a:pt x="259" y="0"/>
                </a:moveTo>
                <a:cubicBezTo>
                  <a:pt x="606" y="7"/>
                  <a:pt x="935" y="22"/>
                  <a:pt x="1279" y="36"/>
                </a:cubicBezTo>
                <a:cubicBezTo>
                  <a:pt x="1487" y="32"/>
                  <a:pt x="1695" y="24"/>
                  <a:pt x="1903" y="24"/>
                </a:cubicBezTo>
                <a:cubicBezTo>
                  <a:pt x="1916" y="24"/>
                  <a:pt x="1948" y="27"/>
                  <a:pt x="1939" y="36"/>
                </a:cubicBezTo>
                <a:cubicBezTo>
                  <a:pt x="1917" y="58"/>
                  <a:pt x="1756" y="76"/>
                  <a:pt x="1951" y="48"/>
                </a:cubicBezTo>
                <a:cubicBezTo>
                  <a:pt x="2241" y="89"/>
                  <a:pt x="2535" y="31"/>
                  <a:pt x="2827" y="60"/>
                </a:cubicBezTo>
                <a:cubicBezTo>
                  <a:pt x="2795" y="68"/>
                  <a:pt x="2698" y="82"/>
                  <a:pt x="2731" y="84"/>
                </a:cubicBezTo>
                <a:cubicBezTo>
                  <a:pt x="2927" y="96"/>
                  <a:pt x="3123" y="76"/>
                  <a:pt x="3319" y="84"/>
                </a:cubicBezTo>
                <a:cubicBezTo>
                  <a:pt x="3544" y="112"/>
                  <a:pt x="3300" y="113"/>
                  <a:pt x="3247" y="120"/>
                </a:cubicBezTo>
                <a:cubicBezTo>
                  <a:pt x="2271" y="111"/>
                  <a:pt x="1295" y="96"/>
                  <a:pt x="319" y="84"/>
                </a:cubicBezTo>
                <a:cubicBezTo>
                  <a:pt x="283" y="88"/>
                  <a:pt x="247" y="96"/>
                  <a:pt x="211" y="96"/>
                </a:cubicBezTo>
                <a:cubicBezTo>
                  <a:pt x="147" y="96"/>
                  <a:pt x="80" y="104"/>
                  <a:pt x="19" y="84"/>
                </a:cubicBezTo>
                <a:cubicBezTo>
                  <a:pt x="0" y="78"/>
                  <a:pt x="48" y="55"/>
                  <a:pt x="67" y="48"/>
                </a:cubicBezTo>
                <a:cubicBezTo>
                  <a:pt x="91" y="38"/>
                  <a:pt x="239" y="26"/>
                  <a:pt x="247" y="24"/>
                </a:cubicBezTo>
                <a:cubicBezTo>
                  <a:pt x="256" y="21"/>
                  <a:pt x="255" y="8"/>
                  <a:pt x="259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4"/>
          <p:cNvSpPr/>
          <p:nvPr/>
        </p:nvSpPr>
        <p:spPr>
          <a:xfrm>
            <a:off x="533520" y="4094280"/>
            <a:ext cx="685800" cy="2135160"/>
          </a:xfrm>
          <a:custGeom>
            <a:avLst/>
            <a:gdLst/>
            <a:ahLst/>
            <a:rect l="l" t="t" r="r" b="b"/>
            <a:pathLst>
              <a:path w="432" h="1345">
                <a:moveTo>
                  <a:pt x="0" y="1345"/>
                </a:moveTo>
                <a:cubicBezTo>
                  <a:pt x="22" y="0"/>
                  <a:pt x="1" y="651"/>
                  <a:pt x="24" y="1117"/>
                </a:cubicBezTo>
                <a:cubicBezTo>
                  <a:pt x="28" y="1193"/>
                  <a:pt x="40" y="1269"/>
                  <a:pt x="48" y="1345"/>
                </a:cubicBezTo>
                <a:cubicBezTo>
                  <a:pt x="166" y="1242"/>
                  <a:pt x="248" y="1153"/>
                  <a:pt x="336" y="1021"/>
                </a:cubicBezTo>
                <a:cubicBezTo>
                  <a:pt x="348" y="922"/>
                  <a:pt x="360" y="841"/>
                  <a:pt x="432" y="769"/>
                </a:cubicBezTo>
                <a:cubicBezTo>
                  <a:pt x="339" y="750"/>
                  <a:pt x="248" y="720"/>
                  <a:pt x="156" y="697"/>
                </a:cubicBezTo>
                <a:cubicBezTo>
                  <a:pt x="135" y="888"/>
                  <a:pt x="132" y="1081"/>
                  <a:pt x="132" y="1273"/>
                </a:cubicBezTo>
                <a:lnTo>
                  <a:pt x="96" y="116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6" descr="AG00044_"/>
          <p:cNvPicPr/>
          <p:nvPr/>
        </p:nvPicPr>
        <p:blipFill>
          <a:blip r:embed="rId3"/>
          <a:stretch/>
        </p:blipFill>
        <p:spPr>
          <a:xfrm>
            <a:off x="5943600" y="3798720"/>
            <a:ext cx="2781360" cy="2373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会飞的鸟儿"/>
          <p:cNvPicPr/>
          <p:nvPr/>
        </p:nvPicPr>
        <p:blipFill>
          <a:blip r:embed="rId4"/>
          <a:stretch/>
        </p:blipFill>
        <p:spPr>
          <a:xfrm>
            <a:off x="539640" y="0"/>
            <a:ext cx="1524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lid1484.WAV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NA01441_"/>
          <p:cNvPicPr/>
          <p:nvPr/>
        </p:nvPicPr>
        <p:blipFill>
          <a:blip r:embed="rId2"/>
          <a:stretch/>
        </p:blipFill>
        <p:spPr>
          <a:xfrm>
            <a:off x="3429000" y="2743200"/>
            <a:ext cx="20876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NA01441_"/>
          <p:cNvPicPr/>
          <p:nvPr/>
        </p:nvPicPr>
        <p:blipFill>
          <a:blip r:embed="rId3"/>
          <a:stretch/>
        </p:blipFill>
        <p:spPr>
          <a:xfrm>
            <a:off x="0" y="685800"/>
            <a:ext cx="327672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AG00044_"/>
          <p:cNvPicPr/>
          <p:nvPr/>
        </p:nvPicPr>
        <p:blipFill>
          <a:blip r:embed="rId4"/>
          <a:stretch/>
        </p:blipFill>
        <p:spPr>
          <a:xfrm>
            <a:off x="1042920" y="3141720"/>
            <a:ext cx="3581640" cy="305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BD13721_"/>
          <p:cNvPicPr/>
          <p:nvPr/>
        </p:nvPicPr>
        <p:blipFill>
          <a:blip r:embed="rId5"/>
          <a:stretch/>
        </p:blipFill>
        <p:spPr>
          <a:xfrm>
            <a:off x="3886200" y="4437000"/>
            <a:ext cx="2419200" cy="1887480"/>
          </a:xfrm>
          <a:prstGeom prst="rect">
            <a:avLst/>
          </a:prstGeom>
          <a:ln w="0">
            <a:noFill/>
          </a:ln>
        </p:spPr>
      </p:pic>
      <p:sp>
        <p:nvSpPr>
          <p:cNvPr id="111" name="Freeform 13"/>
          <p:cNvSpPr/>
          <p:nvPr/>
        </p:nvSpPr>
        <p:spPr>
          <a:xfrm>
            <a:off x="838080" y="5994360"/>
            <a:ext cx="7925040" cy="482760"/>
          </a:xfrm>
          <a:custGeom>
            <a:avLst/>
            <a:gdLst/>
            <a:ahLst/>
            <a:rect l="l" t="t" r="r" b="b"/>
            <a:pathLst>
              <a:path w="4992" h="304">
                <a:moveTo>
                  <a:pt x="0" y="208"/>
                </a:moveTo>
                <a:cubicBezTo>
                  <a:pt x="496" y="236"/>
                  <a:pt x="992" y="264"/>
                  <a:pt x="1296" y="256"/>
                </a:cubicBezTo>
                <a:cubicBezTo>
                  <a:pt x="1600" y="248"/>
                  <a:pt x="1616" y="160"/>
                  <a:pt x="1824" y="160"/>
                </a:cubicBezTo>
                <a:cubicBezTo>
                  <a:pt x="2032" y="160"/>
                  <a:pt x="2352" y="256"/>
                  <a:pt x="2544" y="256"/>
                </a:cubicBezTo>
                <a:cubicBezTo>
                  <a:pt x="2736" y="256"/>
                  <a:pt x="2768" y="152"/>
                  <a:pt x="2976" y="160"/>
                </a:cubicBezTo>
                <a:cubicBezTo>
                  <a:pt x="3184" y="168"/>
                  <a:pt x="3616" y="304"/>
                  <a:pt x="3792" y="304"/>
                </a:cubicBezTo>
                <a:cubicBezTo>
                  <a:pt x="3968" y="304"/>
                  <a:pt x="3912" y="176"/>
                  <a:pt x="4032" y="160"/>
                </a:cubicBezTo>
                <a:cubicBezTo>
                  <a:pt x="4152" y="144"/>
                  <a:pt x="4400" y="232"/>
                  <a:pt x="4512" y="208"/>
                </a:cubicBezTo>
                <a:cubicBezTo>
                  <a:pt x="4624" y="184"/>
                  <a:pt x="4624" y="0"/>
                  <a:pt x="4704" y="16"/>
                </a:cubicBezTo>
                <a:cubicBezTo>
                  <a:pt x="4784" y="32"/>
                  <a:pt x="4944" y="256"/>
                  <a:pt x="4992" y="3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457200" y="5867280"/>
            <a:ext cx="8178840" cy="698760"/>
          </a:xfrm>
          <a:custGeom>
            <a:avLst/>
            <a:gdLst/>
            <a:ahLst/>
            <a:rect l="l" t="t" r="r" b="b"/>
            <a:pathLst>
              <a:path w="5152" h="440">
                <a:moveTo>
                  <a:pt x="0" y="384"/>
                </a:moveTo>
                <a:cubicBezTo>
                  <a:pt x="104" y="348"/>
                  <a:pt x="208" y="312"/>
                  <a:pt x="336" y="288"/>
                </a:cubicBezTo>
                <a:cubicBezTo>
                  <a:pt x="464" y="264"/>
                  <a:pt x="616" y="224"/>
                  <a:pt x="768" y="240"/>
                </a:cubicBezTo>
                <a:cubicBezTo>
                  <a:pt x="920" y="256"/>
                  <a:pt x="912" y="384"/>
                  <a:pt x="1248" y="384"/>
                </a:cubicBezTo>
                <a:cubicBezTo>
                  <a:pt x="1584" y="384"/>
                  <a:pt x="2392" y="232"/>
                  <a:pt x="2784" y="240"/>
                </a:cubicBezTo>
                <a:cubicBezTo>
                  <a:pt x="3176" y="248"/>
                  <a:pt x="3304" y="440"/>
                  <a:pt x="3600" y="432"/>
                </a:cubicBezTo>
                <a:cubicBezTo>
                  <a:pt x="3896" y="424"/>
                  <a:pt x="4336" y="248"/>
                  <a:pt x="4560" y="192"/>
                </a:cubicBezTo>
                <a:cubicBezTo>
                  <a:pt x="4784" y="136"/>
                  <a:pt x="4848" y="128"/>
                  <a:pt x="4944" y="96"/>
                </a:cubicBezTo>
                <a:cubicBezTo>
                  <a:pt x="5040" y="64"/>
                  <a:pt x="5120" y="0"/>
                  <a:pt x="5136" y="0"/>
                </a:cubicBezTo>
                <a:cubicBezTo>
                  <a:pt x="5152" y="0"/>
                  <a:pt x="5096" y="48"/>
                  <a:pt x="5040" y="96"/>
                </a:cubicBezTo>
              </a:path>
            </a:pathLst>
          </a:custGeom>
          <a:noFill/>
          <a:ln w="2844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609480" y="5638680"/>
            <a:ext cx="8001000" cy="723960"/>
          </a:xfrm>
          <a:custGeom>
            <a:avLst/>
            <a:gdLst/>
            <a:ahLst/>
            <a:rect l="l" t="t" r="r" b="b"/>
            <a:pathLst>
              <a:path w="5040" h="456">
                <a:moveTo>
                  <a:pt x="0" y="440"/>
                </a:moveTo>
                <a:cubicBezTo>
                  <a:pt x="168" y="376"/>
                  <a:pt x="336" y="312"/>
                  <a:pt x="528" y="296"/>
                </a:cubicBezTo>
                <a:cubicBezTo>
                  <a:pt x="720" y="280"/>
                  <a:pt x="992" y="336"/>
                  <a:pt x="1152" y="344"/>
                </a:cubicBezTo>
                <a:cubicBezTo>
                  <a:pt x="1312" y="352"/>
                  <a:pt x="1392" y="344"/>
                  <a:pt x="1488" y="344"/>
                </a:cubicBezTo>
                <a:cubicBezTo>
                  <a:pt x="1584" y="344"/>
                  <a:pt x="1608" y="344"/>
                  <a:pt x="1728" y="344"/>
                </a:cubicBezTo>
                <a:cubicBezTo>
                  <a:pt x="1848" y="344"/>
                  <a:pt x="2016" y="352"/>
                  <a:pt x="2208" y="344"/>
                </a:cubicBezTo>
                <a:cubicBezTo>
                  <a:pt x="2400" y="336"/>
                  <a:pt x="2752" y="304"/>
                  <a:pt x="2880" y="296"/>
                </a:cubicBezTo>
                <a:cubicBezTo>
                  <a:pt x="3008" y="288"/>
                  <a:pt x="2880" y="272"/>
                  <a:pt x="2976" y="296"/>
                </a:cubicBezTo>
                <a:cubicBezTo>
                  <a:pt x="3072" y="320"/>
                  <a:pt x="3280" y="424"/>
                  <a:pt x="3456" y="440"/>
                </a:cubicBezTo>
                <a:cubicBezTo>
                  <a:pt x="3632" y="456"/>
                  <a:pt x="3808" y="448"/>
                  <a:pt x="4032" y="392"/>
                </a:cubicBezTo>
                <a:cubicBezTo>
                  <a:pt x="4256" y="336"/>
                  <a:pt x="4656" y="168"/>
                  <a:pt x="4800" y="104"/>
                </a:cubicBezTo>
                <a:cubicBezTo>
                  <a:pt x="4944" y="40"/>
                  <a:pt x="4856" y="16"/>
                  <a:pt x="4896" y="8"/>
                </a:cubicBezTo>
                <a:cubicBezTo>
                  <a:pt x="4936" y="0"/>
                  <a:pt x="4988" y="28"/>
                  <a:pt x="5040" y="56"/>
                </a:cubicBezTo>
              </a:path>
            </a:pathLst>
          </a:custGeom>
          <a:noFill/>
          <a:ln w="2844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609480" y="6134040"/>
            <a:ext cx="8153640" cy="647640"/>
          </a:xfrm>
          <a:custGeom>
            <a:avLst/>
            <a:gdLst/>
            <a:ahLst/>
            <a:rect l="l" t="t" r="r" b="b"/>
            <a:pathLst>
              <a:path w="5136" h="408">
                <a:moveTo>
                  <a:pt x="0" y="408"/>
                </a:moveTo>
                <a:cubicBezTo>
                  <a:pt x="112" y="344"/>
                  <a:pt x="224" y="280"/>
                  <a:pt x="384" y="264"/>
                </a:cubicBezTo>
                <a:cubicBezTo>
                  <a:pt x="544" y="248"/>
                  <a:pt x="672" y="312"/>
                  <a:pt x="960" y="312"/>
                </a:cubicBezTo>
                <a:cubicBezTo>
                  <a:pt x="1248" y="312"/>
                  <a:pt x="1776" y="264"/>
                  <a:pt x="2112" y="264"/>
                </a:cubicBezTo>
                <a:cubicBezTo>
                  <a:pt x="2448" y="264"/>
                  <a:pt x="2752" y="296"/>
                  <a:pt x="2976" y="312"/>
                </a:cubicBezTo>
                <a:cubicBezTo>
                  <a:pt x="3200" y="328"/>
                  <a:pt x="3184" y="376"/>
                  <a:pt x="3456" y="360"/>
                </a:cubicBezTo>
                <a:cubicBezTo>
                  <a:pt x="3728" y="344"/>
                  <a:pt x="4384" y="272"/>
                  <a:pt x="4608" y="216"/>
                </a:cubicBezTo>
                <a:cubicBezTo>
                  <a:pt x="4832" y="160"/>
                  <a:pt x="4712" y="48"/>
                  <a:pt x="4800" y="24"/>
                </a:cubicBezTo>
                <a:cubicBezTo>
                  <a:pt x="4888" y="0"/>
                  <a:pt x="5080" y="72"/>
                  <a:pt x="5136" y="72"/>
                </a:cubicBezTo>
              </a:path>
            </a:pathLst>
          </a:custGeom>
          <a:noFill/>
          <a:ln w="2844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533520" y="6248520"/>
            <a:ext cx="7772400" cy="622080"/>
          </a:xfrm>
          <a:custGeom>
            <a:avLst/>
            <a:gdLst/>
            <a:ahLst/>
            <a:rect l="l" t="t" r="r" b="b"/>
            <a:pathLst>
              <a:path w="4896" h="392">
                <a:moveTo>
                  <a:pt x="0" y="240"/>
                </a:moveTo>
                <a:cubicBezTo>
                  <a:pt x="168" y="172"/>
                  <a:pt x="336" y="104"/>
                  <a:pt x="720" y="96"/>
                </a:cubicBezTo>
                <a:cubicBezTo>
                  <a:pt x="1104" y="88"/>
                  <a:pt x="1968" y="192"/>
                  <a:pt x="2304" y="192"/>
                </a:cubicBezTo>
                <a:cubicBezTo>
                  <a:pt x="2640" y="192"/>
                  <a:pt x="2480" y="120"/>
                  <a:pt x="2736" y="96"/>
                </a:cubicBezTo>
                <a:cubicBezTo>
                  <a:pt x="2992" y="72"/>
                  <a:pt x="3536" y="0"/>
                  <a:pt x="3840" y="48"/>
                </a:cubicBezTo>
                <a:cubicBezTo>
                  <a:pt x="4144" y="96"/>
                  <a:pt x="4384" y="392"/>
                  <a:pt x="4560" y="384"/>
                </a:cubicBezTo>
                <a:cubicBezTo>
                  <a:pt x="4736" y="376"/>
                  <a:pt x="4840" y="64"/>
                  <a:pt x="4896" y="0"/>
                </a:cubicBezTo>
              </a:path>
            </a:pathLst>
          </a:custGeom>
          <a:noFill/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457200" y="6019920"/>
            <a:ext cx="8153280" cy="838080"/>
          </a:xfrm>
          <a:custGeom>
            <a:avLst/>
            <a:gdLst/>
            <a:ahLst/>
            <a:rect l="l" t="t" r="r" b="b"/>
            <a:pathLst>
              <a:path w="5136" h="528">
                <a:moveTo>
                  <a:pt x="0" y="288"/>
                </a:moveTo>
                <a:lnTo>
                  <a:pt x="1152" y="96"/>
                </a:lnTo>
                <a:lnTo>
                  <a:pt x="2400" y="144"/>
                </a:lnTo>
                <a:lnTo>
                  <a:pt x="3168" y="144"/>
                </a:lnTo>
                <a:lnTo>
                  <a:pt x="4224" y="0"/>
                </a:lnTo>
                <a:lnTo>
                  <a:pt x="4848" y="48"/>
                </a:lnTo>
                <a:lnTo>
                  <a:pt x="4848" y="288"/>
                </a:lnTo>
                <a:lnTo>
                  <a:pt x="5136" y="336"/>
                </a:lnTo>
                <a:lnTo>
                  <a:pt x="4800" y="528"/>
                </a:lnTo>
                <a:lnTo>
                  <a:pt x="2448" y="480"/>
                </a:lnTo>
                <a:lnTo>
                  <a:pt x="1632" y="480"/>
                </a:lnTo>
                <a:lnTo>
                  <a:pt x="384" y="528"/>
                </a:lnTo>
                <a:lnTo>
                  <a:pt x="576" y="240"/>
                </a:lnTo>
                <a:lnTo>
                  <a:pt x="0" y="28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23"/>
          <p:cNvSpPr/>
          <p:nvPr/>
        </p:nvSpPr>
        <p:spPr>
          <a:xfrm>
            <a:off x="228600" y="6477120"/>
            <a:ext cx="1511280" cy="75960"/>
          </a:xfrm>
          <a:custGeom>
            <a:avLst/>
            <a:gdLst/>
            <a:ahLst/>
            <a:rect l="l" t="t" r="r" b="b"/>
            <a:pathLst>
              <a:path w="952" h="48">
                <a:moveTo>
                  <a:pt x="0" y="48"/>
                </a:moveTo>
                <a:cubicBezTo>
                  <a:pt x="116" y="24"/>
                  <a:pt x="232" y="0"/>
                  <a:pt x="384" y="0"/>
                </a:cubicBezTo>
                <a:cubicBezTo>
                  <a:pt x="536" y="0"/>
                  <a:pt x="872" y="48"/>
                  <a:pt x="912" y="48"/>
                </a:cubicBezTo>
                <a:cubicBezTo>
                  <a:pt x="952" y="48"/>
                  <a:pt x="664" y="8"/>
                  <a:pt x="624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-76320" y="5827680"/>
            <a:ext cx="9296640" cy="1106640"/>
          </a:xfrm>
          <a:custGeom>
            <a:avLst/>
            <a:gdLst/>
            <a:ahLst/>
            <a:rect l="l" t="t" r="r" b="b"/>
            <a:pathLst>
              <a:path w="5856" h="697">
                <a:moveTo>
                  <a:pt x="273" y="198"/>
                </a:moveTo>
                <a:cubicBezTo>
                  <a:pt x="365" y="194"/>
                  <a:pt x="457" y="195"/>
                  <a:pt x="549" y="186"/>
                </a:cubicBezTo>
                <a:cubicBezTo>
                  <a:pt x="579" y="183"/>
                  <a:pt x="637" y="161"/>
                  <a:pt x="637" y="161"/>
                </a:cubicBezTo>
                <a:cubicBezTo>
                  <a:pt x="1250" y="63"/>
                  <a:pt x="1342" y="0"/>
                  <a:pt x="1814" y="23"/>
                </a:cubicBezTo>
                <a:cubicBezTo>
                  <a:pt x="1922" y="58"/>
                  <a:pt x="2040" y="54"/>
                  <a:pt x="2152" y="73"/>
                </a:cubicBezTo>
                <a:cubicBezTo>
                  <a:pt x="2162" y="104"/>
                  <a:pt x="2178" y="170"/>
                  <a:pt x="2227" y="161"/>
                </a:cubicBezTo>
                <a:cubicBezTo>
                  <a:pt x="2239" y="159"/>
                  <a:pt x="2244" y="144"/>
                  <a:pt x="2252" y="136"/>
                </a:cubicBezTo>
                <a:lnTo>
                  <a:pt x="1728" y="217"/>
                </a:lnTo>
                <a:lnTo>
                  <a:pt x="1728" y="313"/>
                </a:lnTo>
                <a:lnTo>
                  <a:pt x="4656" y="217"/>
                </a:lnTo>
                <a:lnTo>
                  <a:pt x="5856" y="169"/>
                </a:lnTo>
                <a:lnTo>
                  <a:pt x="5856" y="697"/>
                </a:lnTo>
                <a:lnTo>
                  <a:pt x="0" y="697"/>
                </a:lnTo>
                <a:lnTo>
                  <a:pt x="48" y="313"/>
                </a:lnTo>
                <a:lnTo>
                  <a:pt x="48" y="169"/>
                </a:lnTo>
                <a:lnTo>
                  <a:pt x="273" y="198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26"/>
          <p:cNvSpPr/>
          <p:nvPr/>
        </p:nvSpPr>
        <p:spPr>
          <a:xfrm>
            <a:off x="-20520" y="6300720"/>
            <a:ext cx="41040" cy="39600"/>
          </a:xfrm>
          <a:custGeom>
            <a:avLst/>
            <a:gdLst/>
            <a:ahLst/>
            <a:rect l="l" t="t" r="r" b="b"/>
            <a:pathLst>
              <a:path w="26" h="25">
                <a:moveTo>
                  <a:pt x="26" y="25"/>
                </a:moveTo>
                <a:cubicBezTo>
                  <a:pt x="17" y="17"/>
                  <a:pt x="0" y="0"/>
                  <a:pt x="0" y="0"/>
                </a:cubicBezTo>
                <a:cubicBezTo>
                  <a:pt x="0" y="0"/>
                  <a:pt x="17" y="17"/>
                  <a:pt x="26" y="2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27"/>
          <p:cNvSpPr/>
          <p:nvPr/>
        </p:nvSpPr>
        <p:spPr>
          <a:xfrm>
            <a:off x="-368280" y="6053040"/>
            <a:ext cx="9667800" cy="1024200"/>
          </a:xfrm>
          <a:custGeom>
            <a:avLst/>
            <a:gdLst/>
            <a:ahLst/>
            <a:rect l="l" t="t" r="r" b="b"/>
            <a:pathLst>
              <a:path w="6090" h="645">
                <a:moveTo>
                  <a:pt x="307" y="206"/>
                </a:moveTo>
                <a:cubicBezTo>
                  <a:pt x="422" y="218"/>
                  <a:pt x="532" y="199"/>
                  <a:pt x="645" y="219"/>
                </a:cubicBezTo>
                <a:cubicBezTo>
                  <a:pt x="699" y="215"/>
                  <a:pt x="754" y="214"/>
                  <a:pt x="808" y="206"/>
                </a:cubicBezTo>
                <a:cubicBezTo>
                  <a:pt x="893" y="194"/>
                  <a:pt x="973" y="157"/>
                  <a:pt x="1058" y="144"/>
                </a:cubicBezTo>
                <a:cubicBezTo>
                  <a:pt x="1116" y="135"/>
                  <a:pt x="1264" y="121"/>
                  <a:pt x="1309" y="106"/>
                </a:cubicBezTo>
                <a:cubicBezTo>
                  <a:pt x="1384" y="81"/>
                  <a:pt x="1431" y="68"/>
                  <a:pt x="1509" y="56"/>
                </a:cubicBezTo>
                <a:cubicBezTo>
                  <a:pt x="1530" y="59"/>
                  <a:pt x="1676" y="73"/>
                  <a:pt x="1697" y="94"/>
                </a:cubicBezTo>
                <a:cubicBezTo>
                  <a:pt x="1708" y="105"/>
                  <a:pt x="1672" y="111"/>
                  <a:pt x="1659" y="119"/>
                </a:cubicBezTo>
                <a:cubicBezTo>
                  <a:pt x="1594" y="319"/>
                  <a:pt x="1924" y="240"/>
                  <a:pt x="2023" y="244"/>
                </a:cubicBezTo>
                <a:cubicBezTo>
                  <a:pt x="2119" y="248"/>
                  <a:pt x="2215" y="253"/>
                  <a:pt x="2311" y="257"/>
                </a:cubicBezTo>
                <a:cubicBezTo>
                  <a:pt x="2452" y="207"/>
                  <a:pt x="2604" y="282"/>
                  <a:pt x="2749" y="244"/>
                </a:cubicBezTo>
                <a:cubicBezTo>
                  <a:pt x="2883" y="248"/>
                  <a:pt x="3016" y="260"/>
                  <a:pt x="3150" y="257"/>
                </a:cubicBezTo>
                <a:cubicBezTo>
                  <a:pt x="3205" y="256"/>
                  <a:pt x="3312" y="232"/>
                  <a:pt x="3312" y="232"/>
                </a:cubicBezTo>
                <a:cubicBezTo>
                  <a:pt x="3725" y="254"/>
                  <a:pt x="4140" y="227"/>
                  <a:pt x="4552" y="194"/>
                </a:cubicBezTo>
                <a:cubicBezTo>
                  <a:pt x="4656" y="198"/>
                  <a:pt x="4761" y="206"/>
                  <a:pt x="4865" y="206"/>
                </a:cubicBezTo>
                <a:cubicBezTo>
                  <a:pt x="4924" y="206"/>
                  <a:pt x="4981" y="185"/>
                  <a:pt x="5040" y="181"/>
                </a:cubicBezTo>
                <a:cubicBezTo>
                  <a:pt x="5119" y="175"/>
                  <a:pt x="5199" y="173"/>
                  <a:pt x="5278" y="169"/>
                </a:cubicBezTo>
                <a:cubicBezTo>
                  <a:pt x="6024" y="184"/>
                  <a:pt x="5811" y="0"/>
                  <a:pt x="5929" y="294"/>
                </a:cubicBezTo>
                <a:cubicBezTo>
                  <a:pt x="5943" y="253"/>
                  <a:pt x="5934" y="197"/>
                  <a:pt x="5967" y="169"/>
                </a:cubicBezTo>
                <a:cubicBezTo>
                  <a:pt x="5983" y="155"/>
                  <a:pt x="6009" y="177"/>
                  <a:pt x="6030" y="181"/>
                </a:cubicBezTo>
                <a:cubicBezTo>
                  <a:pt x="6026" y="306"/>
                  <a:pt x="6090" y="455"/>
                  <a:pt x="6017" y="557"/>
                </a:cubicBezTo>
                <a:cubicBezTo>
                  <a:pt x="5966" y="629"/>
                  <a:pt x="5842" y="566"/>
                  <a:pt x="5754" y="570"/>
                </a:cubicBezTo>
                <a:cubicBezTo>
                  <a:pt x="5646" y="575"/>
                  <a:pt x="5537" y="578"/>
                  <a:pt x="5429" y="582"/>
                </a:cubicBezTo>
                <a:cubicBezTo>
                  <a:pt x="4764" y="645"/>
                  <a:pt x="4110" y="639"/>
                  <a:pt x="3438" y="645"/>
                </a:cubicBezTo>
                <a:cubicBezTo>
                  <a:pt x="2553" y="641"/>
                  <a:pt x="1668" y="640"/>
                  <a:pt x="783" y="632"/>
                </a:cubicBezTo>
                <a:cubicBezTo>
                  <a:pt x="555" y="630"/>
                  <a:pt x="322" y="585"/>
                  <a:pt x="94" y="570"/>
                </a:cubicBezTo>
                <a:cubicBezTo>
                  <a:pt x="69" y="566"/>
                  <a:pt x="25" y="582"/>
                  <a:pt x="19" y="557"/>
                </a:cubicBezTo>
                <a:cubicBezTo>
                  <a:pt x="0" y="480"/>
                  <a:pt x="26" y="398"/>
                  <a:pt x="32" y="319"/>
                </a:cubicBezTo>
                <a:cubicBezTo>
                  <a:pt x="38" y="234"/>
                  <a:pt x="47" y="160"/>
                  <a:pt x="132" y="131"/>
                </a:cubicBezTo>
                <a:cubicBezTo>
                  <a:pt x="157" y="135"/>
                  <a:pt x="185" y="131"/>
                  <a:pt x="207" y="144"/>
                </a:cubicBezTo>
                <a:cubicBezTo>
                  <a:pt x="218" y="150"/>
                  <a:pt x="210" y="172"/>
                  <a:pt x="219" y="181"/>
                </a:cubicBezTo>
                <a:cubicBezTo>
                  <a:pt x="230" y="192"/>
                  <a:pt x="319" y="206"/>
                  <a:pt x="320" y="206"/>
                </a:cubicBezTo>
                <a:cubicBezTo>
                  <a:pt x="328" y="215"/>
                  <a:pt x="345" y="244"/>
                  <a:pt x="345" y="232"/>
                </a:cubicBezTo>
                <a:cubicBezTo>
                  <a:pt x="345" y="217"/>
                  <a:pt x="333" y="203"/>
                  <a:pt x="320" y="194"/>
                </a:cubicBezTo>
                <a:cubicBezTo>
                  <a:pt x="315" y="191"/>
                  <a:pt x="311" y="202"/>
                  <a:pt x="307" y="20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112680" y="6184800"/>
            <a:ext cx="7367760" cy="444600"/>
          </a:xfrm>
          <a:custGeom>
            <a:avLst/>
            <a:gdLst/>
            <a:ahLst/>
            <a:rect l="l" t="t" r="r" b="b"/>
            <a:pathLst>
              <a:path w="4641" h="336">
                <a:moveTo>
                  <a:pt x="42" y="98"/>
                </a:moveTo>
                <a:cubicBezTo>
                  <a:pt x="218" y="129"/>
                  <a:pt x="427" y="83"/>
                  <a:pt x="605" y="73"/>
                </a:cubicBezTo>
                <a:cubicBezTo>
                  <a:pt x="835" y="0"/>
                  <a:pt x="1092" y="70"/>
                  <a:pt x="1331" y="86"/>
                </a:cubicBezTo>
                <a:cubicBezTo>
                  <a:pt x="1376" y="75"/>
                  <a:pt x="1409" y="59"/>
                  <a:pt x="1457" y="86"/>
                </a:cubicBezTo>
                <a:cubicBezTo>
                  <a:pt x="1468" y="92"/>
                  <a:pt x="1482" y="122"/>
                  <a:pt x="1469" y="123"/>
                </a:cubicBezTo>
                <a:cubicBezTo>
                  <a:pt x="1385" y="127"/>
                  <a:pt x="1219" y="98"/>
                  <a:pt x="1219" y="98"/>
                </a:cubicBezTo>
                <a:cubicBezTo>
                  <a:pt x="1165" y="102"/>
                  <a:pt x="1108" y="94"/>
                  <a:pt x="1056" y="111"/>
                </a:cubicBezTo>
                <a:cubicBezTo>
                  <a:pt x="1028" y="120"/>
                  <a:pt x="1114" y="123"/>
                  <a:pt x="1144" y="123"/>
                </a:cubicBezTo>
                <a:cubicBezTo>
                  <a:pt x="1223" y="123"/>
                  <a:pt x="1303" y="115"/>
                  <a:pt x="1382" y="111"/>
                </a:cubicBezTo>
                <a:cubicBezTo>
                  <a:pt x="1729" y="132"/>
                  <a:pt x="1985" y="142"/>
                  <a:pt x="2371" y="149"/>
                </a:cubicBezTo>
                <a:cubicBezTo>
                  <a:pt x="2650" y="168"/>
                  <a:pt x="2930" y="173"/>
                  <a:pt x="3210" y="186"/>
                </a:cubicBezTo>
                <a:cubicBezTo>
                  <a:pt x="3285" y="194"/>
                  <a:pt x="3362" y="192"/>
                  <a:pt x="3435" y="211"/>
                </a:cubicBezTo>
                <a:cubicBezTo>
                  <a:pt x="3489" y="225"/>
                  <a:pt x="3530" y="276"/>
                  <a:pt x="3585" y="286"/>
                </a:cubicBezTo>
                <a:cubicBezTo>
                  <a:pt x="3708" y="309"/>
                  <a:pt x="3836" y="303"/>
                  <a:pt x="3961" y="311"/>
                </a:cubicBezTo>
                <a:cubicBezTo>
                  <a:pt x="4123" y="270"/>
                  <a:pt x="4287" y="288"/>
                  <a:pt x="4449" y="249"/>
                </a:cubicBezTo>
                <a:cubicBezTo>
                  <a:pt x="4503" y="257"/>
                  <a:pt x="4565" y="246"/>
                  <a:pt x="4612" y="274"/>
                </a:cubicBezTo>
                <a:cubicBezTo>
                  <a:pt x="4641" y="291"/>
                  <a:pt x="4545" y="283"/>
                  <a:pt x="4512" y="286"/>
                </a:cubicBezTo>
                <a:cubicBezTo>
                  <a:pt x="4454" y="291"/>
                  <a:pt x="4395" y="294"/>
                  <a:pt x="4337" y="299"/>
                </a:cubicBezTo>
                <a:cubicBezTo>
                  <a:pt x="4182" y="313"/>
                  <a:pt x="4028" y="326"/>
                  <a:pt x="3873" y="336"/>
                </a:cubicBezTo>
                <a:cubicBezTo>
                  <a:pt x="3514" y="327"/>
                  <a:pt x="3154" y="323"/>
                  <a:pt x="2796" y="299"/>
                </a:cubicBezTo>
                <a:cubicBezTo>
                  <a:pt x="2632" y="312"/>
                  <a:pt x="2486" y="292"/>
                  <a:pt x="2321" y="286"/>
                </a:cubicBezTo>
                <a:cubicBezTo>
                  <a:pt x="1961" y="272"/>
                  <a:pt x="1313" y="266"/>
                  <a:pt x="1018" y="261"/>
                </a:cubicBezTo>
                <a:cubicBezTo>
                  <a:pt x="925" y="252"/>
                  <a:pt x="879" y="270"/>
                  <a:pt x="831" y="199"/>
                </a:cubicBezTo>
                <a:cubicBezTo>
                  <a:pt x="606" y="214"/>
                  <a:pt x="431" y="221"/>
                  <a:pt x="204" y="199"/>
                </a:cubicBezTo>
                <a:cubicBezTo>
                  <a:pt x="187" y="191"/>
                  <a:pt x="171" y="181"/>
                  <a:pt x="154" y="174"/>
                </a:cubicBezTo>
                <a:cubicBezTo>
                  <a:pt x="138" y="168"/>
                  <a:pt x="117" y="172"/>
                  <a:pt x="104" y="161"/>
                </a:cubicBezTo>
                <a:cubicBezTo>
                  <a:pt x="94" y="153"/>
                  <a:pt x="100" y="134"/>
                  <a:pt x="92" y="123"/>
                </a:cubicBezTo>
                <a:cubicBezTo>
                  <a:pt x="70" y="95"/>
                  <a:pt x="47" y="67"/>
                  <a:pt x="17" y="48"/>
                </a:cubicBezTo>
                <a:cubicBezTo>
                  <a:pt x="0" y="37"/>
                  <a:pt x="45" y="79"/>
                  <a:pt x="54" y="98"/>
                </a:cubicBezTo>
                <a:cubicBezTo>
                  <a:pt x="56" y="102"/>
                  <a:pt x="46" y="98"/>
                  <a:pt x="42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-228600" y="6315120"/>
            <a:ext cx="9448920" cy="549360"/>
          </a:xfrm>
          <a:custGeom>
            <a:avLst/>
            <a:gdLst/>
            <a:ahLst/>
            <a:rect l="l" t="t" r="r" b="b"/>
            <a:pathLst>
              <a:path w="5584" h="346">
                <a:moveTo>
                  <a:pt x="0" y="204"/>
                </a:moveTo>
                <a:cubicBezTo>
                  <a:pt x="115" y="163"/>
                  <a:pt x="201" y="144"/>
                  <a:pt x="313" y="117"/>
                </a:cubicBezTo>
                <a:cubicBezTo>
                  <a:pt x="342" y="121"/>
                  <a:pt x="371" y="123"/>
                  <a:pt x="400" y="129"/>
                </a:cubicBezTo>
                <a:cubicBezTo>
                  <a:pt x="413" y="132"/>
                  <a:pt x="425" y="142"/>
                  <a:pt x="438" y="142"/>
                </a:cubicBezTo>
                <a:cubicBezTo>
                  <a:pt x="455" y="142"/>
                  <a:pt x="471" y="131"/>
                  <a:pt x="488" y="129"/>
                </a:cubicBezTo>
                <a:cubicBezTo>
                  <a:pt x="529" y="123"/>
                  <a:pt x="571" y="121"/>
                  <a:pt x="613" y="117"/>
                </a:cubicBezTo>
                <a:cubicBezTo>
                  <a:pt x="844" y="69"/>
                  <a:pt x="1091" y="94"/>
                  <a:pt x="1327" y="79"/>
                </a:cubicBezTo>
                <a:cubicBezTo>
                  <a:pt x="1511" y="89"/>
                  <a:pt x="1682" y="114"/>
                  <a:pt x="1865" y="129"/>
                </a:cubicBezTo>
                <a:cubicBezTo>
                  <a:pt x="2156" y="225"/>
                  <a:pt x="2454" y="233"/>
                  <a:pt x="2754" y="217"/>
                </a:cubicBezTo>
                <a:cubicBezTo>
                  <a:pt x="3056" y="178"/>
                  <a:pt x="2561" y="238"/>
                  <a:pt x="3268" y="192"/>
                </a:cubicBezTo>
                <a:cubicBezTo>
                  <a:pt x="3319" y="189"/>
                  <a:pt x="3367" y="171"/>
                  <a:pt x="3418" y="167"/>
                </a:cubicBezTo>
                <a:cubicBezTo>
                  <a:pt x="3568" y="155"/>
                  <a:pt x="3869" y="142"/>
                  <a:pt x="3869" y="142"/>
                </a:cubicBezTo>
                <a:cubicBezTo>
                  <a:pt x="4035" y="113"/>
                  <a:pt x="4203" y="108"/>
                  <a:pt x="4370" y="92"/>
                </a:cubicBezTo>
                <a:cubicBezTo>
                  <a:pt x="4525" y="53"/>
                  <a:pt x="4676" y="88"/>
                  <a:pt x="4833" y="67"/>
                </a:cubicBezTo>
                <a:cubicBezTo>
                  <a:pt x="5061" y="0"/>
                  <a:pt x="5316" y="34"/>
                  <a:pt x="5547" y="41"/>
                </a:cubicBezTo>
                <a:cubicBezTo>
                  <a:pt x="5490" y="127"/>
                  <a:pt x="5529" y="52"/>
                  <a:pt x="5559" y="67"/>
                </a:cubicBezTo>
                <a:cubicBezTo>
                  <a:pt x="5561" y="68"/>
                  <a:pt x="5584" y="141"/>
                  <a:pt x="5584" y="142"/>
                </a:cubicBezTo>
                <a:cubicBezTo>
                  <a:pt x="5328" y="268"/>
                  <a:pt x="5214" y="197"/>
                  <a:pt x="4821" y="204"/>
                </a:cubicBezTo>
                <a:cubicBezTo>
                  <a:pt x="4683" y="222"/>
                  <a:pt x="4545" y="238"/>
                  <a:pt x="4407" y="254"/>
                </a:cubicBezTo>
                <a:cubicBezTo>
                  <a:pt x="4288" y="284"/>
                  <a:pt x="4181" y="304"/>
                  <a:pt x="4057" y="317"/>
                </a:cubicBezTo>
                <a:cubicBezTo>
                  <a:pt x="3998" y="313"/>
                  <a:pt x="3939" y="315"/>
                  <a:pt x="3881" y="304"/>
                </a:cubicBezTo>
                <a:cubicBezTo>
                  <a:pt x="3854" y="299"/>
                  <a:pt x="3834" y="271"/>
                  <a:pt x="3806" y="267"/>
                </a:cubicBezTo>
                <a:cubicBezTo>
                  <a:pt x="3699" y="250"/>
                  <a:pt x="3589" y="250"/>
                  <a:pt x="3481" y="242"/>
                </a:cubicBezTo>
                <a:cubicBezTo>
                  <a:pt x="3088" y="269"/>
                  <a:pt x="2699" y="283"/>
                  <a:pt x="2304" y="292"/>
                </a:cubicBezTo>
                <a:cubicBezTo>
                  <a:pt x="1971" y="337"/>
                  <a:pt x="1605" y="323"/>
                  <a:pt x="1277" y="329"/>
                </a:cubicBezTo>
                <a:cubicBezTo>
                  <a:pt x="1248" y="325"/>
                  <a:pt x="1183" y="346"/>
                  <a:pt x="1189" y="317"/>
                </a:cubicBezTo>
                <a:cubicBezTo>
                  <a:pt x="1196" y="280"/>
                  <a:pt x="1255" y="282"/>
                  <a:pt x="1289" y="267"/>
                </a:cubicBezTo>
                <a:cubicBezTo>
                  <a:pt x="1347" y="241"/>
                  <a:pt x="1405" y="214"/>
                  <a:pt x="1465" y="192"/>
                </a:cubicBezTo>
                <a:cubicBezTo>
                  <a:pt x="1497" y="180"/>
                  <a:pt x="1599" y="168"/>
                  <a:pt x="1565" y="167"/>
                </a:cubicBezTo>
                <a:cubicBezTo>
                  <a:pt x="1423" y="161"/>
                  <a:pt x="1281" y="175"/>
                  <a:pt x="1139" y="179"/>
                </a:cubicBezTo>
                <a:cubicBezTo>
                  <a:pt x="781" y="241"/>
                  <a:pt x="355" y="212"/>
                  <a:pt x="25" y="217"/>
                </a:cubicBezTo>
                <a:cubicBezTo>
                  <a:pt x="54" y="234"/>
                  <a:pt x="86" y="246"/>
                  <a:pt x="112" y="267"/>
                </a:cubicBezTo>
                <a:cubicBezTo>
                  <a:pt x="124" y="276"/>
                  <a:pt x="148" y="293"/>
                  <a:pt x="137" y="304"/>
                </a:cubicBezTo>
                <a:cubicBezTo>
                  <a:pt x="126" y="315"/>
                  <a:pt x="111" y="289"/>
                  <a:pt x="100" y="279"/>
                </a:cubicBezTo>
                <a:cubicBezTo>
                  <a:pt x="13" y="204"/>
                  <a:pt x="90" y="249"/>
                  <a:pt x="0" y="204"/>
                </a:cubicBez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3"/>
          <p:cNvSpPr/>
          <p:nvPr/>
        </p:nvSpPr>
        <p:spPr>
          <a:xfrm>
            <a:off x="6629400" y="4038480"/>
            <a:ext cx="76320" cy="1295640"/>
          </a:xfrm>
          <a:prstGeom prst="downArrow">
            <a:avLst>
              <a:gd name="adj1" fmla="val 50000"/>
              <a:gd name="adj2" fmla="val 42441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321228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656496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矮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9"/>
          <p:cNvSpPr/>
          <p:nvPr/>
        </p:nvSpPr>
        <p:spPr>
          <a:xfrm>
            <a:off x="3429000" y="2286000"/>
            <a:ext cx="76320" cy="1219320"/>
          </a:xfrm>
          <a:prstGeom prst="downArrow">
            <a:avLst>
              <a:gd name="adj1" fmla="val 50000"/>
              <a:gd name="adj2" fmla="val 39941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2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图小马过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5019480" y="38088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既不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4055400" y="1600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（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7408440" y="3200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（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6" descr="j0095742"/>
          <p:cNvPicPr/>
          <p:nvPr/>
        </p:nvPicPr>
        <p:blipFill>
          <a:blip r:embed="rId6"/>
          <a:stretch/>
        </p:blipFill>
        <p:spPr>
          <a:xfrm>
            <a:off x="6227640" y="5373720"/>
            <a:ext cx="120024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83664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勇敢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的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大家都说冬冬胆子小。是啊，冬冬特别怕黑，晚上从来不敢出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一个闷热的晚上，冬冬在自己房间里做作业，姥姥在厨房里收拾东西。突然，厨房里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扑通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9900"/>
                </a:solidFill>
                <a:latin typeface="黑体"/>
                <a:ea typeface="黑体"/>
              </a:rPr>
              <a:t>响了一声。冬冬赶忙跑过去，只见姥姥摔倒在地上，双眼紧闭，脸色煞白。冬冬吓坏了，可是爸爸、妈妈不在家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怎么办？她立即给社区医院打电话，电话占线！冬冬顾不得多想，冲出家门，向社区医院跑去。外面下起雨来，天特别黑。风雨中，两侧楼房的灯光一闪一闪的，好像无数据大怪兽的眼睛。冬冬害怕极了，他不敢向两边看，拼命朝医院跑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医生随冬冬来到家里，姥姥得救了。爸爸、妈妈回来后，激动地抱起冬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0920" y="115920"/>
            <a:ext cx="3384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爱读书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36" name="Picture 10" descr="图片34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755640" y="2781360"/>
            <a:ext cx="7775640" cy="3327480"/>
            <a:chOff x="755640" y="2781360"/>
            <a:chExt cx="7775640" cy="3327480"/>
          </a:xfrm>
        </p:grpSpPr>
        <p:pic>
          <p:nvPicPr>
            <p:cNvPr id="138" name="Picture 3" descr="fam09"/>
            <p:cNvPicPr/>
            <p:nvPr/>
          </p:nvPicPr>
          <p:blipFill>
            <a:blip r:embed="rId1"/>
            <a:stretch/>
          </p:blipFill>
          <p:spPr>
            <a:xfrm>
              <a:off x="4067280" y="3235320"/>
              <a:ext cx="446400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" descr="sce04"/>
            <p:cNvPicPr/>
            <p:nvPr/>
          </p:nvPicPr>
          <p:blipFill>
            <a:blip r:embed="rId2"/>
            <a:stretch/>
          </p:blipFill>
          <p:spPr>
            <a:xfrm>
              <a:off x="755640" y="2781360"/>
              <a:ext cx="3672000" cy="29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5"/>
          <p:cNvGrpSpPr/>
          <p:nvPr/>
        </p:nvGrpSpPr>
        <p:grpSpPr>
          <a:xfrm>
            <a:off x="468360" y="549360"/>
            <a:ext cx="3313080" cy="2305080"/>
            <a:chOff x="468360" y="549360"/>
            <a:chExt cx="3313080" cy="2305080"/>
          </a:xfrm>
        </p:grpSpPr>
        <p:pic>
          <p:nvPicPr>
            <p:cNvPr id="141" name="Object 6" descr=""/>
            <p:cNvPicPr/>
            <p:nvPr/>
          </p:nvPicPr>
          <p:blipFill>
            <a:blip r:embed="rId3"/>
            <a:stretch/>
          </p:blipFill>
          <p:spPr>
            <a:xfrm>
              <a:off x="468360" y="549360"/>
              <a:ext cx="3313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"/>
            <p:cNvSpPr/>
            <p:nvPr/>
          </p:nvSpPr>
          <p:spPr>
            <a:xfrm>
              <a:off x="757080" y="76536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zh-CN" sz="2000" spc="-1" strike="noStrike">
                  <a:solidFill>
                    <a:srgbClr val="ff3300"/>
                  </a:solidFill>
                  <a:latin typeface="Tahoma"/>
                </a:rPr>
                <a:t>妈妈，我已经长大了，也应学着帮你干活了，我会送去，您放心吧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8"/>
          <p:cNvGrpSpPr/>
          <p:nvPr/>
        </p:nvGrpSpPr>
        <p:grpSpPr>
          <a:xfrm>
            <a:off x="4500720" y="692280"/>
            <a:ext cx="4211640" cy="2401920"/>
            <a:chOff x="4500720" y="692280"/>
            <a:chExt cx="4211640" cy="2401920"/>
          </a:xfrm>
        </p:grpSpPr>
        <p:pic>
          <p:nvPicPr>
            <p:cNvPr id="144" name="Object 9" descr=""/>
            <p:cNvPicPr/>
            <p:nvPr/>
          </p:nvPicPr>
          <p:blipFill>
            <a:blip r:embed="rId4"/>
            <a:stretch/>
          </p:blipFill>
          <p:spPr>
            <a:xfrm>
              <a:off x="4500720" y="692280"/>
              <a:ext cx="42116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0"/>
            <p:cNvSpPr/>
            <p:nvPr/>
          </p:nvSpPr>
          <p:spPr>
            <a:xfrm>
              <a:off x="5220000" y="908280"/>
              <a:ext cx="302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66cc"/>
                  </a:solidFill>
                  <a:latin typeface="Times New Roman"/>
                </a:rPr>
                <a:t>小马，妈妈今天不舒服，不能给张爷爷去送面了，好孩子你能帮妈妈去送面吗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Picture 11" descr="马"/>
          <p:cNvPicPr/>
          <p:nvPr/>
        </p:nvPicPr>
        <p:blipFill>
          <a:blip r:embed="rId5"/>
          <a:stretch/>
        </p:blipFill>
        <p:spPr>
          <a:xfrm>
            <a:off x="1763640" y="4149720"/>
            <a:ext cx="226692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12" descr=""/>
          <p:cNvPicPr/>
          <p:nvPr/>
        </p:nvPicPr>
        <p:blipFill>
          <a:blip r:embed="rId6"/>
          <a:stretch/>
        </p:blipFill>
        <p:spPr>
          <a:xfrm>
            <a:off x="4284720" y="5589720"/>
            <a:ext cx="655560" cy="91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7"/>
          <a:stretch/>
        </p:blipFill>
        <p:spPr>
          <a:xfrm>
            <a:off x="4572000" y="5589720"/>
            <a:ext cx="655560" cy="91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1_2"/>
          <p:cNvPicPr/>
          <p:nvPr/>
        </p:nvPicPr>
        <p:blipFill>
          <a:blip r:embed="rId8"/>
          <a:stretch/>
        </p:blipFill>
        <p:spPr>
          <a:xfrm>
            <a:off x="5867280" y="3716280"/>
            <a:ext cx="28180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森林小屋"/>
          <p:cNvPicPr/>
          <p:nvPr/>
        </p:nvPicPr>
        <p:blipFill>
          <a:blip r:embed="rId1"/>
          <a:srcRect l="47876" t="0" r="0" b="-334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1n"/>
          <p:cNvPicPr/>
          <p:nvPr/>
        </p:nvPicPr>
        <p:blipFill>
          <a:blip r:embed="rId2"/>
          <a:stretch/>
        </p:blipFill>
        <p:spPr>
          <a:xfrm>
            <a:off x="5651640" y="3429000"/>
            <a:ext cx="3124080" cy="31910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4"/>
          <p:cNvGrpSpPr/>
          <p:nvPr/>
        </p:nvGrpSpPr>
        <p:grpSpPr>
          <a:xfrm>
            <a:off x="1403280" y="3860640"/>
            <a:ext cx="2552760" cy="2571840"/>
            <a:chOff x="1403280" y="3860640"/>
            <a:chExt cx="2552760" cy="2571840"/>
          </a:xfrm>
        </p:grpSpPr>
        <p:pic>
          <p:nvPicPr>
            <p:cNvPr id="153" name="Picture 15" descr="马"/>
            <p:cNvPicPr/>
            <p:nvPr/>
          </p:nvPicPr>
          <p:blipFill>
            <a:blip r:embed="rId3"/>
            <a:stretch/>
          </p:blipFill>
          <p:spPr>
            <a:xfrm>
              <a:off x="1403280" y="386064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6" descr=""/>
            <p:cNvPicPr/>
            <p:nvPr/>
          </p:nvPicPr>
          <p:blipFill>
            <a:blip r:embed="rId4"/>
            <a:stretch/>
          </p:blipFill>
          <p:spPr>
            <a:xfrm>
              <a:off x="2124000" y="508464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22"/>
          <p:cNvGrpSpPr/>
          <p:nvPr/>
        </p:nvGrpSpPr>
        <p:grpSpPr>
          <a:xfrm>
            <a:off x="1042920" y="1123920"/>
            <a:ext cx="3097080" cy="2520720"/>
            <a:chOff x="1042920" y="1123920"/>
            <a:chExt cx="3097080" cy="2520720"/>
          </a:xfrm>
        </p:grpSpPr>
        <p:sp>
          <p:nvSpPr>
            <p:cNvPr id="156" name="Oval 23"/>
            <p:cNvSpPr/>
            <p:nvPr/>
          </p:nvSpPr>
          <p:spPr>
            <a:xfrm>
              <a:off x="1114200" y="1123920"/>
              <a:ext cx="2881440" cy="172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2914560" y="3068640"/>
              <a:ext cx="360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3203640" y="3500280"/>
              <a:ext cx="28728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042920" y="1339560"/>
              <a:ext cx="309708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66cc"/>
                  </a:solidFill>
                  <a:latin typeface="Times New Roman"/>
                </a:rPr>
                <a:t>牛爷爷，我要到河对</a:t>
              </a:r>
              <a:br>
                <a:rPr sz="2000"/>
              </a:br>
              <a:r>
                <a:rPr b="1" lang="zh-CN" sz="2000" spc="-1" strike="noStrike">
                  <a:solidFill>
                    <a:srgbClr val="ff66cc"/>
                  </a:solidFill>
                  <a:latin typeface="Times New Roman"/>
                </a:rPr>
                <a:t>面去，可这条河那么宽，它是深还是浅，我能</a:t>
              </a:r>
              <a:br>
                <a:rPr sz="2000"/>
              </a:br>
              <a:r>
                <a:rPr b="1" lang="zh-CN" sz="2000" spc="-1" strike="noStrike">
                  <a:solidFill>
                    <a:srgbClr val="ff66cc"/>
                  </a:solidFill>
                  <a:latin typeface="Times New Roman"/>
                </a:rPr>
                <a:t>过去吗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5580000" y="1413000"/>
            <a:ext cx="3097080" cy="2376000"/>
            <a:chOff x="5580000" y="1413000"/>
            <a:chExt cx="3097080" cy="2376000"/>
          </a:xfrm>
        </p:grpSpPr>
        <p:sp>
          <p:nvSpPr>
            <p:cNvPr id="161" name="Oval 33"/>
            <p:cNvSpPr/>
            <p:nvPr/>
          </p:nvSpPr>
          <p:spPr>
            <a:xfrm>
              <a:off x="6443640" y="3716280"/>
              <a:ext cx="215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651280" y="1413000"/>
              <a:ext cx="2952720" cy="165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6443640" y="3284280"/>
              <a:ext cx="360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5580000" y="1699920"/>
              <a:ext cx="30970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这条河虽然很宽，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它的水很浅，最深的地方才到我的小腿，你可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放心的过河去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森林小屋"/>
          <p:cNvPicPr/>
          <p:nvPr/>
        </p:nvPicPr>
        <p:blipFill>
          <a:blip r:embed="rId1"/>
          <a:srcRect l="47876" t="0" r="0" b="-334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3"/>
          <p:cNvGrpSpPr/>
          <p:nvPr/>
        </p:nvGrpSpPr>
        <p:grpSpPr>
          <a:xfrm>
            <a:off x="2987640" y="2421000"/>
            <a:ext cx="2552760" cy="2571840"/>
            <a:chOff x="2987640" y="2421000"/>
            <a:chExt cx="2552760" cy="2571840"/>
          </a:xfrm>
        </p:grpSpPr>
        <p:pic>
          <p:nvPicPr>
            <p:cNvPr id="167" name="Picture 14" descr="马"/>
            <p:cNvPicPr/>
            <p:nvPr/>
          </p:nvPicPr>
          <p:blipFill>
            <a:blip r:embed="rId2"/>
            <a:stretch/>
          </p:blipFill>
          <p:spPr>
            <a:xfrm>
              <a:off x="2987640" y="242100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5" descr=""/>
            <p:cNvPicPr/>
            <p:nvPr/>
          </p:nvPicPr>
          <p:blipFill>
            <a:blip r:embed="rId3"/>
            <a:stretch/>
          </p:blipFill>
          <p:spPr>
            <a:xfrm>
              <a:off x="3708360" y="364500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Picture 16" descr="1_4"/>
          <p:cNvPicPr/>
          <p:nvPr/>
        </p:nvPicPr>
        <p:blipFill>
          <a:blip r:embed="rId4"/>
          <a:stretch/>
        </p:blipFill>
        <p:spPr>
          <a:xfrm>
            <a:off x="6659640" y="4076640"/>
            <a:ext cx="2057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3"/>
          <p:cNvGrpSpPr/>
          <p:nvPr/>
        </p:nvGrpSpPr>
        <p:grpSpPr>
          <a:xfrm>
            <a:off x="971640" y="620640"/>
            <a:ext cx="2952720" cy="2448000"/>
            <a:chOff x="971640" y="620640"/>
            <a:chExt cx="2952720" cy="2448000"/>
          </a:xfrm>
        </p:grpSpPr>
        <p:sp>
          <p:nvSpPr>
            <p:cNvPr id="171" name="Oval 64"/>
            <p:cNvSpPr/>
            <p:nvPr/>
          </p:nvSpPr>
          <p:spPr>
            <a:xfrm>
              <a:off x="971640" y="693720"/>
              <a:ext cx="2952720" cy="156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65"/>
            <p:cNvSpPr/>
            <p:nvPr/>
          </p:nvSpPr>
          <p:spPr>
            <a:xfrm>
              <a:off x="1044360" y="620640"/>
              <a:ext cx="273492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松鼠你别难过，谢谢你告诉了我，让我好好想想。再见！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2555640" y="2637000"/>
              <a:ext cx="36000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3060720" y="2997360"/>
              <a:ext cx="215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83"/>
          <p:cNvGrpSpPr/>
          <p:nvPr/>
        </p:nvGrpSpPr>
        <p:grpSpPr>
          <a:xfrm>
            <a:off x="5580000" y="1125360"/>
            <a:ext cx="3311640" cy="2760840"/>
            <a:chOff x="5580000" y="1125360"/>
            <a:chExt cx="3311640" cy="2760840"/>
          </a:xfrm>
        </p:grpSpPr>
        <p:sp>
          <p:nvSpPr>
            <p:cNvPr id="176" name="Oval 84"/>
            <p:cNvSpPr/>
            <p:nvPr/>
          </p:nvSpPr>
          <p:spPr>
            <a:xfrm>
              <a:off x="5580000" y="1125360"/>
              <a:ext cx="3311640" cy="20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85"/>
            <p:cNvSpPr/>
            <p:nvPr/>
          </p:nvSpPr>
          <p:spPr>
            <a:xfrm>
              <a:off x="7451640" y="3357360"/>
              <a:ext cx="42084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86"/>
            <p:cNvSpPr/>
            <p:nvPr/>
          </p:nvSpPr>
          <p:spPr>
            <a:xfrm>
              <a:off x="7740720" y="3717720"/>
              <a:ext cx="33804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87"/>
            <p:cNvSpPr/>
            <p:nvPr/>
          </p:nvSpPr>
          <p:spPr>
            <a:xfrm>
              <a:off x="5651280" y="1628640"/>
              <a:ext cx="31687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你看，这条河，又宽又大，水可深呢，前天， </a:t>
              </a: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我们的一个小伙伴、一不小心掉到河里被水淹死了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684360" y="2565360"/>
            <a:ext cx="7774920" cy="3327480"/>
            <a:chOff x="684360" y="2565360"/>
            <a:chExt cx="7774920" cy="3327480"/>
          </a:xfrm>
        </p:grpSpPr>
        <p:pic>
          <p:nvPicPr>
            <p:cNvPr id="181" name="Picture 3" descr="fam09"/>
            <p:cNvPicPr/>
            <p:nvPr/>
          </p:nvPicPr>
          <p:blipFill>
            <a:blip r:embed="rId1"/>
            <a:stretch/>
          </p:blipFill>
          <p:spPr>
            <a:xfrm>
              <a:off x="3995640" y="3019320"/>
              <a:ext cx="446364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" descr="sce04"/>
            <p:cNvPicPr/>
            <p:nvPr/>
          </p:nvPicPr>
          <p:blipFill>
            <a:blip r:embed="rId2"/>
            <a:stretch/>
          </p:blipFill>
          <p:spPr>
            <a:xfrm>
              <a:off x="684360" y="2565360"/>
              <a:ext cx="3671640" cy="29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16"/>
          <p:cNvGrpSpPr/>
          <p:nvPr/>
        </p:nvGrpSpPr>
        <p:grpSpPr>
          <a:xfrm>
            <a:off x="1403280" y="3860640"/>
            <a:ext cx="2552760" cy="2571840"/>
            <a:chOff x="1403280" y="3860640"/>
            <a:chExt cx="2552760" cy="2571840"/>
          </a:xfrm>
        </p:grpSpPr>
        <p:pic>
          <p:nvPicPr>
            <p:cNvPr id="184" name="Picture 17" descr="马"/>
            <p:cNvPicPr/>
            <p:nvPr/>
          </p:nvPicPr>
          <p:blipFill>
            <a:blip r:embed="rId3"/>
            <a:stretch/>
          </p:blipFill>
          <p:spPr>
            <a:xfrm>
              <a:off x="1403280" y="386064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"/>
            <p:cNvPicPr/>
            <p:nvPr/>
          </p:nvPicPr>
          <p:blipFill>
            <a:blip r:embed="rId4"/>
            <a:stretch/>
          </p:blipFill>
          <p:spPr>
            <a:xfrm>
              <a:off x="2124000" y="508464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1_2"/>
          <p:cNvPicPr/>
          <p:nvPr/>
        </p:nvPicPr>
        <p:blipFill>
          <a:blip r:embed="rId5"/>
          <a:stretch/>
        </p:blipFill>
        <p:spPr>
          <a:xfrm>
            <a:off x="5651640" y="3429000"/>
            <a:ext cx="2909880" cy="32432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66"/>
          <p:cNvGrpSpPr/>
          <p:nvPr/>
        </p:nvGrpSpPr>
        <p:grpSpPr>
          <a:xfrm>
            <a:off x="611280" y="549360"/>
            <a:ext cx="4032000" cy="2808360"/>
            <a:chOff x="611280" y="549360"/>
            <a:chExt cx="4032000" cy="2808360"/>
          </a:xfrm>
        </p:grpSpPr>
        <p:sp>
          <p:nvSpPr>
            <p:cNvPr id="188" name="Oval 67"/>
            <p:cNvSpPr/>
            <p:nvPr/>
          </p:nvSpPr>
          <p:spPr>
            <a:xfrm>
              <a:off x="2843280" y="3213360"/>
              <a:ext cx="288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68"/>
            <p:cNvGrpSpPr/>
            <p:nvPr/>
          </p:nvGrpSpPr>
          <p:grpSpPr>
            <a:xfrm>
              <a:off x="611280" y="549360"/>
              <a:ext cx="4032000" cy="2448000"/>
              <a:chOff x="611280" y="549360"/>
              <a:chExt cx="4032000" cy="2448000"/>
            </a:xfrm>
          </p:grpSpPr>
          <p:sp>
            <p:nvSpPr>
              <p:cNvPr id="190" name="Oval 69"/>
              <p:cNvSpPr/>
              <p:nvPr/>
            </p:nvSpPr>
            <p:spPr>
              <a:xfrm>
                <a:off x="2698560" y="2781360"/>
                <a:ext cx="50292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70"/>
              <p:cNvSpPr/>
              <p:nvPr/>
            </p:nvSpPr>
            <p:spPr>
              <a:xfrm>
                <a:off x="611280" y="549360"/>
                <a:ext cx="4032000" cy="201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71"/>
              <p:cNvSpPr/>
              <p:nvPr/>
            </p:nvSpPr>
            <p:spPr>
              <a:xfrm>
                <a:off x="753840" y="909720"/>
                <a:ext cx="3887280" cy="13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2000" spc="-1" strike="noStrike">
                    <a:solidFill>
                      <a:srgbClr val="ff66cc"/>
                    </a:solidFill>
                    <a:latin typeface="楷体_GB2312"/>
                  </a:rPr>
                  <a:t>我遇到一条大河，我不知是</a:t>
                </a:r>
                <a:br>
                  <a:rPr sz="2000"/>
                </a:br>
                <a:r>
                  <a:rPr b="1" lang="zh-CN" sz="2000" spc="-1" strike="noStrike">
                    <a:solidFill>
                      <a:srgbClr val="ff66cc"/>
                    </a:solidFill>
                    <a:latin typeface="楷体_GB2312"/>
                  </a:rPr>
                  <a:t>深还是浅，问牛爷爷，他说水很浅，可小松鼠又跑耒说水很深，千万不能过。我不知该怎么办</a:t>
                </a:r>
                <a:br>
                  <a:rPr sz="2000"/>
                </a:br>
                <a:r>
                  <a:rPr b="1" lang="zh-CN" sz="2000" spc="-1" strike="noStrike">
                    <a:solidFill>
                      <a:srgbClr val="ff66cc"/>
                    </a:solidFill>
                    <a:latin typeface="楷体_GB2312"/>
                  </a:rPr>
                  <a:t>     好，只好回来问您了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Group 77"/>
          <p:cNvGrpSpPr/>
          <p:nvPr/>
        </p:nvGrpSpPr>
        <p:grpSpPr>
          <a:xfrm>
            <a:off x="5076720" y="907920"/>
            <a:ext cx="3313080" cy="2521080"/>
            <a:chOff x="5076720" y="907920"/>
            <a:chExt cx="3313080" cy="2521080"/>
          </a:xfrm>
        </p:grpSpPr>
        <p:sp>
          <p:nvSpPr>
            <p:cNvPr id="194" name="Oval 78"/>
            <p:cNvSpPr/>
            <p:nvPr/>
          </p:nvSpPr>
          <p:spPr>
            <a:xfrm>
              <a:off x="5292360" y="907920"/>
              <a:ext cx="3097080" cy="165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79"/>
            <p:cNvSpPr/>
            <p:nvPr/>
          </p:nvSpPr>
          <p:spPr>
            <a:xfrm>
              <a:off x="5076720" y="1196640"/>
              <a:ext cx="331308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孩子，遇事要动脑子多想想。自己亲自去做一做，你就会真正知道是深还是浅了</a:t>
              </a:r>
              <a:r>
                <a:rPr b="1" lang="en-US" sz="2000" spc="-1" strike="noStrike">
                  <a:solidFill>
                    <a:srgbClr val="ff9900"/>
                  </a:solidFill>
                  <a:latin typeface="Times New Roman"/>
                </a:rPr>
                <a:t>……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80"/>
            <p:cNvSpPr/>
            <p:nvPr/>
          </p:nvSpPr>
          <p:spPr>
            <a:xfrm>
              <a:off x="6516360" y="2852640"/>
              <a:ext cx="50436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81"/>
            <p:cNvSpPr/>
            <p:nvPr/>
          </p:nvSpPr>
          <p:spPr>
            <a:xfrm>
              <a:off x="6445080" y="3284280"/>
              <a:ext cx="36000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0"/>
            <a:ext cx="9144000" cy="7174080"/>
            <a:chOff x="0" y="0"/>
            <a:chExt cx="9144000" cy="7174080"/>
          </a:xfrm>
        </p:grpSpPr>
        <p:pic>
          <p:nvPicPr>
            <p:cNvPr id="199" name="Picture 3" descr="森林小屋"/>
            <p:cNvPicPr/>
            <p:nvPr/>
          </p:nvPicPr>
          <p:blipFill>
            <a:blip r:embed="rId1"/>
            <a:srcRect l="47876" t="0" r="0" b="-3343"/>
            <a:stretch/>
          </p:blipFill>
          <p:spPr>
            <a:xfrm>
              <a:off x="0" y="0"/>
              <a:ext cx="9144000" cy="71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Oval 4"/>
            <p:cNvSpPr/>
            <p:nvPr/>
          </p:nvSpPr>
          <p:spPr>
            <a:xfrm>
              <a:off x="5580000" y="836640"/>
              <a:ext cx="3240000" cy="172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5867280" y="981000"/>
              <a:ext cx="2808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小松鼠，我想试一试，你那么小，我这么高，也许我可以过去呀，谢谢你的关心，再见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6"/>
            <p:cNvSpPr/>
            <p:nvPr/>
          </p:nvSpPr>
          <p:spPr>
            <a:xfrm>
              <a:off x="6948360" y="2781360"/>
              <a:ext cx="50328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6804000" y="3284640"/>
              <a:ext cx="2160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森林小屋"/>
          <p:cNvPicPr/>
          <p:nvPr/>
        </p:nvPicPr>
        <p:blipFill>
          <a:blip r:embed="rId2"/>
          <a:srcRect l="47876" t="0" r="0" b="-3343"/>
          <a:stretch/>
        </p:blipFill>
        <p:spPr>
          <a:xfrm>
            <a:off x="1468440" y="3295800"/>
            <a:ext cx="2249640" cy="1485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森林小屋"/>
          <p:cNvPicPr/>
          <p:nvPr/>
        </p:nvPicPr>
        <p:blipFill>
          <a:blip r:embed="rId3"/>
          <a:srcRect l="47876" t="0" r="0" b="-334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1"/>
          <p:cNvGrpSpPr/>
          <p:nvPr/>
        </p:nvGrpSpPr>
        <p:grpSpPr>
          <a:xfrm>
            <a:off x="4356000" y="2421000"/>
            <a:ext cx="2552760" cy="2571840"/>
            <a:chOff x="4356000" y="2421000"/>
            <a:chExt cx="2552760" cy="2571840"/>
          </a:xfrm>
        </p:grpSpPr>
        <p:pic>
          <p:nvPicPr>
            <p:cNvPr id="208" name="Picture 22" descr="马"/>
            <p:cNvPicPr/>
            <p:nvPr/>
          </p:nvPicPr>
          <p:blipFill>
            <a:blip r:embed="rId4"/>
            <a:stretch/>
          </p:blipFill>
          <p:spPr>
            <a:xfrm>
              <a:off x="4356000" y="242100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3" descr=""/>
            <p:cNvPicPr/>
            <p:nvPr/>
          </p:nvPicPr>
          <p:blipFill>
            <a:blip r:embed="rId5"/>
            <a:stretch/>
          </p:blipFill>
          <p:spPr>
            <a:xfrm>
              <a:off x="5076720" y="364500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Picture 24" descr="1_4"/>
          <p:cNvPicPr/>
          <p:nvPr/>
        </p:nvPicPr>
        <p:blipFill>
          <a:blip r:embed="rId6"/>
          <a:stretch/>
        </p:blipFill>
        <p:spPr>
          <a:xfrm>
            <a:off x="971640" y="4149720"/>
            <a:ext cx="2057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30"/>
          <p:cNvGrpSpPr/>
          <p:nvPr/>
        </p:nvGrpSpPr>
        <p:grpSpPr>
          <a:xfrm>
            <a:off x="1187280" y="2349360"/>
            <a:ext cx="2016360" cy="1800000"/>
            <a:chOff x="1187280" y="2349360"/>
            <a:chExt cx="2016360" cy="1800000"/>
          </a:xfrm>
        </p:grpSpPr>
        <p:sp>
          <p:nvSpPr>
            <p:cNvPr id="212" name="Oval 31"/>
            <p:cNvSpPr/>
            <p:nvPr/>
          </p:nvSpPr>
          <p:spPr>
            <a:xfrm>
              <a:off x="1187280" y="2349360"/>
              <a:ext cx="1872000" cy="115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32"/>
            <p:cNvSpPr/>
            <p:nvPr/>
          </p:nvSpPr>
          <p:spPr>
            <a:xfrm>
              <a:off x="2266920" y="3717720"/>
              <a:ext cx="36036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33"/>
            <p:cNvSpPr/>
            <p:nvPr/>
          </p:nvSpPr>
          <p:spPr>
            <a:xfrm flipV="1">
              <a:off x="2411280" y="4078080"/>
              <a:ext cx="21600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58920" y="2420640"/>
              <a:ext cx="19447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小马小马，你不要命啦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40"/>
          <p:cNvGrpSpPr/>
          <p:nvPr/>
        </p:nvGrpSpPr>
        <p:grpSpPr>
          <a:xfrm>
            <a:off x="5904000" y="404640"/>
            <a:ext cx="3240000" cy="2521080"/>
            <a:chOff x="5904000" y="404640"/>
            <a:chExt cx="3240000" cy="2521080"/>
          </a:xfrm>
        </p:grpSpPr>
        <p:sp>
          <p:nvSpPr>
            <p:cNvPr id="217" name="Oval 41"/>
            <p:cNvSpPr/>
            <p:nvPr/>
          </p:nvSpPr>
          <p:spPr>
            <a:xfrm>
              <a:off x="5904000" y="404640"/>
              <a:ext cx="3240000" cy="172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42"/>
            <p:cNvSpPr/>
            <p:nvPr/>
          </p:nvSpPr>
          <p:spPr>
            <a:xfrm>
              <a:off x="7128000" y="2852640"/>
              <a:ext cx="21600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43"/>
            <p:cNvSpPr/>
            <p:nvPr/>
          </p:nvSpPr>
          <p:spPr>
            <a:xfrm>
              <a:off x="7272360" y="2349360"/>
              <a:ext cx="50328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4"/>
            <p:cNvSpPr/>
            <p:nvPr/>
          </p:nvSpPr>
          <p:spPr>
            <a:xfrm>
              <a:off x="6191280" y="549000"/>
              <a:ext cx="2808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cc"/>
                  </a:solidFill>
                  <a:latin typeface="楷体_GB2312"/>
                </a:rPr>
                <a:t>小松鼠，我想试一试，你那么小，我这么高，也许我可以过去呀，谢谢你的关心，再见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4724280" y="3524400"/>
            <a:ext cx="441972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486520" y="501336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9" descr="AG00399_"/>
          <p:cNvPicPr/>
          <p:nvPr/>
        </p:nvPicPr>
        <p:blipFill>
          <a:blip r:embed="rId1"/>
          <a:stretch/>
        </p:blipFill>
        <p:spPr>
          <a:xfrm>
            <a:off x="914400" y="4821120"/>
            <a:ext cx="1600200" cy="1258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AG00226_"/>
          <p:cNvPicPr/>
          <p:nvPr/>
        </p:nvPicPr>
        <p:blipFill>
          <a:blip r:embed="rId2"/>
          <a:stretch/>
        </p:blipFill>
        <p:spPr>
          <a:xfrm>
            <a:off x="4932360" y="4084560"/>
            <a:ext cx="4076640" cy="277344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2"/>
          <p:cNvSpPr txBox="1"/>
          <p:nvPr/>
        </p:nvSpPr>
        <p:spPr>
          <a:xfrm>
            <a:off x="1116000" y="333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超市</a:t>
            </a:r>
            <a:endParaRPr b="0" lang="en-US" sz="2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68360" y="1700280"/>
            <a:ext cx="80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“小马过河”为题，另编一个童话故事，讲给小伙伴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假如有一只小兔和一头大象也要过河，会怎么样？请以“小兔过河”或“大象过河”自编故事，讲给爸爸妈妈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4" descr="BD13721_"/>
          <p:cNvPicPr/>
          <p:nvPr/>
        </p:nvPicPr>
        <p:blipFill>
          <a:blip r:embed="rId5"/>
          <a:stretch/>
        </p:blipFill>
        <p:spPr>
          <a:xfrm>
            <a:off x="6324480" y="0"/>
            <a:ext cx="28195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9028-C12E-47D6-B3E4-9E31C1257FB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2005052515385586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55640" y="1484280"/>
            <a:ext cx="8388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带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领 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挡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住 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 拦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住       淹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死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伙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伴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仔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细 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 亲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自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甩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 尾   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哗 哗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难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深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浅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匹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马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淹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 没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叹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气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顺 利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深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9640" y="2133720"/>
            <a:ext cx="89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uǒ bàn      zǐ            qīn      shuǎi wěi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11280" y="3500280"/>
            <a:ext cx="89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huā         wéi  nán     shēn qiǎn    yì  pǐ  m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84360" y="4653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yān mò     tàn             shùn  lì       shēn  d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57080" y="90792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325240" y="98100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dǎ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644720" y="90792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lá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6372360" y="836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yān 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1368360" y="6105600"/>
            <a:ext cx="58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005052515385586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907920" y="1249200"/>
            <a:ext cx="7488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磨坊      嗒嗒      驮起          既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准备      试试      亲切        趟过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松鼠      口袋      立刻     自言自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麦子      愿意     马棚      连蹦带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7"/>
          <p:cNvSpPr txBox="1"/>
          <p:nvPr/>
        </p:nvSpPr>
        <p:spPr>
          <a:xfrm>
            <a:off x="539640" y="404640"/>
            <a:ext cx="518472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小组合作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826920" y="1989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想  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：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小马过了河，在回家的路上，又遇到了松鼠、老牛，小马和它们会说些什么呢？回到家里，见到妈妈，它又会说些什么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9" descr="BD13721_"/>
          <p:cNvPicPr/>
          <p:nvPr/>
        </p:nvPicPr>
        <p:blipFill>
          <a:blip r:embed="rId2"/>
          <a:stretch/>
        </p:blipFill>
        <p:spPr>
          <a:xfrm>
            <a:off x="6516720" y="4437000"/>
            <a:ext cx="24192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1"/>
          <p:cNvGrpSpPr/>
          <p:nvPr/>
        </p:nvGrpSpPr>
        <p:grpSpPr>
          <a:xfrm>
            <a:off x="0" y="5084640"/>
            <a:ext cx="8839080" cy="990720"/>
            <a:chOff x="0" y="5084640"/>
            <a:chExt cx="8839080" cy="990720"/>
          </a:xfrm>
        </p:grpSpPr>
        <p:sp>
          <p:nvSpPr>
            <p:cNvPr id="74" name="Rectangle 9"/>
            <p:cNvSpPr/>
            <p:nvPr/>
          </p:nvSpPr>
          <p:spPr>
            <a:xfrm>
              <a:off x="1905120" y="5084640"/>
              <a:ext cx="693396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0" y="5618160"/>
              <a:ext cx="8534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2"/>
          <p:cNvSpPr/>
          <p:nvPr/>
        </p:nvSpPr>
        <p:spPr>
          <a:xfrm>
            <a:off x="63360" y="1114560"/>
            <a:ext cx="908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马甩甩尾巴，跑回家去。妈妈问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么回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啦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马难为情地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条河挡住了去路，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不去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条河不是很浅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呀！牛伯伯也这么说。可是松鼠说河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很深，还淹死过他的伙伴呢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是深还是浅呢？你仔细想过他们的话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低下了头，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想过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亲切地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马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孩子，光听别人说，自己不动脑筋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试试，是不行的，你去试一试，就会明白了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2484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重点句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﹏ ﹏ ﹏ ﹏ ﹏ ﹏ ﹏ ﹏ ﹏ ﹏ ﹏ ﹏ ﹏ ﹏ ﹏ ﹏ ﹏ ﹏ ﹏ ﹏ ﹏ ﹏ ﹏ 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93760" y="1197000"/>
            <a:ext cx="8850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ɡuāng  tīng  bié  rén  shu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，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zì   jǐ  bú dò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光     听    别    人   说 ， 自 己 不  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nǎo jī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，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ú  qù   shì  shì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hì  bù   xíng  d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脑  筋，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宋体"/>
              </a:rPr>
              <a:t>不 去 试 试 ， 是 不  行  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TR00499_"/>
          <p:cNvPicPr/>
          <p:nvPr/>
        </p:nvPicPr>
        <p:blipFill>
          <a:blip r:embed="rId1"/>
          <a:stretch/>
        </p:blipFill>
        <p:spPr>
          <a:xfrm>
            <a:off x="533520" y="4495680"/>
            <a:ext cx="8229600" cy="233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搬木块"/>
          <p:cNvPicPr/>
          <p:nvPr/>
        </p:nvPicPr>
        <p:blipFill>
          <a:blip r:embed="rId2"/>
          <a:stretch/>
        </p:blipFill>
        <p:spPr>
          <a:xfrm>
            <a:off x="1908000" y="3686040"/>
            <a:ext cx="4608720" cy="3171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 rot="713400">
            <a:off x="3321720" y="4149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请你试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611280" y="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看拼音，写句子。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Picture 12" descr="可爱猫"/>
          <p:cNvPicPr/>
          <p:nvPr/>
        </p:nvPicPr>
        <p:blipFill>
          <a:blip r:embed="rId3"/>
          <a:stretch/>
        </p:blipFill>
        <p:spPr>
          <a:xfrm>
            <a:off x="6372360" y="4437000"/>
            <a:ext cx="1763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AG00628_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2846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0" y="198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马听了老牛的话，立刻跑到河边，准备蹚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马连忙收住脚步，不知道怎么办才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87280" y="2421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△ 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△ 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28960" y="533160"/>
            <a:ext cx="3352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理解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大树叶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112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826920" y="1413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马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为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，心想：我能不能过去呢？如果妈妈在身边，问问她该怎么办，那多好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2160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朗读指导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5640" y="328464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马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吃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问：“水很深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认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说：“当然啦，昨天我的一个伙伴就是掉在这条河里淹死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916360" y="2565360"/>
            <a:ext cx="59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老牛说：“水很浅，刚没小腿，能蹚过去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松鼠拦住小马，大叫：“小马！别过河，别过河，河水会淹死你的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小马）叹了口气说：“唉！还是回家问问妈妈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08360" y="761760"/>
            <a:ext cx="520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体会角色的心理及年龄特点读出不同句子的语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14:03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25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