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DE50-40A5-4348-B8A6-2580A9D7C2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226A-1233-457E-A298-430A1ED155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9E9-BF0D-4C6F-AE48-BD631BAD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3F2-D7F3-43DB-8D09-52EF479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DBB-A69F-4906-8985-C893413D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6BD-6016-4A6E-8218-99D41B3F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9BC-B60B-4070-A4DD-AFD7ED53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2B3-2E4B-4598-AB13-EBED98C8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341-C7D4-4696-A4B8-DC89C77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6AE-2BC2-46C5-800A-BA4094DF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6E4-6058-4011-9516-CFF34DD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50F-A11D-4305-B739-1E277B2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424-8CB4-47D4-88A2-9E9B0472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3FE-DCCE-4AB4-AD75-7F042ED4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0DF9-1B24-4D26-B45D-4942A3FD1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600200" y="2743200"/>
            <a:ext cx="56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00"/>
                </a:solidFill>
                <a:latin typeface="迷你简少儿"/>
                <a:ea typeface="迷你简少儿"/>
              </a:rPr>
              <a:t>小牛站起来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830160" y="12952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78884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 rot="5400000">
            <a:off x="-82440" y="197496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课文理解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095800" cy="2819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3509280" y="40377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一说小牛在干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295280" y="4966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正在蜷缩着身体，卧在草地上，好象在想着什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914400" y="213372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牛想站起来，因为它的腿很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摇摇晃晃的站起来，还没站稳就倒下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就是小牛第一次想站起来时的情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143000" y="3275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牛第一次想站起来是这样的，第二次，第三次呢？还是刚站起来又摔倒了。小牛们，这么多次想站起来都是还没站稳就摔倒了，你现在是怎样想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52480" y="2590560"/>
            <a:ext cx="594360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唉，站起来真难呀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牛们，你们怕摔跤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乌龟听了只好笑了笑，慢慢走开了。乌龟走后，小牛又练习到很晚。第二天小牛又早早的起来开始练习。这时，乌龟又来到那片草地上，它看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惊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441936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7"/>
          <p:cNvSpPr txBox="1"/>
          <p:nvPr/>
        </p:nvSpPr>
        <p:spPr>
          <a:xfrm>
            <a:off x="3657600" y="15238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比较句子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1828800" y="259020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站起来不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站起来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容易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牛练习走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牛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正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习走路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1054080" y="263520"/>
            <a:ext cx="55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371600" y="19051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要祝贺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牛，不怕一次次摔倒，不被乌龟的劝说所动摇，终于顽强的站起来，真是太了不起了。我没快把这个好消息告诉牛妈妈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题升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8"/>
          <p:cNvSpPr txBox="1"/>
          <p:nvPr/>
        </p:nvSpPr>
        <p:spPr>
          <a:xfrm>
            <a:off x="2286000" y="1523880"/>
            <a:ext cx="4952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A249-92C2-4809-B251-BFBD69B3F6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5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课文。背诵小牛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课文内容，体会“小牛不怕摔跤，终于站起来会走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066680" y="190512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776920" y="167652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76320" y="18730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坏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776920" y="167652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来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486400" y="350532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90720" y="17524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还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776920" y="18892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样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>
            <a:off x="4038480" y="304920"/>
            <a:ext cx="13716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学写字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838080" y="3123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天牛妈妈生了一头小牛，咱们也去看看好吗？牛妈妈看着自己的宝宝高兴极了，此时此刻牛妈妈最想让自己的孩子怎么样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743200" y="5029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希望小牛快点站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2"/>
          <p:cNvSpPr txBox="1"/>
          <p:nvPr/>
        </p:nvSpPr>
        <p:spPr>
          <a:xfrm rot="5400000">
            <a:off x="4781520" y="32958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724640" cy="627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572000" y="46080"/>
            <a:ext cx="4572000" cy="681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58:28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22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