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97FC-9849-43FA-8602-05406AB590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D850-38F8-4D9D-87EF-1A284BB46E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A82D-C119-4B00-AD42-102E3545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050-C1EC-4E19-A4F4-AE2E4B19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AA0-ED4C-4109-8168-595119FF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F0B-A340-4CFE-82D6-D003C8C7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9DA-A0F8-4FBD-A6DC-D0C77841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C43-5671-4FC2-84EA-75DC76FA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F3E-3E01-4430-8D0E-DC169C16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5F3-C601-437D-A3FD-3CAE2C7A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CF7-C76F-4A42-B09A-B20F6BDA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473-971A-4FB4-A0E4-DB0E64AD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179-E021-4A53-9ECC-56F6ED14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77D-0B6F-4ACC-A485-8E4A4386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3DF8-840D-4795-ACF2-D1A04C0C0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630563e281a2de27c1e710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447920" y="106668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0080"/>
                </a:solidFill>
                <a:latin typeface="微软雅黑"/>
                <a:ea typeface="微软雅黑"/>
              </a:rPr>
              <a:t>下雪的声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928520" y="5867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143000" y="2438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5800" y="160020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95280" y="21337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倏忽：很快地，忽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图片6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609480" y="685800"/>
            <a:ext cx="5486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涛 声     飞 逝        旋  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姿 态      银 屑       胸 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 润      序 曲       倏 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屏  气 凝 神         几 近 无 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窃 窃 私 语         窸 窸 窣 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143000" y="914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59092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352680" y="914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u</a:t>
            </a:r>
            <a:r>
              <a:rPr b="0" lang="en-US" sz="2400" spc="-1" strike="noStrike">
                <a:solidFill>
                  <a:srgbClr val="cc0000"/>
                </a:solidFill>
                <a:latin typeface="宋体"/>
              </a:rPr>
              <a:t>á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u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66688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581280" y="3124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ū  h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50532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21932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z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5053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ī     s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21932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z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505320" y="2057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iō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4382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14300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ǐ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1143000" y="5410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q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533520" y="1066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14400" y="838080"/>
            <a:ext cx="746748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翩翩而至         袅袅婷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柔    暖         亲    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纷纷扬扬         欣    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533520" y="1066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914400" y="83808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翩翩而至       亲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袅袅婷婷       欣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纷纷扬扬       柔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914400" y="16754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那是怎样的一种声音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914400" y="16754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那是怎样的一种声音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447920" y="34290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声音真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914400" y="16754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心品读课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个自然段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金波爷爷感受到什么，为什么会有这样的感受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685800" y="914400"/>
            <a:ext cx="716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像春风拂面而过的声音吗？不，春风来了，倏忽又去了；下雪的声音却是黏着你的耳畔，和你亲近着。</a:t>
            </a:r>
            <a:br>
              <a:rPr sz="3200"/>
            </a:b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　　像小鸟展翅飞逝的声音吗？不，鸟儿永远是急匆匆的；雪花旋转着舞姿翩翩而至，袅袅婷婷，你必然会听到那伴舞的音乐了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685800" y="914400"/>
            <a:ext cx="7162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下雪的声音，好像有至亲好友窸窸窣窣地走来，伏在你的耳边窃窃私语，告诉你一个欣喜的消息。</a:t>
            </a:r>
            <a:br>
              <a:rPr sz="3200"/>
            </a:b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　  下雪的声音，好像慈爱母亲的呵护，她用柔暖的胸怀拥着你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雪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838080" y="1202760"/>
            <a:ext cx="75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下雪的声音，好像有至亲好友窸窸窣窣地走来，伏在你的耳边窃窃私语，告诉你一个欣喜的消息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下雪的声音，好像慈爱母亲的呵护，她用柔暖的胸怀拥着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219320" y="4114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下雪的声音，好像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雷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228600" y="30492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像春风拂面而过的声音吗？不，春风来了，倏忽又去了；下雪的声音却是黏着你的耳畔，和你亲近着。</a:t>
            </a:r>
            <a:br>
              <a:rPr sz="3200"/>
            </a:b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　　像小鸟展翅飞逝的声音吗？不，鸟儿永远是急匆匆的；雪花旋转着舞姿翩翩而至，袅袅婷婷，你必然会听到那伴舞的音乐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下雪的声音，好像有至亲好友窸窸窣窣地走来，伏在你的耳边窃窃　私语，告诉你一个欣喜的消息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下雪的声音，好像慈爱母亲的呵护，她用柔暖的胸怀拥着你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533520" y="10666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雪的声音，与其用耳朵倾听，不如用心去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小草发芽2"/>
          <p:cNvPicPr/>
          <p:nvPr/>
        </p:nvPicPr>
        <p:blipFill>
          <a:blip r:embed="rId1"/>
          <a:stretch/>
        </p:blipFill>
        <p:spPr>
          <a:xfrm>
            <a:off x="0" y="299880"/>
            <a:ext cx="9252000" cy="61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花朵"/>
          <p:cNvPicPr/>
          <p:nvPr/>
        </p:nvPicPr>
        <p:blipFill>
          <a:blip r:embed="rId1"/>
          <a:stretch/>
        </p:blipFill>
        <p:spPr>
          <a:xfrm>
            <a:off x="0" y="333360"/>
            <a:ext cx="932508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柳树2"/>
          <p:cNvPicPr/>
          <p:nvPr/>
        </p:nvPicPr>
        <p:blipFill>
          <a:blip r:embed="rId1"/>
          <a:stretch/>
        </p:blipFill>
        <p:spPr>
          <a:xfrm>
            <a:off x="0" y="333360"/>
            <a:ext cx="9252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鱼在水中"/>
          <p:cNvPicPr/>
          <p:nvPr/>
        </p:nvPicPr>
        <p:blipFill>
          <a:blip r:embed="rId1"/>
          <a:stretch/>
        </p:blipFill>
        <p:spPr>
          <a:xfrm>
            <a:off x="-36360" y="333360"/>
            <a:ext cx="932472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5487840"/>
            <a:ext cx="7920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与其用耳朵倾听，不如用心去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鱼在水中"/>
          <p:cNvPicPr/>
          <p:nvPr/>
        </p:nvPicPr>
        <p:blipFill>
          <a:blip r:embed="rId1"/>
          <a:stretch/>
        </p:blipFill>
        <p:spPr>
          <a:xfrm>
            <a:off x="4643280" y="3068640"/>
            <a:ext cx="4176720" cy="2730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花朵"/>
          <p:cNvPicPr/>
          <p:nvPr/>
        </p:nvPicPr>
        <p:blipFill>
          <a:blip r:embed="rId2"/>
          <a:stretch/>
        </p:blipFill>
        <p:spPr>
          <a:xfrm>
            <a:off x="4645080" y="260280"/>
            <a:ext cx="4174920" cy="268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柳树2"/>
          <p:cNvPicPr/>
          <p:nvPr/>
        </p:nvPicPr>
        <p:blipFill>
          <a:blip r:embed="rId3"/>
          <a:stretch/>
        </p:blipFill>
        <p:spPr>
          <a:xfrm>
            <a:off x="250920" y="3067200"/>
            <a:ext cx="4176720" cy="273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小草发芽2"/>
          <p:cNvPicPr/>
          <p:nvPr/>
        </p:nvPicPr>
        <p:blipFill>
          <a:blip r:embed="rId4"/>
          <a:stretch/>
        </p:blipFill>
        <p:spPr>
          <a:xfrm>
            <a:off x="250920" y="260280"/>
            <a:ext cx="41749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雪色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3534840" y="1447920"/>
            <a:ext cx="205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在练习纸上认真写完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找到金波爷爷的其他作品来读一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"/>
          <p:cNvSpPr/>
          <p:nvPr/>
        </p:nvSpPr>
        <p:spPr>
          <a:xfrm>
            <a:off x="762120" y="6253200"/>
            <a:ext cx="57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E169-A27C-442C-A5A0-FF25D20A65E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雨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浪花2"/>
          <p:cNvPicPr/>
          <p:nvPr/>
        </p:nvPicPr>
        <p:blipFill>
          <a:blip r:embed="rId1"/>
          <a:stretch/>
        </p:blipFill>
        <p:spPr>
          <a:xfrm>
            <a:off x="0" y="333360"/>
            <a:ext cx="9252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533520" y="10666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雪的声音，与其用耳朵倾听，不如用心去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6"/>
          <p:cNvSpPr/>
          <p:nvPr/>
        </p:nvSpPr>
        <p:spPr>
          <a:xfrm>
            <a:off x="3124080" y="42670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图片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843120" y="1066680"/>
            <a:ext cx="73152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自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朗读课文，读准字音，读通句子。遇到难读的句子多读几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边读边思考：从下雪的声音里，金波爷爷用心感受到了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图片6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609480" y="685800"/>
            <a:ext cx="5486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涛 声     飞 逝        旋  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姿 态      银 屑       胸 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 润      序 曲       倏 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屏  气 凝 神         几 近 无 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窃 窃 私 语         窸 窸 窣 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143000" y="914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9092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352680" y="914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u</a:t>
            </a:r>
            <a:r>
              <a:rPr b="0" lang="en-US" sz="2400" spc="-1" strike="noStrike">
                <a:solidFill>
                  <a:srgbClr val="cc0000"/>
                </a:solidFill>
                <a:latin typeface="宋体"/>
              </a:rPr>
              <a:t>á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u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66688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81280" y="3124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ū  h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50532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21932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z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5053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ī     s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21932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z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3505320" y="2057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iō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4382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114300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ǐ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1143000" y="5410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q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图片6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7"/>
          <p:cNvSpPr/>
          <p:nvPr/>
        </p:nvSpPr>
        <p:spPr>
          <a:xfrm>
            <a:off x="12952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65760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í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205740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bǐ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2133720" y="28494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屏息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3809880" y="2838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屏风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图片6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609480" y="685800"/>
            <a:ext cx="5486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涛 声     飞 逝        旋  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姿 态      银 屑       胸 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 润      序 曲       倏 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屏  气 凝 神         几 近 无 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窃 窃 私 语         窸 窸 窣 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143000" y="914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59092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352680" y="914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u</a:t>
            </a:r>
            <a:r>
              <a:rPr b="0" lang="en-US" sz="2400" spc="-1" strike="noStrike">
                <a:solidFill>
                  <a:srgbClr val="cc0000"/>
                </a:solidFill>
                <a:latin typeface="宋体"/>
              </a:rPr>
              <a:t>á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u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66688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81280" y="3124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ū  h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50532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21932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z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5053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ī     s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21932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z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3505320" y="2057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iō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24382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114300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ǐ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1143000" y="5410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q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3T13:01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3:03Z</dcterms:modified>
  <cp:revision>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