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coin.wav" ContentType="audio/x-wav"/>
  <Override PartName="/ppt/media/image5.jpeg" ContentType="image/jpeg"/>
  <Override PartName="/ppt/media/chimes.wav" ContentType="audio/x-wav"/>
  <Override PartName="/ppt/media/image8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F625-026D-4E80-B8F9-5A5F399C519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70AD-E64D-4ABD-87DE-994B9283DA9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06C7-6131-4C1D-A8E6-98B4F6C4C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5B1C-8BDA-4640-B792-4F0CB4F4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25C0-D01E-4A2E-A2B7-79BFF6ADC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4001-E4E2-40AD-8311-2A441DDB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D0E2-CBA7-4839-9952-ED85F037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C2FD-7E5B-41D0-96C6-227C4CD9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5474-80F2-494C-B6A1-62AEABAD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6F77-796D-488C-BE55-32ED7245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2D84-F604-4EFF-8D0D-B311CEEB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1E4C-B765-417D-AA64-5EA9DA3D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B9A4-7112-4E21-9667-3A8E10BC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CD8C-4827-49D5-9143-0200355C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4E75-285B-488A-B1E5-1F8CB02CC7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oin.wav"/><Relationship Id="rId12" Type="http://schemas.openxmlformats.org/officeDocument/2006/relationships/audio" Target="../media/coin.wav"/><Relationship Id="rId13" Type="http://schemas.openxmlformats.org/officeDocument/2006/relationships/audio" Target="../media/coin.wav"/><Relationship Id="rId14" Type="http://schemas.openxmlformats.org/officeDocument/2006/relationships/audio" Target="../media/coin.wav"/><Relationship Id="rId15" Type="http://schemas.openxmlformats.org/officeDocument/2006/relationships/audio" Target="../media/coin.wav"/><Relationship Id="rId16" Type="http://schemas.openxmlformats.org/officeDocument/2006/relationships/audio" Target="../media/coin.wav"/><Relationship Id="rId17" Type="http://schemas.openxmlformats.org/officeDocument/2006/relationships/audio" Target="../media/coin.wav"/><Relationship Id="rId18" Type="http://schemas.openxmlformats.org/officeDocument/2006/relationships/audio" Target="../media/coin.wav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rgrthtyh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1447920" y="1066680"/>
            <a:ext cx="60195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小熊过桥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827000" y="60199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914400" y="1371600"/>
            <a:ext cx="624852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生字按照笔画顺序写一遍，并组一个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熟读文章。（借助拼音拼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"/>
          <p:cNvSpPr txBox="1"/>
          <p:nvPr/>
        </p:nvSpPr>
        <p:spPr>
          <a:xfrm>
            <a:off x="2590920" y="2057400"/>
            <a:ext cx="3733560" cy="18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9000"/>
                    </a:srgbClr>
                  </a:outerShdw>
                </a:effectLst>
                <a:latin typeface="宋体"/>
              </a:rPr>
              <a:t>第二课时</a:t>
            </a:r>
            <a:endParaRPr b="0" lang="en-US" sz="1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rgrthtyh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WordArt 3"/>
          <p:cNvSpPr txBox="1"/>
          <p:nvPr/>
        </p:nvSpPr>
        <p:spPr>
          <a:xfrm>
            <a:off x="1447920" y="1066680"/>
            <a:ext cx="60195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小熊过桥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4572000" cy="6059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4724280" y="685800"/>
            <a:ext cx="4419720" cy="6172200"/>
          </a:xfrm>
          <a:prstGeom prst="rect">
            <a:avLst/>
          </a:prstGeom>
          <a:ln w="0">
            <a:noFill/>
          </a:ln>
        </p:spPr>
      </p:pic>
      <p:sp>
        <p:nvSpPr>
          <p:cNvPr id="145" name="WordArt 4"/>
          <p:cNvSpPr txBox="1"/>
          <p:nvPr/>
        </p:nvSpPr>
        <p:spPr>
          <a:xfrm>
            <a:off x="3124080" y="0"/>
            <a:ext cx="1828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课文欣赏</a:t>
            </a:r>
            <a:endParaRPr b="0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98200" y="2044800"/>
            <a:ext cx="7635960" cy="186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心乱跳”说明了小熊是什么样的心情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301640" y="1219320"/>
            <a:ext cx="90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小竹桥，摇摇摇，有只小熊来过桥。</a:t>
            </a: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立不稳，站不牢，走到桥上心乱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4"/>
          <p:cNvSpPr txBox="1"/>
          <p:nvPr/>
        </p:nvSpPr>
        <p:spPr>
          <a:xfrm>
            <a:off x="2133720" y="380880"/>
            <a:ext cx="2819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分析课文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2057400" y="33526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胆小、害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2243880" y="4648320"/>
            <a:ext cx="44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桥这么摇晃，会不会摔到水里去呢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066680" y="396252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到这摇晃的小竹桥，小熊怎么想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990720" y="548784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小朋友们读一读这两句话。（把小熊的这种心情表达出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1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4419720" cy="32846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1066680" y="121932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熊心里非常害怕，这时候谁看见了？它们是怎么做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990720" y="2743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乌鸦、鲤鱼看到了，桥下的流水哗啦啦也像在说话一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990720" y="4572000"/>
            <a:ext cx="2895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乌鸦哇哇叫，桥下流水哗哗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鲤鱼跳出来，鼓励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ì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小熊往前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05120" y="-151200"/>
            <a:ext cx="548640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句子比较、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514600" y="13716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头上乌鸦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头上乌鸦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哇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叫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桥下流水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桥下流水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哗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3710520" y="2818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乌鸦在叫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142880" y="51055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流水为什么笑？这种笑好不好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3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6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6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拓展提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79120" y="3019320"/>
            <a:ext cx="6386760" cy="11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熊在鲤鱼的鼓励下，顺利地过了桥。你认为小熊是个怎样的孩子？</a:t>
            </a:r>
            <a:br>
              <a:rPr sz="3200"/>
            </a:br>
            <a:br>
              <a:rPr sz="3200"/>
            </a:br>
            <a:br>
              <a:rPr sz="800"/>
            </a:br>
            <a:br>
              <a:rPr sz="700"/>
            </a:br>
            <a:br>
              <a:rPr sz="7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600200" y="14479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乌鸦和流水做的好不好？我们能 不能学它们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1676520" y="464832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篇文章里，你们最喜欢的是谁？为什么喜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2286000" y="2590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好。不能学它们，因为它们在嘲笑小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3071880" y="41148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怕困难，勇往直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066680" y="1219320"/>
            <a:ext cx="769644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熟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完成学法大视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1"/>
          <p:cNvSpPr/>
          <p:nvPr/>
        </p:nvSpPr>
        <p:spPr>
          <a:xfrm>
            <a:off x="1836720" y="4624560"/>
            <a:ext cx="52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2209680" y="1905120"/>
            <a:ext cx="48006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9000"/>
                    </a:srgbClr>
                  </a:outerShdw>
                </a:effectLst>
                <a:latin typeface="宋体"/>
              </a:rPr>
              <a:t>谢谢观赏！</a:t>
            </a:r>
            <a:endParaRPr b="0" lang="en-US" sz="1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295280" y="1219320"/>
            <a:ext cx="42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本文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914400" y="2514600"/>
            <a:ext cx="8001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本课生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育学生不能嘲笑别人，要学会鼓励别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育学生遇到困难不慌，勇敢向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培养口语表达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EFF8-E4B7-4D2C-A090-E39D6C3949B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2"/>
          <p:cNvSpPr txBox="1"/>
          <p:nvPr/>
        </p:nvSpPr>
        <p:spPr>
          <a:xfrm>
            <a:off x="2590920" y="2057400"/>
            <a:ext cx="3733560" cy="18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9000"/>
                    </a:srgbClr>
                  </a:outerShdw>
                </a:effectLst>
                <a:latin typeface="宋体"/>
              </a:rPr>
              <a:t>第一课时</a:t>
            </a:r>
            <a:endParaRPr b="0" lang="en-US" sz="1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4572000" cy="6059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4724280" y="685800"/>
            <a:ext cx="4419720" cy="6172200"/>
          </a:xfrm>
          <a:prstGeom prst="rect">
            <a:avLst/>
          </a:prstGeom>
          <a:ln w="0">
            <a:noFill/>
          </a:ln>
        </p:spPr>
      </p:pic>
      <p:sp>
        <p:nvSpPr>
          <p:cNvPr id="56" name="WordArt 4"/>
          <p:cNvSpPr txBox="1"/>
          <p:nvPr/>
        </p:nvSpPr>
        <p:spPr>
          <a:xfrm>
            <a:off x="3124080" y="0"/>
            <a:ext cx="1828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课文欣赏</a:t>
            </a:r>
            <a:endParaRPr b="0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" name="Line 5"/>
          <p:cNvSpPr/>
          <p:nvPr/>
        </p:nvSpPr>
        <p:spPr>
          <a:xfrm>
            <a:off x="762120" y="327672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6"/>
          <p:cNvSpPr/>
          <p:nvPr/>
        </p:nvSpPr>
        <p:spPr>
          <a:xfrm>
            <a:off x="2057400" y="38098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>
            <a:off x="1143000" y="441972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>
            <a:off x="2867040" y="441972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>
            <a:off x="2438280" y="556272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0"/>
          <p:cNvSpPr/>
          <p:nvPr/>
        </p:nvSpPr>
        <p:spPr>
          <a:xfrm>
            <a:off x="7238880" y="29718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1"/>
          <p:cNvSpPr/>
          <p:nvPr/>
        </p:nvSpPr>
        <p:spPr>
          <a:xfrm>
            <a:off x="2438280" y="762120"/>
            <a:ext cx="533520" cy="533160"/>
          </a:xfrm>
          <a:prstGeom prst="ellips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2"/>
          <p:cNvSpPr/>
          <p:nvPr/>
        </p:nvSpPr>
        <p:spPr>
          <a:xfrm>
            <a:off x="685800" y="1600200"/>
            <a:ext cx="533520" cy="533520"/>
          </a:xfrm>
          <a:prstGeom prst="ellips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3"/>
          <p:cNvSpPr/>
          <p:nvPr/>
        </p:nvSpPr>
        <p:spPr>
          <a:xfrm>
            <a:off x="2362320" y="3276720"/>
            <a:ext cx="533160" cy="533160"/>
          </a:xfrm>
          <a:prstGeom prst="ellips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4"/>
          <p:cNvSpPr/>
          <p:nvPr/>
        </p:nvSpPr>
        <p:spPr>
          <a:xfrm>
            <a:off x="2819520" y="3276720"/>
            <a:ext cx="533160" cy="533160"/>
          </a:xfrm>
          <a:prstGeom prst="ellips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5"/>
          <p:cNvSpPr/>
          <p:nvPr/>
        </p:nvSpPr>
        <p:spPr>
          <a:xfrm>
            <a:off x="1066680" y="4419720"/>
            <a:ext cx="533520" cy="533160"/>
          </a:xfrm>
          <a:prstGeom prst="ellips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6"/>
          <p:cNvSpPr/>
          <p:nvPr/>
        </p:nvSpPr>
        <p:spPr>
          <a:xfrm>
            <a:off x="2776680" y="4467240"/>
            <a:ext cx="533160" cy="533520"/>
          </a:xfrm>
          <a:prstGeom prst="ellips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7"/>
          <p:cNvSpPr/>
          <p:nvPr/>
        </p:nvSpPr>
        <p:spPr>
          <a:xfrm>
            <a:off x="3809880" y="6095880"/>
            <a:ext cx="533520" cy="533520"/>
          </a:xfrm>
          <a:prstGeom prst="ellips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8"/>
          <p:cNvSpPr/>
          <p:nvPr/>
        </p:nvSpPr>
        <p:spPr>
          <a:xfrm>
            <a:off x="6705720" y="2362320"/>
            <a:ext cx="533160" cy="533160"/>
          </a:xfrm>
          <a:prstGeom prst="ellips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1523880" y="2489400"/>
            <a:ext cx="678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桥        竹         乱         跳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笑        流        怕         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5238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iá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048120" y="1905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h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4573080" y="19051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l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6249600" y="19051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1602000" y="3505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3124440" y="3505320"/>
            <a:ext cx="5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4573800" y="35053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6165360" y="350532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1066680" y="2514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3505320" y="25909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5181480" y="2514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6858000" y="25146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2057400" y="41911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3429000" y="420516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4114800" y="420516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6629400" y="41911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914400" y="205740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不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700600" y="1752480"/>
            <a:ext cx="306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5477040" y="354960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600200" y="9144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6400800" y="83808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  <a:ea typeface="黑体"/>
              </a:rPr>
              <a:t>ī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12"/>
          <p:cNvSpPr txBox="1"/>
          <p:nvPr/>
        </p:nvSpPr>
        <p:spPr>
          <a:xfrm>
            <a:off x="3581280" y="30492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习生字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838080" y="54864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不怕  不好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5486400" y="54864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心里  心中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1736640"/>
            <a:ext cx="306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乌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624640" y="152388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叫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5486400" y="350532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676520" y="91440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6400800" y="91440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ià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609480" y="53341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乌鸦  乌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5486400" y="54100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大叫  乱叫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684360" y="2071800"/>
            <a:ext cx="3168360" cy="280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861840" y="1905120"/>
            <a:ext cx="306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5757840" y="190512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5477040" y="354960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676520" y="91440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6553080" y="914400"/>
            <a:ext cx="152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533520" y="5334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出去  出口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5257800" y="54100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尾巴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u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巴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1828800" y="228600"/>
            <a:ext cx="2362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9000"/>
                    </a:srgbClr>
                  </a:outerShdw>
                </a:effectLst>
                <a:latin typeface="宋体"/>
              </a:rPr>
              <a:t>动动手</a:t>
            </a:r>
            <a:endParaRPr b="0" lang="en-US" sz="1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305920" cy="48592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5562720" y="20574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不怕  不好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562720" y="27432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心里  心中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5562720" y="4038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乌鸦  乌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172200" y="48006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大叫  乱叫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6172200" y="54100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出去  出口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5562720" y="33526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尾巴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u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巴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457200" y="20718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457200" y="2757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457200" y="34290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457200" y="41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457200" y="48150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457200" y="5424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7:51:26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7T00:03:17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