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214-EF2C-4186-89FA-3D38993BF0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2486-DC71-4843-A4D8-A925B03AF3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CE4-111B-41F3-BC58-ABFDC938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F38-8DAC-4FA5-8704-55659512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068-24CA-48C5-AE48-95E583C2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864-99A0-4223-BF49-2F1B1CF1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8B3-1F18-43A3-9530-3548F88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A54-6269-4C4A-8B5A-9D5BE729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CEE-D9F4-4C65-A3CC-24A7DA1D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2E7-874F-423F-8542-F916B5C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727-721B-4F0C-90E9-63BB02C6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D8E-D6E3-4F8A-8DAC-95A015C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899-47DB-4B9E-9B6A-416622C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3A2-2C16-4A51-8FF5-79D9E85E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0FD2-9324-492F-9E66-B17545A685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443320" y="1371600"/>
            <a:ext cx="41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课 想做好事的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41600" y="58672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095560" y="1676520"/>
            <a:ext cx="4952880" cy="3276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妈妈叫小尤拉不要只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做，要从身边的小事做起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说说你打算怎么做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9"/>
          <p:cNvPicPr/>
          <p:nvPr/>
        </p:nvPicPr>
        <p:blipFill>
          <a:blip r:embed="rId1"/>
          <a:stretch/>
        </p:blipFill>
        <p:spPr>
          <a:xfrm>
            <a:off x="1155600" y="2171880"/>
            <a:ext cx="971640" cy="1981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430280" y="3233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017360" y="762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603520" y="228600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976840" y="262908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kā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389480" y="26290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看护  看门  看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976840" y="384804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kà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389480" y="38480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看见  看报  观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-34920" y="4878360"/>
            <a:ext cx="74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断  枪  死  捞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371600" y="74304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u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220160" y="7621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39355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像  夹  帮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362320" y="358128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ià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421880" y="350532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i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200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i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156000" y="35053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ShockwaveFlash6" descr=""/>
          <p:cNvPicPr/>
          <p:nvPr/>
        </p:nvPicPr>
        <p:blipFill>
          <a:blip r:embed="rId6"/>
          <a:stretch/>
        </p:blipFill>
        <p:spPr>
          <a:xfrm>
            <a:off x="255888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ShockwaveFlash7" descr=""/>
          <p:cNvPicPr/>
          <p:nvPr/>
        </p:nvPicPr>
        <p:blipFill>
          <a:blip r:embed="rId7"/>
          <a:stretch/>
        </p:blipFill>
        <p:spPr>
          <a:xfrm>
            <a:off x="438768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ShockwaveFlash8" descr=""/>
          <p:cNvPicPr/>
          <p:nvPr/>
        </p:nvPicPr>
        <p:blipFill>
          <a:blip r:embed="rId8"/>
          <a:stretch/>
        </p:blipFill>
        <p:spPr>
          <a:xfrm>
            <a:off x="6369120" y="52578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9A85-75F4-4327-ADE0-4FB2B6EAE07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9960" y="182880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小尤拉想做点儿好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他坐下来想：如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èi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妹病了，我就去看护她。妹妹正好走过来：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ɡē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哥，带我去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wá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呀！”“走开，别打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u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想事情！”妹妹撅着嘴，走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249720" y="304920"/>
            <a:ext cx="26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想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uò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好事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9960" y="3232080"/>
            <a:ext cx="83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尤拉又想：如果狼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zhuā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奶奶，我就用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iā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ǐ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！奶奶正好说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uà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：“小尤拉，去把碗碟收拾好。”“我没工夫！”奶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ī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，摇摇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99960" y="31273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尤拉往下想：如果小狗掉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ǐ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里，我就把它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ā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起来。正好小狗来了，它摇摇尾巴，好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xià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给我点儿水喝吧。”“走开，别打扰我想事情。”小狗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iā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着尾巴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尤拉问妈妈：“我做点儿什么好事呢？”妈妈说：“带妹妹玩玩，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ā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奶奶收碗碟，给小狗弄点儿水喝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1371600"/>
            <a:ext cx="83440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尤拉想做点儿好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他坐下来想：如果妹妹病了，我就去看护她。妹妹正好走过来：“哥哥，带我去玩呀！”“走开，别打断我想事情！”妹妹撅着嘴，走开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681360" y="59364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想做好事的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724280" y="4495680"/>
            <a:ext cx="3429000" cy="1905120"/>
          </a:xfrm>
          <a:prstGeom prst="cloudCallout">
            <a:avLst>
              <a:gd name="adj1" fmla="val 49351"/>
              <a:gd name="adj2" fmla="val 15916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小尤拉想着做好事，他真这样做了吗？你是从哪里知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733920" y="2438280"/>
            <a:ext cx="4114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715000" y="243828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490200" y="11430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妹妹病了，我就去看护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602000" y="2155680"/>
            <a:ext cx="64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妹妹想玩，我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061520" y="41688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小狗掉到井里，我就把它捞起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78320" y="5181480"/>
            <a:ext cx="66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小狗口渴了，我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99120" y="2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填一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2666880"/>
            <a:ext cx="834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尤拉又想：如果狼来抓奶奶，我就用枪打死它！奶奶正好说话了：“小尤拉，去把碗碟收拾好。”“我没工夫！”奶奶听了，摇摇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尤拉往下想：如果小狗掉到井里，我就把它捞起来。正好小狗来了，它摇摇尾巴，好像说：“给我点儿水喝吧。”“走开，别打扰我想事情。”小狗夹着尾巴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99960" y="3521160"/>
            <a:ext cx="834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尤拉问妈妈：“我做点儿什么好事呢？”妈妈说：“带妹妹玩玩，帮奶奶收碗碟，给小狗弄点儿水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533520" y="502920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676520" y="457200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4952880" y="685800"/>
            <a:ext cx="2971800" cy="1752480"/>
          </a:xfrm>
          <a:prstGeom prst="cloudCallout">
            <a:avLst>
              <a:gd name="adj1" fmla="val 48129"/>
              <a:gd name="adj2" fmla="val 59782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妈妈告诉小尤拉怎么做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523880" y="50292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7391520" y="4572000"/>
            <a:ext cx="990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525680" y="3124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做好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795840" y="14479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带妹妹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024440" y="25750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帮奶奶收拾碗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948120" y="3733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小狗弄水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489480" y="4648320"/>
            <a:ext cx="192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2971800" y="160020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03:2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5:41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