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BE13-DFA0-44AB-88A5-31875142AF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2D22-0B9B-4046-8D35-30EA4E58EB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7EC-6DF2-4842-BBC2-1EDCEB74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662-3587-4BCA-9B71-B70770A1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80D-5612-46E0-A7F9-2BF05948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C5C-0B28-4B48-9128-FF282795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4C5-AC42-49B9-8CCF-075CA32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3B9-018A-4572-B694-7AC972E6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E73-1E90-4211-9548-5446FFDB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4BC-BA3A-47C6-8FB1-141DA10A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9B3-B44E-48F1-B2EC-2FCA08D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737-2830-43A4-B2E3-D509845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CE6-EACF-4626-A264-361E715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22A-29AF-431C-A715-3A53BBAB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A7E2-9EDC-47F7-8819-46CE5492E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野餐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58760"/>
            <a:ext cx="4114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66"/>
                </a:solidFill>
                <a:latin typeface="Arial"/>
                <a:ea typeface="黑体"/>
              </a:rPr>
              <a:t>野 餐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湘教版三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6" descr=""/>
          <p:cNvPicPr/>
          <p:nvPr/>
        </p:nvPicPr>
        <p:blipFill>
          <a:blip r:embed="rId2"/>
          <a:stretch/>
        </p:blipFill>
        <p:spPr>
          <a:xfrm>
            <a:off x="1774800" y="6095880"/>
            <a:ext cx="5769000" cy="498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学习课文第</a:t>
            </a:r>
            <a:r>
              <a:rPr b="1" lang="zh-CN" sz="2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自然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这么丰盛的菜，聪聪一家是从哪儿弄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大自然“买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聪聪一家向大自然“买”了哪些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“买”菜的过程中，你印象最深的是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重点品读：爸爸学水獭叉鱼的情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齐读课文第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，找出文中描写爸爸叉鱼的动词“栽、伸、蹬、潜”，在读课文时时要认真体会这些动词的运用，学习具体生动的描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爸爸为什么会有这么敏捷的身手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水獭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现在我们还能看到水獭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思考：为什么我们看不到水獭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毛皮珍贵，水獭遭到人们无节制的捕猎，加上开发建设使水域污染，其数量已很稀少，需加强保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160" y="2437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活中，你有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捉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经历吗？说说当时的情景或自己的感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捕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2654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课文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用自己喜欢的方式背课文，找出写快乐野餐的段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假如你是聪聪家的成员，此时的你有什么感受呢？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、快乐、有无穷乐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同学们认真想想，大家为什么如此快乐？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爷爷、奶奶、爸爸、妈妈在一起活动，会感觉很幸福，所以感觉快乐；因为在大自然中就餐，所以很快乐；因为野餐的食物丰盛极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野餐中，大自然为我们奉献出丰盛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，我们应该为大自然做些什么呢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大自然给了我们很多很多，包括食物、快乐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我们要回报大自然，爱护它的一草一木，绝不滥砍滥伐，不捕杀野生动物，不乱扔垃圾，为保护生态环境尽一份微薄之力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853920" y="562140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26F1-A127-45BF-821A-D1FCC76404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90420_90c19f59a3e375fb0066T9IReO3GoRoW[1]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课文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能叙说野餐的快乐情景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感受大自然给人们带来的乐趣，从小树立环保意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90420_90c19f59a3e375fb0066T9IReO3GoRoW[1]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也有过在外野餐的经历吗？这节课就让我们随着聪聪一家到溪边野餐，在山洞过夜，尽情享受大自然给人们带来的快乐吧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野餐1"/>
          <p:cNvPicPr/>
          <p:nvPr/>
        </p:nvPicPr>
        <p:blipFill>
          <a:blip r:embed="rId1"/>
          <a:stretch/>
        </p:blipFill>
        <p:spPr>
          <a:xfrm>
            <a:off x="1981080" y="1467000"/>
            <a:ext cx="5038920" cy="45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3429000" y="3276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初读课文，整体感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朗读课文，思考：这篇课文主要写了一件什么事？你从中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聪聪一家在外野餐，他们非常快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38080" y="1295280"/>
            <a:ext cx="754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组学习，掌握字词</a:t>
            </a:r>
            <a:br>
              <a:rPr sz="36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快速浏览课文，找出生字、新词。读准字音，记住字形，理解字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餐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ā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棒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bàn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葛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g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煮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凹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ā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xiā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i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ré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523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棒  葛根粥  煮汤  野餐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凹入  溪水浴  削尖  丰盛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理清层次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认真默读课文，思考：课文可以分成几部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暑假里爸爸决定带我们全家到溪边野餐，在山洞过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我们向大自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我们全家野餐的快乐情景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9601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学习第</a:t>
            </a: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声读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野餐的时间、地点、人物心情怎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8:17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6:16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