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A819-3DD5-4D95-AF1F-6B93D3268D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2F4F-5C40-40FD-802F-A2A89D8B60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5AD-308C-4C46-8047-CC7C1127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46B-C92C-41FC-955E-A034B1E4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E9E-BCD9-4FF5-880A-7337987C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0F2-09AC-47ED-B4C7-770EC292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18D-9AC7-47FB-A24C-E8682B27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47F-4D88-48C3-ABA9-E1F88A3C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FDB-F84C-4FB9-8B20-077463B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EB9-0C6F-4D02-8FC5-38702CD8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740-0581-4574-995E-DBBC3EFC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D8B-7BCF-4A8F-8CBB-0B8C9C3B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849-2B93-440F-8E9E-55D98717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E2A-B136-4BBD-B53F-53E6087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3C6C-B688-45D7-B805-5EC4777BD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619280" y="2492280"/>
            <a:ext cx="6121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阳光下的皮肤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93464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2436120" y="109116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战（人类史上最大的灾难）直接死亡者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1628640"/>
            <a:ext cx="87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苏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6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家餐桌上都有一把空着的汤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死去的多是男性青壮年。前苏联男女比例经过战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恢复才上升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仍未达到战前水平。对于一个大国人口结构来讲，男女比例只要相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足以造成许多社会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德国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（虽居第四位，但最惨痛的是该国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占全国人口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中一半还是在焚人炉里烧掉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国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大利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（收获了半个世界的最大的战胜国美利坚，只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79280" y="0"/>
            <a:ext cx="18669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补充资料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175280" y="1556280"/>
            <a:ext cx="94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平等、尊严、和平、友好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12184137"/>
          <p:cNvPicPr/>
          <p:nvPr/>
        </p:nvPicPr>
        <p:blipFill>
          <a:blip r:embed="rId1"/>
          <a:stretch/>
        </p:blipFill>
        <p:spPr>
          <a:xfrm>
            <a:off x="1979640" y="2997360"/>
            <a:ext cx="4762440" cy="32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00123f0ed60c09c5e7dc07"/>
          <p:cNvPicPr/>
          <p:nvPr/>
        </p:nvPicPr>
        <p:blipFill>
          <a:blip r:embed="rId1"/>
          <a:stretch/>
        </p:blipFill>
        <p:spPr>
          <a:xfrm>
            <a:off x="2050920" y="3213000"/>
            <a:ext cx="4753080" cy="3171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971640" y="148428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的中国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民族，但有一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唱得好，我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民族是一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wzh.mp3" descr=""/>
          <p:cNvPicPr/>
          <p:nvPr/>
        </p:nvPicPr>
        <p:blipFill>
          <a:blip r:embed="rId2"/>
          <a:stretch/>
        </p:blipFill>
        <p:spPr>
          <a:xfrm>
            <a:off x="7596360" y="234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5608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35434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阳光皮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底是什么意思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不能说所有人的皮肤都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阳光皮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3276720" y="1844640"/>
            <a:ext cx="25207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议和说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2" name="Picture 6" descr="小恐龙"/>
          <p:cNvPicPr/>
          <p:nvPr/>
        </p:nvPicPr>
        <p:blipFill>
          <a:blip r:embed="rId1"/>
          <a:stretch/>
        </p:blipFill>
        <p:spPr>
          <a:xfrm>
            <a:off x="1547640" y="1484280"/>
            <a:ext cx="1202040" cy="1620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"/>
          <p:cNvSpPr/>
          <p:nvPr/>
        </p:nvSpPr>
        <p:spPr>
          <a:xfrm>
            <a:off x="1701720" y="5710320"/>
            <a:ext cx="54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1258920" y="1557360"/>
            <a:ext cx="66960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 </a:t>
            </a: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我们，是一个大家庭 ！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2987640" y="3429000"/>
            <a:ext cx="3476520" cy="283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E14-D294-45E9-A20B-8AD3DCD648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794120" y="1610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自由、快速地去默读课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3789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讲述了一个国际少年班的学生渴望和平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讲述了南非黑人求平等、求生存的心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休息的小蜜蜂"/>
          <p:cNvPicPr/>
          <p:nvPr/>
        </p:nvPicPr>
        <p:blipFill>
          <a:blip r:embed="rId1"/>
          <a:stretch/>
        </p:blipFill>
        <p:spPr>
          <a:xfrm>
            <a:off x="382680" y="885960"/>
            <a:ext cx="2087640" cy="2062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24000" y="1052640"/>
            <a:ext cx="88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各个国家的同学在利用口语来展示自己国家的风采时，你认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哪个国家的同学介绍得好？你为什么欣赏他的介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哪一个国家的学生介绍得最精彩？最形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在口语交际中，新加坡的李德远和朝鲜来的金顺玉的对话是什么意思？（能否表演一番）他们好象伤害到了彼此，你从中得到了哪些关于说话的技巧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78680" y="134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南非孩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2349360"/>
            <a:ext cx="763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的心突然一抖，从一开始我就思考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将如何介绍我的非洲，我的南非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不禁热泪盈眶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1255680" cy="142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"/>
          <p:cNvSpPr/>
          <p:nvPr/>
        </p:nvSpPr>
        <p:spPr>
          <a:xfrm>
            <a:off x="1112760" y="2033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402000" y="475560"/>
            <a:ext cx="29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索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族歧视的牺牲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179280" y="0"/>
            <a:ext cx="18669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补充资料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24000" y="112536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第五届奥林匹克运动会中最出色的人物是美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才运动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普。他是那个时代最伟大的运动员，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奥运会冠军史册上并没有他的名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一再提到他，称颂他，他的名字比冠军还要响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因为人们同情他的不幸。他是种族歧视的牺牲者。他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印第安贫穷家庭，他篮球、足球、游泳、跑步，样样都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斯德哥尔摩奥运会时，他稳拿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全能冠军（跳远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铁饼、标枪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141300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，他被人诬陷为职业运动员，奥运会取消了他的冠军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并把金牌转发给这个项目的第二名，但后者拒绝接受，他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正的冠军是索普，不是我也不是其他任何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普不仅被剥夺了金牌，而且被剥夺了参加业余比赛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，就这样，一代才华横溢的运动员被扼杀了。此后，索普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职业棒球员，卖过苦力，他留给人世的最后一句话是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金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179280" y="0"/>
            <a:ext cx="18669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补充资料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xin_320105151055393175045"/>
          <p:cNvPicPr/>
          <p:nvPr/>
        </p:nvPicPr>
        <p:blipFill>
          <a:blip r:embed="rId1"/>
          <a:stretch/>
        </p:blipFill>
        <p:spPr>
          <a:xfrm>
            <a:off x="6084720" y="4581360"/>
            <a:ext cx="3059280" cy="2100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11280" y="1125360"/>
            <a:ext cx="7920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过去了，终于，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国际奥委会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为索普恢复名誉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国际奥委会主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萨马兰奇亲赴洛杉矶将追回的金牌重新授予索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下的儿女。索普，一代天才运动员就这样成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种族歧视的牺牲者！索普，一代天才运动员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成为了种族歧视的牺牲者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179280" y="0"/>
            <a:ext cx="18669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补充资料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450440" y="51570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萨马兰奇将追回的金牌重新授予索普的儿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5508720" y="5373720"/>
            <a:ext cx="576000" cy="0"/>
          </a:xfrm>
          <a:prstGeom prst="line">
            <a:avLst/>
          </a:prstGeom>
          <a:ln w="57240">
            <a:solidFill>
              <a:srgbClr val="99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971640" y="765000"/>
            <a:ext cx="7057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战争不仅给非洲人民带来灾难，也给全世界人们带来痛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472464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55640" y="191628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方战史专家统计：公元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时间里，全球共发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5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战争，只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于和平状态。人类为此付出的代价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人死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损失财富折合黄金可铺设一条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（几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纬度），环绕地球一圈的金质长城，人们站在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表面，用肉眼就能清楚地看见地球身缠一条金黄色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，这就是我们为所在星球建筑的辉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179280" y="0"/>
            <a:ext cx="18669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补充资料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7:38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8:38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