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126C-D47D-4BB1-A360-D7B860A8D87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8C8A-5693-4E65-AC4D-E0AAC8DCC83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BBF-1E05-4711-A4EA-D27428CB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52A-628C-40D1-99A9-33C75D53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5C2-A281-4401-B93A-2D731AB5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31A-5AF6-4074-A399-0F39D500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21D7-789B-4EFE-AE97-7D636FE6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501-FE08-4AA8-986F-6A6058CC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8E9-F173-4ECF-B61B-D44CB9DE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EED-1956-4BD2-83CE-52E90552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0188-C4AB-4972-A200-C3007CB1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A1D-8F54-484C-9792-28D15483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06B-388C-42E9-90A8-25F54EE5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941F-3C8F-499C-B6D5-2FEECEE6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AFCF-2022-48AE-9B04-569BE2B74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upian.baike.com/a4_11_00_01300000110309121721009372010_jpg.html?prd=zhengwenye_left_neirong_tupian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tupian.baike.com/a0_34_06_01300000110309121721063561413_jpg.html?prd=zhengwenye_left_neirong_tupian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tupian.baike.com/a0_85_06_01300000110309121721067153206_jpg.html?prd=zhengwenye_left_neirong_tupian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tupian.baike.com/a3_50_07_01300000110309121721072270758_jpg.html?prd=zhengwenye_left_neirong_tupian" TargetMode="External"/><Relationship Id="rId8" Type="http://schemas.openxmlformats.org/officeDocument/2006/relationships/image" Target="../media/image18.jpeg"/><Relationship Id="rId9" Type="http://schemas.openxmlformats.org/officeDocument/2006/relationships/hyperlink" Target="http://tupian.baike.com/a1_88_07_01300000110309121721078829882_jpg.html?prd=zhengwenye_left_neirong_tupian" TargetMode="External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upian.baike.com/a0_61_08_01300000110309121721086769823_jpg.html?prd=zhengwenye_left_neirong_tupian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tupian.baike.com/a1_76_10_01300000110309121721105002351_jpg.html?prd=zhengwenye_left_neirong_tupian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tupian.baike.com/a1_76_10_01300000110309121721105002351_jpg.html?prd=zhengwenye_left_neirong_tupian" TargetMode="External"/><Relationship Id="rId6" Type="http://schemas.openxmlformats.org/officeDocument/2006/relationships/hyperlink" Target="http://tupian.baike.com/a2_35_11_01300000110309121721111691282_jpg.html?prd=zhengwenye_left_neirong_tupian" TargetMode="External"/><Relationship Id="rId7" Type="http://schemas.openxmlformats.org/officeDocument/2006/relationships/image" Target="../media/image22.jpeg"/><Relationship Id="rId8" Type="http://schemas.openxmlformats.org/officeDocument/2006/relationships/hyperlink" Target="http://tupian.baike.com/a1_01_07_01300000110309121721075623722_jpg.html?prd=zhengwenye_left_neirong_tupian" TargetMode="External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876320" y="3048120"/>
            <a:ext cx="557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光下的琴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541520" y="548640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读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</a:rPr>
              <a:t>太太，孩子长大了，他知道怎么走路了。要走怎样的路，该由他自己选择！ ”从爸爸的回信中你体会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371600" y="685800"/>
            <a:ext cx="69343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太太，孩子长大了，他知道怎么走路了。要走怎样的路，该由他自己选择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月光下的琴声-03"/>
          <p:cNvPicPr/>
          <p:nvPr/>
        </p:nvPicPr>
        <p:blipFill>
          <a:blip r:embed="rId1"/>
          <a:stretch/>
        </p:blipFill>
        <p:spPr>
          <a:xfrm>
            <a:off x="3505320" y="2838600"/>
            <a:ext cx="5257800" cy="39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609480" y="1066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蜘蛛妈妈收到回信会怎样想？她会怎样做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月光下的琴声-01"/>
          <p:cNvPicPr/>
          <p:nvPr/>
        </p:nvPicPr>
        <p:blipFill>
          <a:blip r:embed="rId1"/>
          <a:stretch/>
        </p:blipFill>
        <p:spPr>
          <a:xfrm>
            <a:off x="2057400" y="2209680"/>
            <a:ext cx="5791320" cy="434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父母对孩子的爱有多种，理解也是一种爱。相信小蜘蛛在爸爸妈妈的理解和支持下，一定会在音乐方面有所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蜘蛛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352680"/>
            <a:ext cx="2105280" cy="2857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蜘蛛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3429000"/>
            <a:ext cx="230508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蜘蛛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33920" y="-304920"/>
            <a:ext cx="4381560" cy="387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蜘蛛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3429000" cy="3417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蜘蛛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029200" y="3200400"/>
            <a:ext cx="3695760" cy="413856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1"/>
          <p:cNvSpPr/>
          <p:nvPr/>
        </p:nvSpPr>
        <p:spPr>
          <a:xfrm>
            <a:off x="3301920" y="3108240"/>
            <a:ext cx="49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蜘蛛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蜘蛛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3438360"/>
            <a:ext cx="5181480" cy="3419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>
            <a:hlinkClick r:id="rId5"/>
          </p:cNvPr>
          <p:cNvSpPr/>
          <p:nvPr/>
        </p:nvSpPr>
        <p:spPr>
          <a:xfrm>
            <a:off x="0" y="425664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666666"/>
                </a:solidFill>
                <a:latin typeface="Times New Roman"/>
              </a:rPr>
              <a:t>蜘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蜘蛛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62520" y="0"/>
            <a:ext cx="5181480" cy="341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蜘蛛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25909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蜘蛛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文名：蜘蛛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文别名：网虫、扁珠、园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 类：节肢动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蜘蛛主要捕食小昆虫。水边的狼蛛能捕食小鱼虾，捕鸟蛛能捕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据文献记载，世界上的蜘蛛估计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余种，分属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科，在中国生存的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科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左右。最大的蜘蛛体长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，最小的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毫米。最大体长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，堪称“世界毒蜘蛛之王”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3A93-B66F-48BC-BD1A-DF5FEC9B20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371600" y="1886040"/>
          <a:ext cx="1143000" cy="114300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</a:tblGrid>
              <a:tr h="571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2971800" y="3562200"/>
          <a:ext cx="1143000" cy="114300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</a:tblGrid>
              <a:tr h="571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371600" y="3562200"/>
          <a:ext cx="1143000" cy="114300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</a:tblGrid>
              <a:tr h="571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648320" y="1886040"/>
          <a:ext cx="1143000" cy="114300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</a:tblGrid>
              <a:tr h="571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324480" y="1886040"/>
          <a:ext cx="1219320" cy="11430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</a:tblGrid>
              <a:tr h="571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6324480" y="3562200"/>
          <a:ext cx="1219320" cy="121932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648320" y="3562200"/>
          <a:ext cx="1218960" cy="1219320"/>
        </p:xfrm>
        <a:graphic>
          <a:graphicData uri="http://schemas.openxmlformats.org/drawingml/2006/table">
            <a:tbl>
              <a:tblPr/>
              <a:tblGrid>
                <a:gridCol w="609120"/>
                <a:gridCol w="609840"/>
              </a:tblGrid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971800" y="1886040"/>
          <a:ext cx="1143000" cy="114300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</a:tblGrid>
              <a:tr h="571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144" descr=""/>
          <p:cNvPicPr/>
          <p:nvPr/>
        </p:nvPicPr>
        <p:blipFill>
          <a:blip r:embed="rId1"/>
          <a:stretch/>
        </p:blipFill>
        <p:spPr>
          <a:xfrm>
            <a:off x="1523880" y="1962000"/>
            <a:ext cx="885960" cy="9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5" descr=""/>
          <p:cNvPicPr/>
          <p:nvPr/>
        </p:nvPicPr>
        <p:blipFill>
          <a:blip r:embed="rId2"/>
          <a:stretch/>
        </p:blipFill>
        <p:spPr>
          <a:xfrm>
            <a:off x="3124080" y="2038320"/>
            <a:ext cx="800280" cy="905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8" descr=""/>
          <p:cNvPicPr/>
          <p:nvPr/>
        </p:nvPicPr>
        <p:blipFill>
          <a:blip r:embed="rId3"/>
          <a:stretch/>
        </p:blipFill>
        <p:spPr>
          <a:xfrm>
            <a:off x="4800600" y="2038320"/>
            <a:ext cx="905040" cy="89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9" descr=""/>
          <p:cNvPicPr/>
          <p:nvPr/>
        </p:nvPicPr>
        <p:blipFill>
          <a:blip r:embed="rId4"/>
          <a:stretch/>
        </p:blipFill>
        <p:spPr>
          <a:xfrm>
            <a:off x="6477120" y="2038320"/>
            <a:ext cx="847440" cy="905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0" descr=""/>
          <p:cNvPicPr/>
          <p:nvPr/>
        </p:nvPicPr>
        <p:blipFill>
          <a:blip r:embed="rId5"/>
          <a:stretch/>
        </p:blipFill>
        <p:spPr>
          <a:xfrm>
            <a:off x="1447920" y="371484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1" descr=""/>
          <p:cNvPicPr/>
          <p:nvPr/>
        </p:nvPicPr>
        <p:blipFill>
          <a:blip r:embed="rId6"/>
          <a:stretch/>
        </p:blipFill>
        <p:spPr>
          <a:xfrm>
            <a:off x="3124080" y="3714840"/>
            <a:ext cx="905040" cy="876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2" descr=""/>
          <p:cNvPicPr/>
          <p:nvPr/>
        </p:nvPicPr>
        <p:blipFill>
          <a:blip r:embed="rId7"/>
          <a:stretch/>
        </p:blipFill>
        <p:spPr>
          <a:xfrm>
            <a:off x="4800600" y="3714840"/>
            <a:ext cx="84780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3" descr=""/>
          <p:cNvPicPr/>
          <p:nvPr/>
        </p:nvPicPr>
        <p:blipFill>
          <a:blip r:embed="rId8"/>
          <a:stretch/>
        </p:blipFill>
        <p:spPr>
          <a:xfrm>
            <a:off x="6477120" y="3714840"/>
            <a:ext cx="857160" cy="914400"/>
          </a:xfrm>
          <a:prstGeom prst="rect">
            <a:avLst/>
          </a:prstGeom>
          <a:ln w="0">
            <a:noFill/>
          </a:ln>
        </p:spPr>
      </p:pic>
      <p:sp>
        <p:nvSpPr>
          <p:cNvPr id="67" name="WordArt 155"/>
          <p:cNvSpPr txBox="1"/>
          <p:nvPr/>
        </p:nvSpPr>
        <p:spPr>
          <a:xfrm>
            <a:off x="2590920" y="826920"/>
            <a:ext cx="396216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我会写好看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月光下的琴声-02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4260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533520" y="30492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</a:rPr>
              <a:t>学习生字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295280" y="1143000"/>
            <a:ext cx="72392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蜘蛛   远近闻名  音乐   宝贝   竟然   教训   连夜   休息   悦耳   拂面   清风   疲劳   时快时慢    山涧  滋润   熟悉   一架   简直   倾听  惊动   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7"/>
          <p:cNvSpPr/>
          <p:nvPr/>
        </p:nvSpPr>
        <p:spPr>
          <a:xfrm>
            <a:off x="2590920" y="22827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676520" y="1066680"/>
            <a:ext cx="66294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get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0"/>
          <p:cNvSpPr/>
          <p:nvPr/>
        </p:nvSpPr>
        <p:spPr>
          <a:xfrm>
            <a:off x="990720" y="838080"/>
            <a:ext cx="7467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孩子他爸：</a:t>
            </a:r>
            <a:br>
              <a:rPr sz="3200"/>
            </a:b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咱们的宝贝儿子，我管不了了。现在一点都不听我的话，也不好好捉虫，竟迷上了音乐。你回来教训教训他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蜘蛛妈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读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---4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蜘蛛爸爸开始收到信时心情是怎样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Arial"/>
              </a:rPr>
              <a:t>蜘蛛爸爸为什么生气？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</a:rPr>
              <a:t>蜘蛛爸爸是捉虫能手，蜘蛛妈妈和蜘蛛爸爸对小蜘蛛的期待是怎样的？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371600" y="7621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在大森林里捉虫子的蜘蛛爸爸是一个远近闻名的捉虫能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月光下的琴声-01"/>
          <p:cNvPicPr/>
          <p:nvPr/>
        </p:nvPicPr>
        <p:blipFill>
          <a:blip r:embed="rId1"/>
          <a:stretch/>
        </p:blipFill>
        <p:spPr>
          <a:xfrm>
            <a:off x="0" y="2457360"/>
            <a:ext cx="5791320" cy="434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读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5---8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后来蜘蛛爸爸心情发生了怎样的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Arial"/>
              </a:rPr>
              <a:t>从哪里看出来的呀？带着喜悦之情读一读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</a:rPr>
              <a:t>蜘蛛爸爸的态度为什么变了</a:t>
            </a:r>
            <a:r>
              <a:rPr b="0" lang="zh-CN" sz="2400" spc="-1" strike="noStrike">
                <a:solidFill>
                  <a:srgbClr val="990000"/>
                </a:solidFill>
                <a:latin typeface="Arial"/>
              </a:rPr>
              <a:t>？</a:t>
            </a:r>
            <a:br>
              <a:rPr sz="2400"/>
            </a:br>
            <a:r>
              <a:rPr b="0" lang="zh-CN" sz="24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990720" y="457200"/>
            <a:ext cx="69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月光下，林子里传来了一阵阵悦耳的琴声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月光下的琴声-03"/>
          <p:cNvPicPr/>
          <p:nvPr/>
        </p:nvPicPr>
        <p:blipFill>
          <a:blip r:embed="rId1"/>
          <a:stretch/>
        </p:blipFill>
        <p:spPr>
          <a:xfrm>
            <a:off x="228600" y="3032280"/>
            <a:ext cx="5105520" cy="3825720"/>
          </a:xfrm>
          <a:prstGeom prst="rect">
            <a:avLst/>
          </a:prstGeom>
          <a:ln w="0">
            <a:noFill/>
          </a:ln>
        </p:spPr>
      </p:pic>
      <p:pic>
        <p:nvPicPr>
          <p:cNvPr id="83" name="夜曲-肖邦(世界著名钢琴曲).mp3" descr=""/>
          <p:cNvPicPr/>
          <p:nvPr/>
        </p:nvPicPr>
        <p:blipFill>
          <a:blip r:embed="rId2"/>
          <a:stretch/>
        </p:blipFill>
        <p:spPr>
          <a:xfrm>
            <a:off x="7162920" y="4038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57507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609480" y="21337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那琴声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819520" y="22096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时高时低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拂面的清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57200" y="685800"/>
            <a:ext cx="4191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762120" y="27432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ff"/>
                </a:solidFill>
                <a:latin typeface="Arial"/>
              </a:rPr>
              <a:t>洗去</a:t>
            </a:r>
            <a:r>
              <a:rPr b="1" lang="en-US" sz="4000" spc="-1" strike="noStrike">
                <a:solidFill>
                  <a:srgbClr val="00ccff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2895480" y="28195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疲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33520" y="350532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那琴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200400" y="3581280"/>
            <a:ext cx="327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时快时慢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685800" y="42670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间流出的小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5334120" y="42670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滋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7467480" y="42670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心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457200" y="533520"/>
            <a:ext cx="935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月光下，林子里传来了一阵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悦耳的琴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0T13:20:5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5:19Z</dcterms:modified>
  <cp:revision>3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