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projctor.wav" ContentType="audio/x-wav"/>
  <Override PartName="/ppt/media/image5.jpeg" ContentType="image/jpeg"/>
  <Override PartName="/ppt/media/laser.wav" ContentType="audio/x-wav"/>
  <Override PartName="/ppt/media/chimes.wav" ContentType="audio/x-wav"/>
  <Override PartName="/ppt/media/image6.png" ContentType="image/png"/>
  <Override PartName="/ppt/media/image7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09D7-E5B0-43DC-A5A0-6FCA61C00FA8}" type="slidenum">
              <a:rPr b="0" lang="zh-CN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3369-4D20-4C28-B533-D953F9E0468F}" type="slidenum">
              <a:rPr b="1" i="1" lang="zh-CN" sz="1200" spc="-1" strike="noStrike">
                <a:solidFill>
                  <a:srgbClr val="1f497d"/>
                </a:solidFill>
                <a:latin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C1D-41DE-4830-87DF-120EBE99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C04-3CB7-4DF1-8166-829F3ABF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6D7-644B-4BD2-9BC4-792573B9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7FD-E4D2-4C2F-8447-43A986A5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C2D-1DCB-437B-B239-96FE9981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155C-21C5-4726-A847-F2C7254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48E2-5DE0-4D17-AB1C-C385858F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73BE-35F0-4424-B911-C30667D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AC9F-DA27-470D-96DD-DFDE398B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25FE-F0FE-42D2-8F72-4844C725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60F1-CA36-4110-9C7C-5EEEFCBF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C8D-E56E-40F8-B412-0A22AAF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6A9D-D715-43A3-83CD-38E4F2B7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599A-7DCB-4D5E-9175-A83A649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F6AB-8ACD-42E4-8CDB-333D2CEB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03BE-6B46-49E5-889E-47326A61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10B5-CA30-41C9-9211-44150CF8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9CF-EA19-4860-9505-68F488F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591-04BE-4306-B46A-BA893EA6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B2F-18CB-4F90-9AAB-29DCDC35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404-D90C-4CC8-9A5A-BB301C93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09F-323D-4868-9901-12B5F34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451-5DD2-48D7-B83E-2F85AB10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B32-CA46-44D6-A429-5B60EE5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BDE7-B004-4F6F-AA0B-FE20D0ED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E9F6-2D5F-4C0B-9F6C-7EEB10B2B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忆江南》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2987640" y="4797360"/>
            <a:ext cx="547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i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500" spc="-1" strike="noStrike" u="sng">
                <a:solidFill>
                  <a:srgbClr val="00cc66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500" spc="-1" strike="noStrike" u="sng">
                <a:solidFill>
                  <a:srgbClr val="00cc66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1" lang="en-US" sz="13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E6BD-4AEF-4B14-8034-7D4BAAEB5E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19320" y="114264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忆江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          </a:t>
            </a: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----</a:t>
            </a: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白居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江南好，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风景旧曾谙。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日出江花红胜火，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春来江水绿如蓝。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能不忆江南？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13"/>
          <p:cNvPicPr/>
          <p:nvPr/>
        </p:nvPicPr>
        <p:blipFill>
          <a:blip r:embed="rId1"/>
          <a:stretch/>
        </p:blipFill>
        <p:spPr>
          <a:xfrm>
            <a:off x="3809880" y="1600200"/>
            <a:ext cx="46483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ee1841"/>
                </a:solidFill>
                <a:latin typeface="Times New Roman"/>
                <a:ea typeface="楷体_GB2312"/>
              </a:rPr>
              <a:t>自读提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35280" y="1905120"/>
            <a:ext cx="631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•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声朗读《忆江南》，图文对照，说说词中描述了江南怎样的美景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•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词和我们以前学过的古诗有什么区别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6600ff"/>
                </a:solidFill>
                <a:latin typeface="Times New Roman"/>
                <a:ea typeface="黑体"/>
              </a:rPr>
              <a:t>    </a:t>
            </a:r>
            <a:r>
              <a:rPr b="0" lang="zh-CN" sz="4600" spc="-1" strike="noStrike">
                <a:solidFill>
                  <a:srgbClr val="006600"/>
                </a:solidFill>
                <a:latin typeface="Times New Roman"/>
                <a:ea typeface="黑体"/>
              </a:rPr>
              <a:t>小结：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80720" y="2285640"/>
            <a:ext cx="6172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词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我国古代诗歌的一种，可以配上乐曲歌唱。词的句子有长有短，因此又叫长短句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"/>
          <p:cNvSpPr/>
          <p:nvPr/>
        </p:nvSpPr>
        <p:spPr>
          <a:xfrm>
            <a:off x="457200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悟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你认为词中哪句写的最美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2590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日出江花</a:t>
            </a:r>
            <a:r>
              <a:rPr b="1" lang="zh-CN" sz="3400" spc="-1" strike="noStrike">
                <a:solidFill>
                  <a:srgbClr val="ee1841"/>
                </a:solidFill>
                <a:latin typeface="Times New Roman"/>
              </a:rPr>
              <a:t> 红胜火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春来江水</a:t>
            </a:r>
            <a:r>
              <a:rPr b="1" lang="zh-CN" sz="3400" spc="-1" strike="noStrike">
                <a:solidFill>
                  <a:srgbClr val="3333cc"/>
                </a:solidFill>
                <a:latin typeface="Times New Roman"/>
              </a:rPr>
              <a:t> 绿如蓝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情感升华：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师生入情入境共读</a:t>
            </a:r>
            <a:r>
              <a:rPr b="1" lang="zh-CN" sz="3400" spc="-1" strike="noStrike">
                <a:solidFill>
                  <a:srgbClr val="ee1841"/>
                </a:solidFill>
                <a:latin typeface="Times New Roman"/>
              </a:rPr>
              <a:t>《忆江南》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一词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gsls.wma" descr=""/>
          <p:cNvPicPr/>
          <p:nvPr/>
        </p:nvPicPr>
        <p:blipFill>
          <a:blip r:embed="rId1"/>
          <a:stretch/>
        </p:blipFill>
        <p:spPr>
          <a:xfrm>
            <a:off x="81532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mediacall" presetID="1">
                                  <p:stCondLst>
                                    <p:cond delay="6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宋体"/>
              </a:rPr>
              <a:t>课后拓展</a:t>
            </a:r>
            <a:br>
              <a:rPr sz="3000"/>
            </a:b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拿起五彩的笔，用图画的形式展现江南美景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查找白居易《忆江南》其二､其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69840" y="57229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模板尽在：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忆江南</a:t>
            </a:r>
            <a:br>
              <a:rPr sz="4000"/>
            </a:b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其二                          其三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680" y="2286000"/>
            <a:ext cx="38102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江南忆，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最忆是杭州：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山寺月中寻桂子，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郡亭枕上看潮头。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何日更重游？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95680" y="2209680"/>
            <a:ext cx="381024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139000" y="2286000"/>
            <a:ext cx="2082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江南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其次忆吴宫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美酒一杯春竹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吴性双舞醉芙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早晚复相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i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观看！ </a:t>
            </a:r>
            <a:br>
              <a:rPr sz="4600"/>
            </a:br>
            <a:br>
              <a:rPr sz="4600"/>
            </a:br>
            <a:br>
              <a:rPr sz="4600"/>
            </a:b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再见！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gu35"/>
          <p:cNvPicPr/>
          <p:nvPr/>
        </p:nvPicPr>
        <p:blipFill>
          <a:blip r:embed="rId1"/>
          <a:stretch/>
        </p:blipFill>
        <p:spPr>
          <a:xfrm>
            <a:off x="4419720" y="2819520"/>
            <a:ext cx="4038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1:56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4:25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