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F8A8-4897-40B6-BF02-2EA9DF0F04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2BA1-CF8B-4038-92D5-D3E8600652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14F-333F-4126-84AA-C5F8FB91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BDA-C7EB-4B0F-BBB9-4213D23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EBF-7311-452D-9237-EF7E33A6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03B-3CD4-4EF7-A268-61739D7A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A45-CE8C-48B0-B37F-AEF879D5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E41-D49D-4B91-845D-4B9AFD2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7F8-4B8F-425D-993D-47F4C56D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994-0FB8-4525-9C11-F685F4C3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A66-89F8-4524-8AEE-F1DB1FEC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599-28DE-4F78-BBAD-23A1332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01D-57F4-4363-894F-2DE2D1A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60C-5B40-4CF2-9EA2-DDA310B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d6fb"/>
            </a:gs>
            <a:gs pos="100000">
              <a:srgbClr val="a9b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235B-C4ED-49CF-A5A4-66116BA67A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50880" y="1981080"/>
            <a:ext cx="42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姑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858040" y="586728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3"/>
          <p:cNvPicPr/>
          <p:nvPr/>
        </p:nvPicPr>
        <p:blipFill>
          <a:blip r:embed="rId1"/>
          <a:stretch/>
        </p:blipFill>
        <p:spPr>
          <a:xfrm>
            <a:off x="2590920" y="2133720"/>
            <a:ext cx="1881000" cy="190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05"/>
          <p:cNvPicPr/>
          <p:nvPr/>
        </p:nvPicPr>
        <p:blipFill>
          <a:blip r:embed="rId2"/>
          <a:stretch/>
        </p:blipFill>
        <p:spPr>
          <a:xfrm>
            <a:off x="4876920" y="2133720"/>
            <a:ext cx="1854000" cy="19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06"/>
          <p:cNvPicPr/>
          <p:nvPr/>
        </p:nvPicPr>
        <p:blipFill>
          <a:blip r:embed="rId3"/>
          <a:stretch/>
        </p:blipFill>
        <p:spPr>
          <a:xfrm>
            <a:off x="228600" y="2133720"/>
            <a:ext cx="184644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07"/>
          <p:cNvPicPr/>
          <p:nvPr/>
        </p:nvPicPr>
        <p:blipFill>
          <a:blip r:embed="rId4"/>
          <a:stretch/>
        </p:blipFill>
        <p:spPr>
          <a:xfrm>
            <a:off x="7162920" y="2133720"/>
            <a:ext cx="1717560" cy="1828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890640" y="43434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眉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251160" y="43434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镰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523120" y="43480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小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7740720" y="43480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圆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255760" y="211788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眉毛    裁缝    师傅    衣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74840" y="297180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镰刀    可惜   圆盘    漂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55760" y="388620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寸    决定    扣子    吃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7"/>
          <p:cNvPicPr/>
          <p:nvPr/>
        </p:nvPicPr>
        <p:blipFill>
          <a:blip r:embed="rId1"/>
          <a:stretch/>
        </p:blipFill>
        <p:spPr>
          <a:xfrm>
            <a:off x="1111320" y="2362320"/>
            <a:ext cx="1022400" cy="1942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366920" y="333684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60600" y="3429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875040" y="3184560"/>
            <a:ext cx="40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扣子）（    ） 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7"/>
          <p:cNvPicPr/>
          <p:nvPr/>
        </p:nvPicPr>
        <p:blipFill>
          <a:blip r:embed="rId1"/>
          <a:stretch/>
        </p:blipFill>
        <p:spPr>
          <a:xfrm>
            <a:off x="1111320" y="2362320"/>
            <a:ext cx="1022400" cy="1942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366920" y="333684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460600" y="3429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75040" y="3184560"/>
            <a:ext cx="40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连接）（    ） 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258920" y="150804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细的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297400" y="150804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凉凉的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58920" y="316872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弯的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297400" y="316872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胖胖的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58920" y="46324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白的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297400" y="46324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圆的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36200" y="139068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月亮弯弯的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好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的眉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901960" y="2819520"/>
            <a:ext cx="276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月亮圆圆的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好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个大圆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707120" y="4098960"/>
            <a:ext cx="619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好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38440" y="30322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月亮姑娘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188680" y="13716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的眉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413160" y="1371600"/>
            <a:ext cx="304920" cy="3962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995280" y="2460600"/>
            <a:ext cx="342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995280" y="3733920"/>
            <a:ext cx="342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995280" y="4952880"/>
            <a:ext cx="342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2744640"/>
            <a:ext cx="7696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决”的左半部是两点水，不要写成三点水，右边不要写成“央”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左窄右宽，撇为竖撇，撇捺略微舒展，下端平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781800" y="711360"/>
            <a:ext cx="164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裁缝师傅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定给她重做一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572360" y="74304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356520" y="762120"/>
            <a:ext cx="8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fé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93680" y="1136520"/>
            <a:ext cx="7038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眉  扯  裁  缝 傅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70120" y="43927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裳  镰  惜  盘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305000" y="3962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ɑ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516040" y="76212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368520" y="39625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5443920" y="3962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87240" y="76212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8007840" y="7621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7240320" y="396252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d6fb"/>
            </a:gs>
            <a:gs pos="100000">
              <a:srgbClr val="a9b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830A-847E-4584-B399-C8EE6AA18F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90400" y="2178000"/>
            <a:ext cx="796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夜晚，月亮姑娘出来了，细细的、弯弯的，好像小姑娘的眉毛。晚风凉凉的，她扯了一片云儿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p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身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933000" y="1219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2581200" y="4611600"/>
            <a:ext cx="49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80880" y="242244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月亮姑娘想：我还是找裁缝师傅做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j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衣裳吧。裁缝师傅给她量了尺寸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c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让她几天后来取。过了几天，月亮姑娘长胖了一点儿，变得像弯弯的镰刀。衣裳做得非常漂亮，可惜太小了，穿在身上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l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k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u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子也扣不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09480" y="1600200"/>
            <a:ext cx="7925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裁缝师傅</a:t>
            </a:r>
            <a:r>
              <a:rPr b="0" lang="zh-CN" sz="3000" spc="-1" strike="noStrike" u="sng">
                <a:solidFill>
                  <a:srgbClr val="3333cc"/>
                </a:solidFill>
                <a:uFillTx/>
                <a:latin typeface="Arial"/>
                <a:ea typeface="楷体_GB2312"/>
                <a:hlinkClick r:id="rId2" action="ppaction://hlinksldjump"/>
              </a:rPr>
              <a:t>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ju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定给她重做一件，又给她量了尺寸，让她再过几天来取。几天后，月亮姑娘又长胖了一点儿，变得像只弯弯的小船。衣裳做得更漂亮，可惜月亮姑娘连套也套不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90400" y="1828800"/>
            <a:ext cx="796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裁缝师傅涨红了脸，说：“我只好重做。”又是几天过去了，月亮姑娘来取衣裳。裁缝师傅看到月亮姑娘变得像一只圆盘，吃了一惊：“啊，你又长胖了！唉，我没法给你做衣裳了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90400" y="3048120"/>
            <a:ext cx="796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夜晚，月亮姑娘出来了，细细的、弯弯的，好像小姑娘的眉毛。晚风凉凉的，她扯了一片云儿披在身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04920" y="533520"/>
            <a:ext cx="4038480" cy="685800"/>
          </a:xfrm>
          <a:prstGeom prst="wedgeRoundRectCallout">
            <a:avLst>
              <a:gd name="adj1" fmla="val -41194"/>
              <a:gd name="adj2" fmla="val 98148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月亮姑娘为什么没能穿上合适的衣服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715000" y="358128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762120" y="4038480"/>
            <a:ext cx="3809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33000" y="1219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242244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月亮姑娘想：我还是找裁缝师傅做件衣裳吧。裁缝师傅给她量了尺寸，让她几天后来取。过了几天，月亮姑娘长胖了一点儿，变得像弯弯的镰刀。衣裳做得非常漂亮，可惜太小了，穿在身上连扣子也扣不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010280" y="3809880"/>
            <a:ext cx="1447920" cy="18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57200" y="4343400"/>
            <a:ext cx="533520" cy="1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213372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裁缝师傅决定给她重做一件，又给她量了尺寸，让她再过几天来取。几天后，月亮姑娘又长胖了一点儿，变得像只弯弯的小船。衣裳做得更漂亮，可惜月亮姑娘连套也套不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572000" y="3581280"/>
            <a:ext cx="2590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90400" y="2193840"/>
            <a:ext cx="796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裁缝师傅涨红了脸，说：“我只好重做。”又是几天过去了，月亮姑娘来取衣裳。裁缝师傅看到月亮姑娘变得像一只圆盘，吃了一惊：“啊，你又长胖了！唉，我没法给你做衣裳了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4191120" y="36576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57200" y="304920"/>
            <a:ext cx="3505320" cy="1371600"/>
          </a:xfrm>
          <a:prstGeom prst="cloudCallout">
            <a:avLst>
              <a:gd name="adj1" fmla="val -51722"/>
              <a:gd name="adj2" fmla="val 105787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想想，月亮姑娘什么时候能把新衣裳穿好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2:35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02Z</dcterms:modified>
  <cp:revision>1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