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4.png" ContentType="image/png"/>
  <Override PartName="/ppt/media/image23.gif" ContentType="image/gif"/>
  <Override PartName="/ppt/media/image26.png" ContentType="image/pn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0E96-5837-49C9-A755-E332EA192C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9BB-E169-4B90-861B-E5F1811EEA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B7A-FCA6-4CD3-8739-E582539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B9C-9378-4D3B-BBCB-4815AE8C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870-F99D-461D-81F0-60CE0928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F5B-C971-4288-ACD5-3ED2B82B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675-FFD5-4C38-80BC-A14F8B3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EE7-88B2-4C78-9DDD-6B05E58A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4FF-AC73-4D4B-A50A-F9EF7FF4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0E9-3E95-4FBF-9558-A39994EC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0F3-507F-4046-BBAB-8920956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FAC-3643-4E86-B2DA-B47A5E2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FB8-AFFD-466D-BD88-B7C6F8C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E00-E9D3-4B09-A00F-55B4F81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9A8-5F50-437B-A945-6B865D7CC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971640" y="1700280"/>
            <a:ext cx="4680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月 亮 姑 娘</a:t>
            </a:r>
            <a:endParaRPr b="1" i="1" lang="en-US" sz="1800" spc="1" strike="noStrike">
              <a:ln w="9360">
                <a:solidFill>
                  <a:srgbClr val="3333cc"/>
                </a:solidFill>
                <a:round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1821240" y="59961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未标题-2 拷贝"/>
          <p:cNvPicPr/>
          <p:nvPr/>
        </p:nvPicPr>
        <p:blipFill>
          <a:blip r:embed="rId2"/>
          <a:stretch/>
        </p:blipFill>
        <p:spPr>
          <a:xfrm rot="20837400">
            <a:off x="7308720" y="5300640"/>
            <a:ext cx="207648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5"/>
          <p:cNvSpPr/>
          <p:nvPr/>
        </p:nvSpPr>
        <p:spPr>
          <a:xfrm>
            <a:off x="2413080" y="51418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激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揭题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铺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>
            <a:hlinkClick r:id="rId3" action="ppaction://hlinksldjump"/>
          </p:cNvPr>
          <p:cNvSpPr/>
          <p:nvPr/>
        </p:nvSpPr>
        <p:spPr>
          <a:xfrm>
            <a:off x="2700360" y="39178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品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赏析，生情入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3419640" y="14698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拓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本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升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9">
            <a:hlinkClick r:id="rId4" action="ppaction://hlinksldjump"/>
          </p:cNvPr>
          <p:cNvSpPr/>
          <p:nvPr/>
        </p:nvSpPr>
        <p:spPr>
          <a:xfrm>
            <a:off x="3059280" y="26938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总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文，收获新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416520" y="1125360"/>
            <a:ext cx="11552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 读 为 本， 活 化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 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4211640" y="47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说 流 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"/>
                            </p:stCondLst>
                            <p:childTnLst>
                              <p:par>
                                <p:cTn id="11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"/>
                            </p:stCondLst>
                            <p:childTnLst>
                              <p:par>
                                <p:cTn id="11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2"/>
          <p:cNvSpPr/>
          <p:nvPr/>
        </p:nvSpPr>
        <p:spPr>
          <a:xfrm>
            <a:off x="5040360" y="1197000"/>
            <a:ext cx="410364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、想一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月亮姑娘为什么没能穿上合身的衣裳呢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裁缝师傅为月亮姑娘做了几次衣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411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读课文    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6"/>
          <p:cNvPicPr/>
          <p:nvPr/>
        </p:nvPicPr>
        <p:blipFill>
          <a:blip r:embed="rId2"/>
          <a:stretch/>
        </p:blipFill>
        <p:spPr>
          <a:xfrm>
            <a:off x="106200" y="299880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"/>
          <p:cNvPicPr/>
          <p:nvPr/>
        </p:nvPicPr>
        <p:blipFill>
          <a:blip r:embed="rId3"/>
          <a:stretch/>
        </p:blipFill>
        <p:spPr>
          <a:xfrm>
            <a:off x="1763640" y="2492280"/>
            <a:ext cx="1943280" cy="367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"/>
          <p:cNvPicPr/>
          <p:nvPr/>
        </p:nvPicPr>
        <p:blipFill>
          <a:blip r:embed="rId4"/>
          <a:stretch/>
        </p:blipFill>
        <p:spPr>
          <a:xfrm>
            <a:off x="3924360" y="2060640"/>
            <a:ext cx="2303280" cy="439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3"/>
          <p:cNvPicPr/>
          <p:nvPr/>
        </p:nvPicPr>
        <p:blipFill>
          <a:blip r:embed="rId5"/>
          <a:stretch/>
        </p:blipFill>
        <p:spPr>
          <a:xfrm>
            <a:off x="6372360" y="1123920"/>
            <a:ext cx="2700360" cy="5689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2050920" y="7002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本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化课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6200" y="2492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品词赏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124000" y="198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读中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211640" y="1413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中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6"/>
          <p:cNvPicPr/>
          <p:nvPr/>
        </p:nvPicPr>
        <p:blipFill>
          <a:blip r:embed="rId2"/>
          <a:stretch/>
        </p:blipFill>
        <p:spPr>
          <a:xfrm>
            <a:off x="1547640" y="1197000"/>
            <a:ext cx="6409080" cy="4770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 rot="20879400">
            <a:off x="250920" y="25704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读眉毛月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63640" y="5013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晚，月亮姑娘出来了，细细的、弯弯的，好像小姑娘的眉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419640" y="5445000"/>
            <a:ext cx="1152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419640" y="5805360"/>
            <a:ext cx="1800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724480" y="530064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060720" y="530064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2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3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4"/>
          <p:cNvPicPr/>
          <p:nvPr/>
        </p:nvPicPr>
        <p:blipFill>
          <a:blip r:embed="rId2"/>
          <a:stretch/>
        </p:blipFill>
        <p:spPr>
          <a:xfrm>
            <a:off x="1258920" y="1052640"/>
            <a:ext cx="6595920" cy="4925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940360" y="285264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940360" y="505296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403280" y="558972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492360" y="5157720"/>
            <a:ext cx="1295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258920" y="4653000"/>
            <a:ext cx="6622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了几天，月亮姑娘长胖了一点儿，变得像弯弯的镰刀。衣裳做得非常漂亮，可惜太小了，穿上在身上连扣子也扣不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7451640" y="450864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6227640" y="4962600"/>
            <a:ext cx="2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20939400">
            <a:off x="74520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读镰刀月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271600" y="44593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984320" y="4459320"/>
            <a:ext cx="2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2556000" y="4459320"/>
            <a:ext cx="35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2843280" y="44593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580000" y="44593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940360" y="44593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6227640" y="44593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1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2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3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4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5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6"/>
                            </p:stCondLst>
                            <p:childTnLst>
                              <p:par>
                                <p:cTn id="2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"/>
                            </p:stCondLst>
                            <p:childTnLst>
                              <p:par>
                                <p:cTn id="2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"/>
                            </p:stCondLst>
                            <p:childTnLst>
                              <p:par>
                                <p:cTn id="2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"/>
                            </p:stCondLst>
                            <p:childTnLst>
                              <p:par>
                                <p:cTn id="2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"/>
                            </p:stCondLst>
                            <p:childTnLst>
                              <p:par>
                                <p:cTn id="2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90560" y="1773360"/>
            <a:ext cx="835344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品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找一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赏析描写月亮姑娘样子的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画一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品读词语，了解月亮姑娘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赏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比一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寻求月亮姑娘的变化原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读一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揣摩人物说话的语气、体验情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948360" y="58831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后 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9640" y="525600"/>
            <a:ext cx="928872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凡为教者必期于达到不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叶圣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1125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先 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5"/>
          <p:cNvPicPr/>
          <p:nvPr/>
        </p:nvPicPr>
        <p:blipFill>
          <a:blip r:embed="rId2"/>
          <a:stretch/>
        </p:blipFill>
        <p:spPr>
          <a:xfrm>
            <a:off x="1547640" y="1125360"/>
            <a:ext cx="6453360" cy="4903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050920" y="508464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3635280" y="5229360"/>
            <a:ext cx="1295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771640" y="5661000"/>
            <a:ext cx="158436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92360" y="4797360"/>
            <a:ext cx="61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天后，月亮姑娘又长胖了一点儿，变得像只弯弯的小船。衣裳做得更漂亮，可惜月亮姑娘连套也套不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 rot="21072000">
            <a:off x="106200" y="26028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读小船月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3"/>
          <p:cNvPicPr/>
          <p:nvPr/>
        </p:nvPicPr>
        <p:blipFill>
          <a:blip r:embed="rId2"/>
          <a:stretch/>
        </p:blipFill>
        <p:spPr>
          <a:xfrm>
            <a:off x="826920" y="1125360"/>
            <a:ext cx="7029720" cy="4969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826920" y="4149720"/>
            <a:ext cx="7129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是几天过去了，月亮姑娘来取衣裳。裁缝师傅看到月亮姑娘变得像一只圆盘，吃了一惊：“啊，你又长胖了？ 唉，我没法给你做衣裳了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" y="551664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7166160" y="4727520"/>
            <a:ext cx="333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637080" y="47656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995640" y="530064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835280" y="5300640"/>
            <a:ext cx="12254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868840" y="522936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 rot="21016800">
            <a:off x="106200" y="2566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读圆盘月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619280" y="213372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908000" y="227664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亮姑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篇课文，我们知道了：月亮姑娘有时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时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时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有时像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她在不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47640" y="38577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镰  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788000" y="3857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  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580000" y="314172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眉  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11600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圆  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916360" y="692280"/>
            <a:ext cx="50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3651480" y="62712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全文  收获新知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643280" y="45784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变  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y1"/>
          <p:cNvPicPr/>
          <p:nvPr/>
        </p:nvPicPr>
        <p:blipFill>
          <a:blip r:embed="rId2"/>
          <a:stretch/>
        </p:blipFill>
        <p:spPr>
          <a:xfrm>
            <a:off x="1835280" y="3273480"/>
            <a:ext cx="381636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3"/>
          <p:cNvPicPr/>
          <p:nvPr/>
        </p:nvPicPr>
        <p:blipFill>
          <a:blip r:embed="rId3"/>
          <a:stretch/>
        </p:blipFill>
        <p:spPr>
          <a:xfrm>
            <a:off x="380880" y="6400800"/>
            <a:ext cx="8763120" cy="24444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>
            <a:off x="1692360" y="59500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4997520" y="59500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440960" y="5330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6" descr="蝴蝶1"/>
          <p:cNvPicPr/>
          <p:nvPr/>
        </p:nvPicPr>
        <p:blipFill>
          <a:blip r:embed="rId4"/>
          <a:stretch/>
        </p:blipFill>
        <p:spPr>
          <a:xfrm>
            <a:off x="6372360" y="3390840"/>
            <a:ext cx="576000" cy="46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蝴蝶1"/>
          <p:cNvPicPr/>
          <p:nvPr/>
        </p:nvPicPr>
        <p:blipFill>
          <a:blip r:embed="rId5"/>
          <a:stretch/>
        </p:blipFill>
        <p:spPr>
          <a:xfrm>
            <a:off x="5221440" y="4067280"/>
            <a:ext cx="71892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8" descr="蝴蝶1"/>
          <p:cNvPicPr/>
          <p:nvPr/>
        </p:nvPicPr>
        <p:blipFill>
          <a:blip r:embed="rId6"/>
          <a:stretch/>
        </p:blipFill>
        <p:spPr>
          <a:xfrm>
            <a:off x="5508720" y="4700520"/>
            <a:ext cx="649080" cy="52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蝴蝶1"/>
          <p:cNvPicPr/>
          <p:nvPr/>
        </p:nvPicPr>
        <p:blipFill>
          <a:blip r:embed="rId7"/>
          <a:stretch/>
        </p:blipFill>
        <p:spPr>
          <a:xfrm>
            <a:off x="5796000" y="3645000"/>
            <a:ext cx="576360" cy="469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蝴蝶1"/>
          <p:cNvPicPr/>
          <p:nvPr/>
        </p:nvPicPr>
        <p:blipFill>
          <a:blip r:embed="rId8"/>
          <a:stretch/>
        </p:blipFill>
        <p:spPr>
          <a:xfrm>
            <a:off x="6732720" y="2924280"/>
            <a:ext cx="576000" cy="46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蝴蝶1"/>
          <p:cNvPicPr/>
          <p:nvPr/>
        </p:nvPicPr>
        <p:blipFill>
          <a:blip r:embed="rId9"/>
          <a:stretch/>
        </p:blipFill>
        <p:spPr>
          <a:xfrm>
            <a:off x="6156360" y="4195800"/>
            <a:ext cx="649080" cy="528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4"/>
          <p:cNvSpPr/>
          <p:nvPr/>
        </p:nvSpPr>
        <p:spPr>
          <a:xfrm>
            <a:off x="2771640" y="484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仿说比喻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2195640" y="141300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弯弯的月亮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圆圆的月亮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6"/>
          <p:cNvSpPr/>
          <p:nvPr/>
        </p:nvSpPr>
        <p:spPr>
          <a:xfrm>
            <a:off x="4859280" y="1916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9"/>
          <p:cNvSpPr/>
          <p:nvPr/>
        </p:nvSpPr>
        <p:spPr>
          <a:xfrm>
            <a:off x="4859280" y="263700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1"/>
          <p:cNvSpPr/>
          <p:nvPr/>
        </p:nvSpPr>
        <p:spPr>
          <a:xfrm>
            <a:off x="2155680" y="11253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1"/>
                            </p:stCondLst>
                            <p:childTnLst>
                              <p:par>
                                <p:cTn id="3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2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908000" y="692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说 课 内 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116000" y="21178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、走进文本，研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教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90560" y="35575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、优化组合，和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定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56000" y="42782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四、以读为本，活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课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916360" y="49975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五、图文并茂，设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板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906560" y="28386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二、以生为本，关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学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0"/>
                            </p:stCondLst>
                            <p:childTnLst>
                              <p:par>
                                <p:cTn id="1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80"/>
                            </p:stCondLst>
                            <p:childTnLst>
                              <p:par>
                                <p:cTn id="2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3844800" y="5493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月亮姑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10880" y="3789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眉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3566520" y="3789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镰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228640" y="3716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870600" y="3716280"/>
            <a:ext cx="13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 flipV="1">
            <a:off x="1474920" y="4652640"/>
            <a:ext cx="6913440" cy="73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1401840" y="4869000"/>
            <a:ext cx="6842160" cy="727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3193200" y="49417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 断 变 化 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 flipH="1">
            <a:off x="2815560" y="1697400"/>
            <a:ext cx="1311120" cy="9518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4166280" y="1778040"/>
            <a:ext cx="611280" cy="9954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5342400" y="1734120"/>
            <a:ext cx="473760" cy="10134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6298560" y="1786320"/>
            <a:ext cx="834840" cy="954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5" descr="月1"/>
          <p:cNvPicPr/>
          <p:nvPr/>
        </p:nvPicPr>
        <p:blipFill>
          <a:blip r:embed="rId2"/>
          <a:stretch/>
        </p:blipFill>
        <p:spPr>
          <a:xfrm rot="20983800">
            <a:off x="1042560" y="2349000"/>
            <a:ext cx="2016360" cy="23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月2"/>
          <p:cNvPicPr/>
          <p:nvPr/>
        </p:nvPicPr>
        <p:blipFill>
          <a:blip r:embed="rId3"/>
          <a:stretch/>
        </p:blipFill>
        <p:spPr>
          <a:xfrm>
            <a:off x="3635280" y="2852640"/>
            <a:ext cx="79236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月3"/>
          <p:cNvPicPr/>
          <p:nvPr/>
        </p:nvPicPr>
        <p:blipFill>
          <a:blip r:embed="rId4"/>
          <a:stretch/>
        </p:blipFill>
        <p:spPr>
          <a:xfrm rot="4248600">
            <a:off x="4901760" y="2523960"/>
            <a:ext cx="2041560" cy="16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月4"/>
          <p:cNvPicPr/>
          <p:nvPr/>
        </p:nvPicPr>
        <p:blipFill>
          <a:blip r:embed="rId5"/>
          <a:stretch/>
        </p:blipFill>
        <p:spPr>
          <a:xfrm>
            <a:off x="6659640" y="2492280"/>
            <a:ext cx="2016000" cy="1452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0"/>
          <p:cNvSpPr/>
          <p:nvPr/>
        </p:nvSpPr>
        <p:spPr>
          <a:xfrm>
            <a:off x="0" y="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说板书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8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385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800"/>
                            </p:stCondLst>
                            <p:childTnLst>
                              <p:par>
                                <p:cTn id="44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1AFB-E59D-4773-8008-268488E13D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图片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20085281949628311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00520" y="1125360"/>
            <a:ext cx="11552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 进 文 本， 研 读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 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7af1b9ed5cbc975a78f0559c"/>
          <p:cNvPicPr/>
          <p:nvPr/>
        </p:nvPicPr>
        <p:blipFill>
          <a:blip r:embed="rId3"/>
          <a:stretch/>
        </p:blipFill>
        <p:spPr>
          <a:xfrm>
            <a:off x="6227640" y="6208560"/>
            <a:ext cx="648000" cy="64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7af1b9ed5cbc975a78f0559c"/>
          <p:cNvPicPr/>
          <p:nvPr/>
        </p:nvPicPr>
        <p:blipFill>
          <a:blip r:embed="rId4"/>
          <a:stretch/>
        </p:blipFill>
        <p:spPr>
          <a:xfrm>
            <a:off x="6877080" y="6237360"/>
            <a:ext cx="647640" cy="62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1835280" y="404640"/>
            <a:ext cx="4105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教材简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亮姑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湘教版小学语文二年级上册第八单元的一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科学童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本单元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我们身边的科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主题，重点训练课文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朗读感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激发孩子们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探索科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欲望。这篇课文写的是裁缝师傅为月亮姑娘做衣裳，但由于月亮姑娘的身材在不断变化，所以她一直没能穿上合身的衣裳。课文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童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形式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拟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手法，寓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科学常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于形象的故事之中，语言充满童真童趣，深受孩子们的喜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95280" y="40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说教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图片1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图片4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908000" y="333360"/>
            <a:ext cx="39592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三维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知识目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用“月亮姑娘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0" lang="zh-CN" sz="20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比喻句式练习口语，明白月亮姑娘没能穿上合身衣裳的原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能力目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正确、流利、有感情地朗读课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培养学生的朗读能力、想象能力及口头表达能力。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情感态度、价值观目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读中感受语言的美，初步培养学生用发展的眼光看待问题，激发学生从小爱科学、学科学的兴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0520" y="1197000"/>
            <a:ext cx="11552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 进 文 本，研 读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 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7af1b9ed5cbc975a78f0559c"/>
          <p:cNvPicPr/>
          <p:nvPr/>
        </p:nvPicPr>
        <p:blipFill>
          <a:blip r:embed="rId3"/>
          <a:stretch/>
        </p:blipFill>
        <p:spPr>
          <a:xfrm>
            <a:off x="5940360" y="6281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7af1b9ed5cbc975a78f0559c"/>
          <p:cNvPicPr/>
          <p:nvPr/>
        </p:nvPicPr>
        <p:blipFill>
          <a:blip r:embed="rId4"/>
          <a:stretch/>
        </p:blipFill>
        <p:spPr>
          <a:xfrm>
            <a:off x="665964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图片4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0520" y="1125360"/>
            <a:ext cx="11552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 进 文 本， 研 读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 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979640" y="476280"/>
            <a:ext cx="396072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学会品读课文中的优美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了解月亮圆缺变化的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教学难点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探究月亮姑娘没能穿上合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衣裳的经过、原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7af1b9ed5cbc975a78f0559c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6281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7af1b9ed5cbc975a78f0559c"/>
          <p:cNvPicPr/>
          <p:nvPr/>
        </p:nvPicPr>
        <p:blipFill>
          <a:blip r:embed="rId5"/>
          <a:stretch/>
        </p:blipFill>
        <p:spPr>
          <a:xfrm>
            <a:off x="6877080" y="6281640"/>
            <a:ext cx="719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图片4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1800" y="1197000"/>
            <a:ext cx="11552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 生 为 本，关 注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 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835280" y="1929600"/>
            <a:ext cx="4105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说学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于二年级上期学生来说，语文学习已具备一定的基础。但以往，教师一直把低年级的教学重点定位在识字教学上，对阅读教学关注并不多，所以，学生对语言文字的感悟理解能力比较薄弱。此外，他们又有着对天文科学强烈的神秘感和好奇心，对动画、声、像等视听资源特别有兴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因此，在教学过程中，教师力以饱满的情感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感受童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以生动的语言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激发童趣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利用直观形象、富有感染力的信息资源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整合课件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引导学生以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积极主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学习状态走进文本、走进科学，从而营造一种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轻松愉快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课堂氛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7af1b9ed5cbc975a78f0559c"/>
          <p:cNvPicPr/>
          <p:nvPr/>
        </p:nvPicPr>
        <p:blipFill>
          <a:blip r:embed="rId3"/>
          <a:stretch/>
        </p:blipFill>
        <p:spPr>
          <a:xfrm>
            <a:off x="6300720" y="6281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7af1b9ed5cbc975a78f0559c"/>
          <p:cNvPicPr/>
          <p:nvPr/>
        </p:nvPicPr>
        <p:blipFill>
          <a:blip r:embed="rId4"/>
          <a:stretch/>
        </p:blipFill>
        <p:spPr>
          <a:xfrm>
            <a:off x="6948360" y="6281640"/>
            <a:ext cx="719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1"/>
          <p:cNvPicPr/>
          <p:nvPr/>
        </p:nvPicPr>
        <p:blipFill>
          <a:blip r:embed="rId1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图片4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00520" y="1125360"/>
            <a:ext cx="11552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优 化 组 合， 和 谐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 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979640" y="476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说教法学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7af1b9ed5cbc975a78f0559c"/>
          <p:cNvPicPr/>
          <p:nvPr/>
        </p:nvPicPr>
        <p:blipFill>
          <a:blip r:embed="rId3"/>
          <a:stretch/>
        </p:blipFill>
        <p:spPr>
          <a:xfrm>
            <a:off x="6156360" y="6281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af1b9ed5cbc975a78f0559c"/>
          <p:cNvPicPr/>
          <p:nvPr/>
        </p:nvPicPr>
        <p:blipFill>
          <a:blip r:embed="rId4"/>
          <a:stretch/>
        </p:blipFill>
        <p:spPr>
          <a:xfrm>
            <a:off x="6804000" y="628164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"/>
          <p:cNvSpPr/>
          <p:nvPr/>
        </p:nvSpPr>
        <p:spPr>
          <a:xfrm>
            <a:off x="2700360" y="1989000"/>
            <a:ext cx="280836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谈话激趣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情境创设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中感悟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主合作探究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08616139692_2"/>
          <p:cNvPicPr/>
          <p:nvPr/>
        </p:nvPicPr>
        <p:blipFill>
          <a:blip r:embed="rId1"/>
          <a:stretch/>
        </p:blipFill>
        <p:spPr>
          <a:xfrm>
            <a:off x="5219640" y="0"/>
            <a:ext cx="42292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0085281949628311"/>
          <p:cNvPicPr/>
          <p:nvPr/>
        </p:nvPicPr>
        <p:blipFill>
          <a:blip r:embed="rId2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7af1b9ed5cbc975a78f0559c"/>
          <p:cNvPicPr/>
          <p:nvPr/>
        </p:nvPicPr>
        <p:blipFill>
          <a:blip r:embed="rId3"/>
          <a:stretch/>
        </p:blipFill>
        <p:spPr>
          <a:xfrm>
            <a:off x="6877080" y="6121440"/>
            <a:ext cx="71928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7af1b9ed5cbc975a78f0559c"/>
          <p:cNvPicPr/>
          <p:nvPr/>
        </p:nvPicPr>
        <p:blipFill>
          <a:blip r:embed="rId4"/>
          <a:stretch/>
        </p:blipFill>
        <p:spPr>
          <a:xfrm>
            <a:off x="6227640" y="6192720"/>
            <a:ext cx="71928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179280" y="1484280"/>
            <a:ext cx="172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979640" y="1197720"/>
            <a:ext cx="4321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教学环境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媒体教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教学资源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景音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资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字与图片资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渐变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S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关月球的视频短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-4320" y="1052640"/>
            <a:ext cx="1277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 本 教 材 与 信 息 技 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263240" y="1557360"/>
            <a:ext cx="729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 合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56000" y="162864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771640" y="1125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充分利用多媒体手段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视频文件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S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画、光盘等多种信息资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巧妙地将语文与艺术、语文与科学有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，精心制作教学课件，直观形象地创设课堂情境，从而让学生们自然融入到意境中去，思想产生共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319840" y="1557360"/>
            <a:ext cx="667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学 海 无 涯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乐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作 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496560" y="1557360"/>
            <a:ext cx="66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书 山 有 路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趣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为 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922560" y="404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说 流 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7af1b9ed5cbc975a78f0559c"/>
          <p:cNvPicPr/>
          <p:nvPr/>
        </p:nvPicPr>
        <p:blipFill>
          <a:blip r:embed="rId2"/>
          <a:stretch/>
        </p:blipFill>
        <p:spPr>
          <a:xfrm>
            <a:off x="7740720" y="6165720"/>
            <a:ext cx="718920" cy="6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7af1b9ed5cbc975a78f0559c"/>
          <p:cNvPicPr/>
          <p:nvPr/>
        </p:nvPicPr>
        <p:blipFill>
          <a:blip r:embed="rId3"/>
          <a:stretch/>
        </p:blipFill>
        <p:spPr>
          <a:xfrm>
            <a:off x="8389800" y="6165720"/>
            <a:ext cx="7192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2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4:57Z</dcterms:modified>
  <cp:revision>4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