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5.jpeg" ContentType="image/jpeg"/>
  <Override PartName="/ppt/media/image8.jpeg" ContentType="image/jpeg"/>
  <Override PartName="/ppt/media/image10.jpeg" ContentType="image/jpeg"/>
  <Override PartName="/ppt/media/image4.png" ContentType="image/png"/>
  <Override PartName="/ppt/media/laser.wav" ContentType="audio/x-wav"/>
  <Override PartName="/ppt/media/image13.jpeg" ContentType="image/jpeg"/>
  <Override PartName="/ppt/media/image12.jpeg" ContentType="image/jpeg"/>
  <Override PartName="/ppt/media/camera.wav" ContentType="audio/x-wav"/>
  <Override PartName="/ppt/media/image7.jpeg" ContentType="image/jpeg"/>
  <Override PartName="/ppt/media/image1.jpeg" ContentType="image/jpeg"/>
  <Override PartName="/ppt/media/chimes.wav" ContentType="audio/x-wav"/>
  <Override PartName="/ppt/media/image6.jpeg" ContentType="image/jpeg"/>
  <Override PartName="/ppt/media/breeze.wav" ContentType="audio/x-wav"/>
  <Override PartName="/ppt/media/image11.jpeg" ContentType="image/jpeg"/>
  <Override PartName="/ppt/media/image9.jpeg" ContentType="image/jpeg"/>
  <Override PartName="/ppt/media/push.wav" ContentType="audio/x-wav"/>
  <Override PartName="/ppt/media/image2.jpeg" ContentType="image/jpeg"/>
  <Override PartName="/ppt/media/image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CB24-6A66-446A-AB30-5C6BBD9EC3A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21AA-9FE9-4F75-B018-2BE8124E651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5DA2F-521A-4C28-BCC2-5ED186F5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D7DF0-2938-461B-9A47-CE02677A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B85DF-52E0-47B4-A611-8719BDBD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F7084-B7BD-4F66-A6AA-DC11A8BD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823CD-4635-4912-AF91-F263399A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27E8C-7EEF-4F2A-B7A1-42840E85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AEB7B-3509-4E97-A3B1-C45AD3E0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DAC21-6204-4749-90C1-EBC942944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5E988-6622-46C4-83FE-3F2D71F83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3D37E-F1A9-436A-8E32-2DFC3BC4A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7FFB4-62D5-43EE-849C-E0591E96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F69FB-19E7-48DD-9EC6-55A6CE83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EF2A0-E808-420D-8B90-32DB47DE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33CED-1453-4261-9E21-57F739D3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895EA-A914-41AA-A4A7-0519DD47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6A7D0-2470-46E0-94BD-436B464E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CED4D-0EF1-47F5-9A2C-B88C64EA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B6E76-8E4E-4F74-AD29-8E7AB413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27559-FFCB-42D5-8925-D5B89FD6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B370B-69A5-4260-86F6-B07186D3D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632B2-5A1E-4C23-A461-E8F76D58C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5B524-D28B-4732-B166-7B131EA7B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52702-4D37-4EEB-9430-8294579E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6736C-7321-446E-9BE9-02392AD7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37DFC-C5D2-4B6D-9847-8D6A0A2F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3ED47-570E-48DB-B52E-77C1B94A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D8129-A5BD-4EE5-A418-D6BEC449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971B3-BFA5-4FFE-898C-5C7EAC95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B3D53-F2E4-4633-AD03-4FAF9D2F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D3DEA-1872-45BA-B3FD-FDDB1E36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D413C-A6CC-4C17-AEB0-93A73949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C7E43-4788-4902-8B3E-23C24CCCF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759F0-9CB8-44A8-A9BD-85BFEFCA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F1D6E-394A-4EA6-B1E8-A158B94D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78DAD-7919-42CC-A660-3C03017D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CF78A-49F2-422B-8DAC-0B144ABD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0E2C0-3854-4030-A920-FC411FAE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16CCF1-080A-4959-A7BA-7129D642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41BD2-5F6A-4C47-9167-6B555EDA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BE96D0-6745-40A9-9825-CA92157C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650EC-6B73-440A-9BCE-F644AB61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798724-726F-4308-BB14-E97F55E7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CD07C-18E4-4F91-AB5C-51D8B485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C5D4D7-AA99-4F21-8C48-B51272658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3B56F-844B-4963-855F-9DB3E127C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FA5D-09B8-4101-90B0-5A97828B1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43F7-88C0-4522-8ABD-96BED22C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0664-9F1C-4C0F-A5AF-6B520F2E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B817-99E6-4722-9919-97018777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813A-21BE-4971-BADB-05B05FE9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F6C4-D9C0-4905-94C6-0EAAB896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D7AF-B032-4F9C-849F-F4692105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DF9F-54F0-4272-B14C-5DD44933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9765-121E-4F6C-9F1D-622AAC01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2293-8263-4F26-BD1B-F110E5D7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1931-3A11-445D-B936-804D6FE9C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5D2F-98C5-4BE1-BA21-3D27B6DB2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0E9C-AE7D-4AF2-8BC0-A2AE8624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3760-3260-4772-B2E6-5126D4D0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DFF9-1E17-469A-BC4C-1671D248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1D85-2A43-4228-AAE1-1DB4B43B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07D9-5099-4BE3-B25E-B64FBE34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91D9-3736-40A1-B6CA-8BA868AB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2DCE-F955-4F51-914A-C28FDD6D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739B-9947-4DDB-8974-25700FFC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5DB4-7D02-4CE8-B0B9-66879FD2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617E-5B1C-4958-B7B4-86B0DEA7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C8EA-8F16-4C7D-A501-F89EFEA9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BFB8-E2FC-4D6B-8E7C-CC447184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346FF-9748-46A8-89E2-DA4E0E13B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56714-A3B4-47EB-ACEF-61945188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1558C-68EE-49DF-80A7-D001BB2A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34B53-FF6C-40FE-B815-C42E9406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D5DB8-ACAF-45E4-BE3B-BF1FCA66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B24AC-FB7A-42B1-B534-38ECF696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DE203-0B56-4838-B95D-4101CDB3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F7975-D435-4843-BDBA-CF6C86C2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EAD15-254A-408E-8F57-4E5F45CF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06D68-E17B-474F-8B94-009233BA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F4ABC-345D-4988-9506-694A87B20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12940-089A-42A6-B828-F0E3718A4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68520-5D35-4ED5-835D-5D81BF71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F8764-B938-49F9-8C23-6ACCE897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55326-C168-4E36-ACFC-CD5081C0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3E524-511E-435B-A6FF-363B3B09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268DB-B48C-45AA-9883-EE5CEA97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1C6DF-C9BA-4A2F-842F-040476F0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B8C92-E384-41E4-97A9-B70B150B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3843E-8415-4700-A002-B637FB82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6AC2B-08DC-4360-B86B-C7402E7F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DE627-8F25-4D81-9D0C-FBE2F7FB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B3976-9043-4143-A97A-7AB5D1E5D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C2713-8316-4BF2-B6C6-AFE85A07A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4A2B5-E130-4AEA-AFF2-D2709580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61ABD-FF19-45B3-AEB6-133EBF2B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C1F92-498A-4394-9218-A93FBCDE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76A53-3FD3-40DA-9011-E6DDF671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3581B-A4B5-4E85-8BB3-B8A48EC4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FB727-CEE4-4C4F-BF92-E9C842B6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F32B9-7B50-4FDF-8D70-A1787C52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34BB3-F403-4A8B-9099-F6F8FFAC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EBECA-B37C-47AF-9C34-1C29B114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5D7A9-C869-4282-A6A1-037CBA97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26F9B-2604-49F3-AC6C-8F22358CF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1ED01-E373-4878-A00B-0BED6804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71FF1-CCD5-4FCE-AC26-33D9AC53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33054-13BE-4A81-8B36-8D02F30D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3BE8C-9A75-4C56-AD7D-0E60CE84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FFBBF-00C6-471D-A636-B63751F3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9D583-9C46-4340-A6D8-4AFB8EBA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D2066-20F9-4DC1-8688-8769D297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13B03-CC2D-4DA5-89CE-3FF671AD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AD284-4EB8-4D0E-BA5D-DA076C0D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A208A-E3A0-44E2-A7B1-79FDAEF5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D3AD4-5852-4CA2-9032-F8D41172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B3295-B324-4E4C-AAD0-B3C0324A2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F9C15-8ABC-4A71-9F9C-1C2A1C471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9EA8A-A77F-43F8-AF1A-3182FFFA9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C99C1-C8B3-446C-B627-8F4843F7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7B15D-9007-4174-9235-FAFB418B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dt" idx="22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ftr" idx="23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24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E74A-9F76-46D4-845C-2186F0CB9E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dt" idx="25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ftr" idx="26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sldNum" idx="27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7904-5F2C-4FAE-A77A-3B4B8A76AC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dt" idx="28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ftr" idx="29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30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B1B8-AA5E-4096-BFEF-A49EC722B0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B2F7-1002-4BBB-81AA-D8E165FED9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E60C-AC60-4B43-8CEE-B38BB74536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dt" idx="7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8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9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0086-09B0-4462-A557-66D2604716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dt" idx="10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ftr" idx="11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12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6E2C-11B6-40FA-98F6-DD886A4418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dt" idx="13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ftr" idx="14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5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7F6A-1544-43A3-9547-DD3CE5F7C9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dt" idx="16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ftr" idx="17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18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CE46-C839-4D87-8D45-8C37C54511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dt" idx="19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ftr" idx="20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Num" idx="21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C8A1-1201-4153-A57E-808E0EE071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breeze.wav"/><Relationship Id="rId12" Type="http://schemas.openxmlformats.org/officeDocument/2006/relationships/audio" Target="../media/breeze.wav"/><Relationship Id="rId13" Type="http://schemas.openxmlformats.org/officeDocument/2006/relationships/audio" Target="../media/breeze.wav"/><Relationship Id="rId1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2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矩形 1"/>
          <p:cNvSpPr/>
          <p:nvPr/>
        </p:nvSpPr>
        <p:spPr>
          <a:xfrm>
            <a:off x="2639880" y="3213000"/>
            <a:ext cx="420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00000"/>
                </a:solidFill>
                <a:latin typeface="华文新魏"/>
                <a:ea typeface="华文新魏"/>
              </a:rPr>
              <a:t>袁隆平访谈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3"/>
          <p:cNvSpPr/>
          <p:nvPr/>
        </p:nvSpPr>
        <p:spPr>
          <a:xfrm>
            <a:off x="1856880" y="5732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0743-E68C-4E05-AD7B-3BC1FF9B69D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603360" y="1052640"/>
            <a:ext cx="85406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63636"/>
                </a:solidFill>
                <a:latin typeface="Verdana"/>
              </a:rPr>
              <a:t>读一读，认一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严峻（    ）    偏僻（    ）      挫（     ）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抽穗（    ）    稻杆（    ）      拍摄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领域（    ）    老骥（    ）伏枥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"/>
          <p:cNvSpPr/>
          <p:nvPr/>
        </p:nvSpPr>
        <p:spPr>
          <a:xfrm>
            <a:off x="2124000" y="335772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su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2124000" y="227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2340000" y="2492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6"/>
          <p:cNvSpPr/>
          <p:nvPr/>
        </p:nvSpPr>
        <p:spPr>
          <a:xfrm>
            <a:off x="2484360" y="62064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7"/>
          <p:cNvSpPr/>
          <p:nvPr/>
        </p:nvSpPr>
        <p:spPr>
          <a:xfrm>
            <a:off x="2124000" y="2324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jù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8"/>
          <p:cNvSpPr/>
          <p:nvPr/>
        </p:nvSpPr>
        <p:spPr>
          <a:xfrm>
            <a:off x="4788000" y="2205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p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9"/>
          <p:cNvSpPr/>
          <p:nvPr/>
        </p:nvSpPr>
        <p:spPr>
          <a:xfrm>
            <a:off x="7020000" y="2205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cu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0"/>
          <p:cNvSpPr/>
          <p:nvPr/>
        </p:nvSpPr>
        <p:spPr>
          <a:xfrm>
            <a:off x="4643280" y="3429000"/>
            <a:ext cx="12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gǎ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1"/>
          <p:cNvSpPr/>
          <p:nvPr/>
        </p:nvSpPr>
        <p:spPr>
          <a:xfrm>
            <a:off x="7575480" y="3357720"/>
            <a:ext cx="8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sh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2"/>
          <p:cNvSpPr/>
          <p:nvPr/>
        </p:nvSpPr>
        <p:spPr>
          <a:xfrm>
            <a:off x="2195640" y="45655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y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3"/>
          <p:cNvSpPr/>
          <p:nvPr/>
        </p:nvSpPr>
        <p:spPr>
          <a:xfrm>
            <a:off x="4861080" y="45435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j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4"/>
          <p:cNvSpPr/>
          <p:nvPr/>
        </p:nvSpPr>
        <p:spPr>
          <a:xfrm>
            <a:off x="7145280" y="4616280"/>
            <a:ext cx="6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l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2" descr="C:\Users\Administrator\Desktop\新建文件夹 (2)\)I_{BAM9CX2{T]L]TZ]LW9Q.jpg"/>
          <p:cNvPicPr/>
          <p:nvPr/>
        </p:nvPicPr>
        <p:blipFill>
          <a:blip r:embed="rId1"/>
          <a:stretch/>
        </p:blipFill>
        <p:spPr>
          <a:xfrm>
            <a:off x="-14001840" y="6072120"/>
            <a:ext cx="9144000" cy="18576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3" descr="C:\Users\Administrator\AppData\Roaming\Tencent\Users\278856858\QQ\WinTemp\RichOle\~I9`Z]WNV2I`OX[]O_KJ8HW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8" name="17袁隆平访谈录 00_00_06-00_04_58.mp3" descr=""/>
          <p:cNvPicPr/>
          <p:nvPr/>
        </p:nvPicPr>
        <p:blipFill>
          <a:blip r:embed="rId3"/>
          <a:stretch/>
        </p:blipFill>
        <p:spPr>
          <a:xfrm>
            <a:off x="428760" y="6286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4" descr="C:\Users\Administrator\Desktop\新建文件夹 (2)\)I_{BAM9CX2{T]L]TZ]LW9Q.jpg"/>
          <p:cNvPicPr/>
          <p:nvPr/>
        </p:nvPicPr>
        <p:blipFill>
          <a:blip r:embed="rId4"/>
          <a:stretch/>
        </p:blipFill>
        <p:spPr>
          <a:xfrm>
            <a:off x="0" y="0"/>
            <a:ext cx="9299520" cy="68580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5" descr="C:\Users\Administrator\Desktop\3P0M90NOUY~VHOMX}6BZ818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6" descr="C:\Users\Administrator\Desktop\新建文件夹 (2)\BXIEU59(`IX(WK@JNM_{_2N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4" descr="u=636855935,565419349&amp;fm=52&amp;gp=0"/>
          <p:cNvPicPr/>
          <p:nvPr/>
        </p:nvPicPr>
        <p:blipFill>
          <a:blip r:embed="rId7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8" descr="C:\Users\Administrator\Desktop\YASXQHIGNK@UM%8P$CV$0UR.jpg"/>
          <p:cNvPicPr/>
          <p:nvPr/>
        </p:nvPicPr>
        <p:blipFill>
          <a:blip r:embed="rId8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9" descr="C:\Users\Administrator\Desktop\[GGT64NO32B$RTQO)BTA$VM.jpg"/>
          <p:cNvPicPr/>
          <p:nvPr/>
        </p:nvPicPr>
        <p:blipFill>
          <a:blip r:embed="rId9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0" descr="C:\Users\Administrator\Desktop\新建文件夹 (2)\M@QVMWX304SP4MLA%O]5){H.jpg"/>
          <p:cNvPicPr/>
          <p:nvPr/>
        </p:nvPicPr>
        <p:blipFill>
          <a:blip r:embed="rId10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1" descr="C:\Users\Administrator\Desktop\3JUB}V)S02)1T[FP$DK}D_W.jpg"/>
          <p:cNvPicPr/>
          <p:nvPr/>
        </p:nvPicPr>
        <p:blipFill>
          <a:blip r:embed="rId1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12" descr="C:\Users\Administrator\Desktop\9XKR9JV3R459Y8EIN(EVT@M.jpg"/>
          <p:cNvPicPr/>
          <p:nvPr/>
        </p:nvPicPr>
        <p:blipFill>
          <a:blip r:embed="rId12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3" descr="C:\Users\Administrator\Desktop\新建文件夹 (2)\JR77BZE1GK@69}4@LU229%U.jpg"/>
          <p:cNvPicPr/>
          <p:nvPr/>
        </p:nvPicPr>
        <p:blipFill>
          <a:blip r:embed="rId13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" fill="hold"/>
                                        <p:tgtEl>
                                          <p:spTgt spid="4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2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57160" y="642960"/>
            <a:ext cx="21672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e40000"/>
                </a:solidFill>
                <a:latin typeface="Arial"/>
              </a:rPr>
              <a:t>思考</a:t>
            </a:r>
            <a:r>
              <a:rPr b="1" lang="en-US" sz="4600" spc="-1" strike="noStrike">
                <a:solidFill>
                  <a:srgbClr val="e40000"/>
                </a:solidFill>
                <a:latin typeface="Arial"/>
              </a:rPr>
              <a:t>1</a:t>
            </a:r>
            <a:r>
              <a:rPr b="1" lang="zh-CN" sz="4600" spc="-1" strike="noStrike">
                <a:solidFill>
                  <a:srgbClr val="e40000"/>
                </a:solidFill>
                <a:latin typeface="Arial"/>
              </a:rPr>
              <a:t>：</a:t>
            </a:r>
            <a:endParaRPr b="0" lang="en-US" sz="4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539280" y="1844640"/>
            <a:ext cx="51339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章在形式上有什么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5"/>
          <p:cNvSpPr/>
          <p:nvPr/>
        </p:nvSpPr>
        <p:spPr>
          <a:xfrm>
            <a:off x="611280" y="2565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文章是访谈录，记录了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采访的过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采用的是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问答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1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2183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e40000"/>
                </a:solidFill>
                <a:latin typeface="Arial"/>
              </a:rPr>
              <a:t>思考</a:t>
            </a:r>
            <a:r>
              <a:rPr b="1" lang="en-US" sz="4200" spc="-1" strike="noStrike">
                <a:solidFill>
                  <a:srgbClr val="e40000"/>
                </a:solidFill>
                <a:latin typeface="Arial"/>
              </a:rPr>
              <a:t>2</a:t>
            </a:r>
            <a:r>
              <a:rPr b="0" lang="zh-CN" sz="3400" spc="-1" strike="noStrike">
                <a:solidFill>
                  <a:srgbClr val="e40000"/>
                </a:solidFill>
                <a:latin typeface="Arial"/>
              </a:rPr>
              <a:t>：</a:t>
            </a:r>
            <a:endParaRPr b="0" lang="en-US" sz="3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178920" y="907920"/>
            <a:ext cx="854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主持人从哪些方面对袁隆平进行了采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928800" y="2357280"/>
            <a:ext cx="399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宋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科学研究的动机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6"/>
          <p:cNvSpPr/>
          <p:nvPr/>
        </p:nvSpPr>
        <p:spPr>
          <a:xfrm>
            <a:off x="1000080" y="3214800"/>
            <a:ext cx="31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科学家的探索历程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7"/>
          <p:cNvSpPr/>
          <p:nvPr/>
        </p:nvSpPr>
        <p:spPr>
          <a:xfrm>
            <a:off x="1143000" y="4000680"/>
            <a:ext cx="24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科学家的真实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9"/>
          <p:cNvSpPr/>
          <p:nvPr/>
        </p:nvSpPr>
        <p:spPr>
          <a:xfrm>
            <a:off x="1721880" y="47862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科学家的特色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0"/>
          <p:cNvSpPr/>
          <p:nvPr/>
        </p:nvSpPr>
        <p:spPr>
          <a:xfrm>
            <a:off x="1214280" y="571500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总结科研经验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9"/>
          <p:cNvSpPr/>
          <p:nvPr/>
        </p:nvSpPr>
        <p:spPr>
          <a:xfrm>
            <a:off x="1582200" y="1857240"/>
            <a:ext cx="38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⑴   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什么促使您从事这项研究呢？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矩形 10"/>
          <p:cNvSpPr/>
          <p:nvPr/>
        </p:nvSpPr>
        <p:spPr>
          <a:xfrm>
            <a:off x="2870640" y="278604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⑵   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您的探索之路，一定充满艰辛吧？  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11"/>
          <p:cNvSpPr/>
          <p:nvPr/>
        </p:nvSpPr>
        <p:spPr>
          <a:xfrm>
            <a:off x="571680" y="3571920"/>
            <a:ext cx="67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⑶   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您觉得，这个电视剧里的袁隆平是您吗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矩形 12"/>
          <p:cNvSpPr/>
          <p:nvPr/>
        </p:nvSpPr>
        <p:spPr>
          <a:xfrm>
            <a:off x="571680" y="435780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⑷   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除了能吃苦以外，搞科学研究还有什么是最重 要的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矩形 13"/>
          <p:cNvSpPr/>
          <p:nvPr/>
        </p:nvSpPr>
        <p:spPr>
          <a:xfrm>
            <a:off x="1464480" y="528624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“您能说说自己取得的成功经验吗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603360" y="2133720"/>
            <a:ext cx="85406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袁隆平的科研过程可以用哪几个字来概括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3"/>
          <p:cNvSpPr/>
          <p:nvPr/>
        </p:nvSpPr>
        <p:spPr>
          <a:xfrm>
            <a:off x="3677760" y="3860640"/>
            <a:ext cx="10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（知识、汗水、灵感、机遇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1692360" y="66204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思考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2159280" y="4871880"/>
            <a:ext cx="48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Verdana"/>
                <a:ea typeface="宋体"/>
              </a:rPr>
              <a:t>知识</a:t>
            </a: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0" lang="zh-CN" sz="3600" spc="-1" strike="noStrike">
                <a:solidFill>
                  <a:srgbClr val="0000ff"/>
                </a:solidFill>
                <a:latin typeface="Verdana"/>
                <a:ea typeface="宋体"/>
              </a:rPr>
              <a:t>汗水</a:t>
            </a: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0" lang="zh-CN" sz="3600" spc="-1" strike="noStrike">
                <a:solidFill>
                  <a:srgbClr val="0000ff"/>
                </a:solidFill>
                <a:latin typeface="Verdana"/>
                <a:ea typeface="宋体"/>
              </a:rPr>
              <a:t>灵感</a:t>
            </a: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0" lang="zh-CN" sz="3600" spc="-1" strike="noStrike">
                <a:solidFill>
                  <a:srgbClr val="0000ff"/>
                </a:solidFill>
                <a:latin typeface="Verdana"/>
                <a:ea typeface="宋体"/>
              </a:rPr>
              <a:t>机遇</a:t>
            </a: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=</a:t>
            </a:r>
            <a:r>
              <a:rPr b="0" lang="zh-CN" sz="3600" spc="-1" strike="noStrike">
                <a:solidFill>
                  <a:srgbClr val="0000ff"/>
                </a:solidFill>
                <a:latin typeface="Verdana"/>
                <a:ea typeface="宋体"/>
              </a:rPr>
              <a:t>成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50560" y="836280"/>
            <a:ext cx="79930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阅读作者的采访，你有些什么样的感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3"/>
          <p:cNvSpPr/>
          <p:nvPr/>
        </p:nvSpPr>
        <p:spPr>
          <a:xfrm>
            <a:off x="755640" y="26370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通过对文章的学习使我们懂得了：做任何事情都只有一往无前，不怕失败，不怕困难，才能获得的成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3"/>
          <p:cNvSpPr/>
          <p:nvPr/>
        </p:nvSpPr>
        <p:spPr>
          <a:xfrm>
            <a:off x="795600" y="2142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拓展延伸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矩形 3"/>
          <p:cNvSpPr/>
          <p:nvPr/>
        </p:nvSpPr>
        <p:spPr>
          <a:xfrm>
            <a:off x="2103480" y="107172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自读课文，归纳总结采访的形式、方法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4"/>
          <p:cNvSpPr/>
          <p:nvPr/>
        </p:nvSpPr>
        <p:spPr>
          <a:xfrm>
            <a:off x="1867320" y="19288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形式：问答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矩形 5"/>
          <p:cNvSpPr/>
          <p:nvPr/>
        </p:nvSpPr>
        <p:spPr>
          <a:xfrm>
            <a:off x="1649160" y="27147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4c78"/>
                </a:solidFill>
                <a:latin typeface="Arial"/>
                <a:ea typeface="宋体"/>
              </a:rPr>
              <a:t>方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6"/>
          <p:cNvSpPr/>
          <p:nvPr/>
        </p:nvSpPr>
        <p:spPr>
          <a:xfrm>
            <a:off x="5095800" y="2714760"/>
            <a:ext cx="7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78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4c78"/>
                </a:solidFill>
                <a:latin typeface="Arial"/>
                <a:ea typeface="宋体"/>
              </a:rPr>
              <a:t>、确定采访内容，提出采访问题</a:t>
            </a:r>
            <a:r>
              <a:rPr b="0" lang="zh-CN" sz="1800" spc="-1" strike="noStrike">
                <a:solidFill>
                  <a:srgbClr val="004c78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7"/>
          <p:cNvSpPr/>
          <p:nvPr/>
        </p:nvSpPr>
        <p:spPr>
          <a:xfrm>
            <a:off x="5498640" y="342900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采访人进行采访，记录员进行记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8"/>
          <p:cNvSpPr/>
          <p:nvPr/>
        </p:nvSpPr>
        <p:spPr>
          <a:xfrm>
            <a:off x="4388760" y="428616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78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4c78"/>
                </a:solidFill>
                <a:latin typeface="Arial"/>
                <a:ea typeface="宋体"/>
              </a:rPr>
              <a:t>、整理资料，总结经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文本框 1"/>
          <p:cNvSpPr/>
          <p:nvPr/>
        </p:nvSpPr>
        <p:spPr>
          <a:xfrm>
            <a:off x="171360" y="6378480"/>
            <a:ext cx="57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3"/>
          <p:cNvSpPr/>
          <p:nvPr/>
        </p:nvSpPr>
        <p:spPr>
          <a:xfrm>
            <a:off x="795600" y="2142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拓展延伸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"/>
          <p:cNvSpPr/>
          <p:nvPr/>
        </p:nvSpPr>
        <p:spPr>
          <a:xfrm>
            <a:off x="214200" y="1857240"/>
            <a:ext cx="807264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78"/>
                </a:solidFill>
                <a:latin typeface="Arial"/>
              </a:rPr>
              <a:t>(1)  </a:t>
            </a:r>
            <a:r>
              <a:rPr b="0" lang="zh-CN" sz="3600" spc="-1" strike="noStrike">
                <a:solidFill>
                  <a:srgbClr val="004c78"/>
                </a:solidFill>
                <a:latin typeface="Arial"/>
                <a:ea typeface="宋体"/>
              </a:rPr>
              <a:t>对本班成绩优秀的同学进行采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78"/>
                </a:solidFill>
                <a:latin typeface="Arial"/>
              </a:rPr>
              <a:t>(2)  </a:t>
            </a:r>
            <a:r>
              <a:rPr b="0" lang="zh-CN" sz="3600" spc="-1" strike="noStrike">
                <a:solidFill>
                  <a:srgbClr val="004c78"/>
                </a:solidFill>
                <a:latin typeface="Arial"/>
                <a:ea typeface="宋体"/>
              </a:rPr>
              <a:t>小组合作，讨论采访内容，提出采访 的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78"/>
                </a:solidFill>
                <a:latin typeface="Arial"/>
              </a:rPr>
              <a:t>(3)  </a:t>
            </a:r>
            <a:r>
              <a:rPr b="0" lang="zh-CN" sz="3600" spc="-1" strike="noStrike">
                <a:solidFill>
                  <a:srgbClr val="004c78"/>
                </a:solidFill>
                <a:latin typeface="Arial"/>
                <a:ea typeface="宋体"/>
              </a:rPr>
              <a:t>主持人进行采访，记录员进行记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78"/>
                </a:solidFill>
                <a:latin typeface="Arial"/>
              </a:rPr>
              <a:t>(4)  </a:t>
            </a:r>
            <a:r>
              <a:rPr b="0" lang="zh-CN" sz="3600" spc="-1" strike="noStrike">
                <a:solidFill>
                  <a:srgbClr val="004c78"/>
                </a:solidFill>
                <a:latin typeface="Arial"/>
                <a:ea typeface="宋体"/>
              </a:rPr>
              <a:t>将记录进行整理，作为学习的借鉴经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13"/>
          <p:cNvSpPr/>
          <p:nvPr/>
        </p:nvSpPr>
        <p:spPr>
          <a:xfrm>
            <a:off x="357120" y="1285920"/>
            <a:ext cx="4491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二、</a:t>
            </a:r>
            <a:r>
              <a:rPr b="0" lang="zh-CN" sz="3600" spc="-1" strike="noStrike">
                <a:solidFill>
                  <a:srgbClr val="e1f4ff"/>
                </a:solidFill>
                <a:latin typeface="Arial"/>
                <a:ea typeface="宋体"/>
              </a:rPr>
              <a:t>试着采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3:57:0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34:08Z</dcterms:modified>
  <cp:revision>3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