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B541-A1A8-48DE-BBEC-8DB78BE82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7551-74F8-4804-B10E-F7C79928C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EA7D-4099-4E64-BA76-1598EDD5D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9D61-7342-4E8C-84FC-886D9C6C0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4AF8-5F8E-4EC8-B502-4F2E9EB53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7E22-30EB-47AF-8EB6-06A4F0824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DDE6-F4CB-41FD-B21C-314CD1217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E320-9078-45A4-A671-14F198CE5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59E5-55E4-46B1-8EDF-FC185869C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84E1-FE5D-488A-ABE6-AE95C72C3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FCD7-0B41-4E1A-826A-F4B806CC8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EBEE-7078-4016-B2E2-F52378FF1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3656-AF64-42F7-957B-295188398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4AF7-4FB9-418B-A47C-B82262616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AE8D-EB10-4510-AEF4-6B8D17243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E200-9913-4105-9604-ADEDBE729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1A1B-EDC3-4344-A1A9-5C8448EEC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E908-76B1-4D45-8217-7997C958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183A-14B7-4BCA-BA25-5C4509C6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D56D-C79B-42BB-95ED-477C82B4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F0FB-6497-440A-AE93-42E3CF41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2DCC-B4C3-4401-967E-C2AB0E72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5809-C296-402B-86A9-C6D2F449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3EBA-01BC-4EFF-8FFE-0638336A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5CA-F5C3-4405-BB56-5B2E97EA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B221-A332-40B7-9A30-8CD06C35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677D-5E03-4D3B-8263-7D9CD78D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310-F760-4AF7-AA7B-82B01AAF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9DF-6E6B-4017-B975-9E36243B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8616-567A-4DA8-953F-D77C7C018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同侧圆角矩形 1"/>
          <p:cNvSpPr/>
          <p:nvPr/>
        </p:nvSpPr>
        <p:spPr>
          <a:xfrm>
            <a:off x="468360" y="260280"/>
            <a:ext cx="8280360" cy="6193080"/>
          </a:xfrm>
          <a:custGeom>
            <a:avLst/>
            <a:gdLst/>
            <a:ahLst/>
            <a:rect l="l" t="t" r="r" b="b"/>
            <a:pathLst>
              <a:path w="8280400" h="6192837">
                <a:moveTo>
                  <a:pt x="1032160" y="0"/>
                </a:moveTo>
                <a:lnTo>
                  <a:pt x="7248239" y="0"/>
                </a:lnTo>
                <a:cubicBezTo>
                  <a:pt x="7818285" y="0"/>
                  <a:pt x="8280399" y="462114"/>
                  <a:pt x="8280399" y="1032160"/>
                </a:cubicBezTo>
                <a:lnTo>
                  <a:pt x="8280400" y="6192837"/>
                </a:lnTo>
                <a:lnTo>
                  <a:pt x="8280400" y="6192837"/>
                </a:lnTo>
                <a:lnTo>
                  <a:pt x="0" y="6192837"/>
                </a:lnTo>
                <a:lnTo>
                  <a:pt x="0" y="6192837"/>
                </a:lnTo>
                <a:lnTo>
                  <a:pt x="0" y="1032160"/>
                </a:lnTo>
                <a:cubicBezTo>
                  <a:pt x="0" y="462114"/>
                  <a:pt x="462114" y="0"/>
                  <a:pt x="1032160" y="0"/>
                </a:cubicBezTo>
                <a:close/>
              </a:path>
            </a:pathLst>
          </a:cu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476360" y="1052640"/>
            <a:ext cx="6121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411280" y="2421000"/>
            <a:ext cx="425160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33cccc"/>
                  </a:solidFill>
                  <a:round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中宋"/>
              </a:rPr>
              <a:t>杨柳</a:t>
            </a:r>
            <a:endParaRPr b="1" i="1" lang="en-US" sz="1800" spc="1" strike="noStrike">
              <a:ln w="9360">
                <a:solidFill>
                  <a:srgbClr val="33cccc"/>
                </a:solidFill>
                <a:round/>
              </a:ln>
              <a:solidFill>
                <a:srgbClr val="00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792080" y="5589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复件 细读感悟"/>
          <p:cNvPicPr/>
          <p:nvPr/>
        </p:nvPicPr>
        <p:blipFill>
          <a:blip r:embed="rId1"/>
          <a:stretch/>
        </p:blipFill>
        <p:spPr>
          <a:xfrm>
            <a:off x="3132000" y="1628640"/>
            <a:ext cx="2089440" cy="559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2843280" y="2781360"/>
            <a:ext cx="727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作者认为观赏杨柳的最佳地方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哪里？是不是在西湖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复件 小女孩"/>
          <p:cNvPicPr/>
          <p:nvPr/>
        </p:nvPicPr>
        <p:blipFill>
          <a:blip r:embed="rId2"/>
          <a:stretch/>
        </p:blipFill>
        <p:spPr>
          <a:xfrm>
            <a:off x="826920" y="1989000"/>
            <a:ext cx="196704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258920" y="2492280"/>
            <a:ext cx="7058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作者为了讲明自己“随缘”的主张，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用了一个类比，是用了一个什么类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复件 细读感悟"/>
          <p:cNvPicPr/>
          <p:nvPr/>
        </p:nvPicPr>
        <p:blipFill>
          <a:blip r:embed="rId1"/>
          <a:stretch/>
        </p:blipFill>
        <p:spPr>
          <a:xfrm>
            <a:off x="1116000" y="1557360"/>
            <a:ext cx="20890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复件 细读感悟"/>
          <p:cNvPicPr/>
          <p:nvPr/>
        </p:nvPicPr>
        <p:blipFill>
          <a:blip r:embed="rId1"/>
          <a:stretch/>
        </p:blipFill>
        <p:spPr>
          <a:xfrm>
            <a:off x="1476360" y="1557360"/>
            <a:ext cx="2089080" cy="558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900000" y="2492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中除了写杨柳外，还写了“紫薇”、“红杏”、“芍药”“牡丹”等植物，为什么要写它们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611280" y="1989000"/>
            <a:ext cx="806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9933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本文是一篇托物言志的抒情散文，那么散文的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点在文中是怎样体现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文中几处采用了对比的手法，有什么表达效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文章运用了哪些修辞方法？各有什么表达效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复件 拓展学习"/>
          <p:cNvPicPr/>
          <p:nvPr/>
        </p:nvPicPr>
        <p:blipFill>
          <a:blip r:embed="rId1"/>
          <a:stretch/>
        </p:blipFill>
        <p:spPr>
          <a:xfrm>
            <a:off x="1042920" y="1125360"/>
            <a:ext cx="21607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684360" y="2565360"/>
            <a:ext cx="7921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       “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有心栽花花不开，无心插柳柳成荫”，生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力顽强的杨柳的身上还包涵了深刻、朴实的人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哲理。人类的智慧不仅在于赋予自然界生物以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富的内涵，更在于人类能从中找到自己不断完善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不断提高的动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836360" y="177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复件 拓展学习"/>
          <p:cNvPicPr/>
          <p:nvPr/>
        </p:nvPicPr>
        <p:blipFill>
          <a:blip r:embed="rId1"/>
          <a:stretch/>
        </p:blipFill>
        <p:spPr>
          <a:xfrm>
            <a:off x="755640" y="1125360"/>
            <a:ext cx="21607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复件 拓展学习"/>
          <p:cNvPicPr/>
          <p:nvPr/>
        </p:nvPicPr>
        <p:blipFill>
          <a:blip r:embed="rId1"/>
          <a:stretch/>
        </p:blipFill>
        <p:spPr>
          <a:xfrm>
            <a:off x="755640" y="1125360"/>
            <a:ext cx="2160720" cy="533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图片"/>
          <p:cNvPicPr/>
          <p:nvPr/>
        </p:nvPicPr>
        <p:blipFill>
          <a:blip r:embed="rId2"/>
          <a:stretch/>
        </p:blipFill>
        <p:spPr>
          <a:xfrm>
            <a:off x="1258920" y="1844640"/>
            <a:ext cx="31813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684360" y="2708280"/>
            <a:ext cx="845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．课余搜集有关杨柳的著名诗句，熟记成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．结合杨柳的特点，以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生命的萌发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或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生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的价值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为题，写一篇感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88"/>
          <p:cNvPicPr/>
          <p:nvPr/>
        </p:nvPicPr>
        <p:blipFill>
          <a:blip r:embed="rId1"/>
          <a:stretch/>
        </p:blipFill>
        <p:spPr>
          <a:xfrm>
            <a:off x="2338560" y="2557440"/>
            <a:ext cx="5257800" cy="205092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1"/>
          <p:cNvSpPr/>
          <p:nvPr/>
        </p:nvSpPr>
        <p:spPr>
          <a:xfrm>
            <a:off x="2940120" y="5178600"/>
            <a:ext cx="51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13B7-B109-43AC-B024-3D87F1A09B5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20083261171623_2"/>
          <p:cNvPicPr/>
          <p:nvPr/>
        </p:nvPicPr>
        <p:blipFill>
          <a:blip r:embed="rId1"/>
          <a:stretch/>
        </p:blipFill>
        <p:spPr>
          <a:xfrm>
            <a:off x="1763640" y="1413000"/>
            <a:ext cx="5545080" cy="403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创设情境"/>
          <p:cNvPicPr/>
          <p:nvPr/>
        </p:nvPicPr>
        <p:blipFill>
          <a:blip r:embed="rId2"/>
          <a:stretch/>
        </p:blipFill>
        <p:spPr>
          <a:xfrm>
            <a:off x="395280" y="404640"/>
            <a:ext cx="22176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826920" y="1484280"/>
            <a:ext cx="7775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散文，历来被誉为“一粒沙里见世界，半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花上说风情”。散文按表达方式可分为抒情散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叙事散文、说理散文三种类型，今天，我们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学习一篇托物言志的抒情散文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杨柳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，作者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现代作家、画家、文学翻译家丰子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创设情境"/>
          <p:cNvPicPr/>
          <p:nvPr/>
        </p:nvPicPr>
        <p:blipFill>
          <a:blip r:embed="rId1"/>
          <a:stretch/>
        </p:blipFill>
        <p:spPr>
          <a:xfrm>
            <a:off x="250920" y="404640"/>
            <a:ext cx="223200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826920" y="1916280"/>
            <a:ext cx="784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丰子恺（</a:t>
            </a:r>
            <a:r>
              <a:rPr b="1" lang="en-US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1898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1975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），浙江崇德人，现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作家、画家、文学翻译家。曾师从李叔同学习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乐和绘画。建国后曾任中国美术家协会主席等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作品有画册</a:t>
            </a:r>
            <a:r>
              <a:rPr b="1" lang="en-US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子恺漫画</a:t>
            </a:r>
            <a:r>
              <a:rPr b="1" lang="en-US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，散文集</a:t>
            </a:r>
            <a:r>
              <a:rPr b="1" lang="en-US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率真集</a:t>
            </a:r>
            <a:r>
              <a:rPr b="1" lang="en-US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子恺近代散文集</a:t>
            </a:r>
            <a:r>
              <a:rPr b="1" lang="en-US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，主要译作有屠格涅夫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猎人日记</a:t>
            </a:r>
            <a:r>
              <a:rPr b="1" lang="en-US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和日本古典巨著</a:t>
            </a:r>
            <a:r>
              <a:rPr b="1" lang="en-US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源氏物语</a:t>
            </a:r>
            <a:r>
              <a:rPr b="1" lang="en-US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635280" y="1268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图片1"/>
          <p:cNvPicPr/>
          <p:nvPr/>
        </p:nvPicPr>
        <p:blipFill>
          <a:blip r:embed="rId1"/>
          <a:stretch/>
        </p:blipFill>
        <p:spPr>
          <a:xfrm>
            <a:off x="1116000" y="1469880"/>
            <a:ext cx="2676600" cy="533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55640" y="2262240"/>
            <a:ext cx="777708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9933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通过讨论交流，能说出作者喜爱杨柳的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9933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能找出文章的线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理清文章的脉络，把握文章的主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4. 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能说出作者采用对比写法的表达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7"/>
          <p:cNvSpPr/>
          <p:nvPr/>
        </p:nvSpPr>
        <p:spPr>
          <a:xfrm>
            <a:off x="1258920" y="32050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340000" y="3213000"/>
            <a:ext cx="590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阅读课文，思考：作者想借杨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告诉我们什么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复件 初读感知"/>
          <p:cNvPicPr/>
          <p:nvPr/>
        </p:nvPicPr>
        <p:blipFill>
          <a:blip r:embed="rId1"/>
          <a:stretch/>
        </p:blipFill>
        <p:spPr>
          <a:xfrm>
            <a:off x="3348000" y="206064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复件 小女孩"/>
          <p:cNvPicPr/>
          <p:nvPr/>
        </p:nvPicPr>
        <p:blipFill>
          <a:blip r:embed="rId2"/>
          <a:stretch/>
        </p:blipFill>
        <p:spPr>
          <a:xfrm>
            <a:off x="826920" y="1989000"/>
            <a:ext cx="196704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042920" y="1484280"/>
            <a:ext cx="705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作者赞美了杨柳的哪些特点？如果联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人生，又反映了作者怎样的人生感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68360" y="3068640"/>
            <a:ext cx="80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贱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：文章指由于不计较个人得失而或不吃，或吃  得少，或吃得次，显得命薄而低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贵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：文中指吃的东西好，显得身份地位高。联系现实，他们反映了两种不同的人生观和世界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复件 细读感悟"/>
          <p:cNvPicPr/>
          <p:nvPr/>
        </p:nvPicPr>
        <p:blipFill>
          <a:blip r:embed="rId1"/>
          <a:stretch/>
        </p:blipFill>
        <p:spPr>
          <a:xfrm>
            <a:off x="611280" y="476280"/>
            <a:ext cx="20890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619280" y="170028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文章为什么要写牡丹、葡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复件 细读感悟"/>
          <p:cNvPicPr/>
          <p:nvPr/>
        </p:nvPicPr>
        <p:blipFill>
          <a:blip r:embed="rId1"/>
          <a:stretch/>
        </p:blipFill>
        <p:spPr>
          <a:xfrm>
            <a:off x="611280" y="476280"/>
            <a:ext cx="2089080" cy="558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1042920" y="2781360"/>
            <a:ext cx="7489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作者是在用对比的方法，突出杨柳的从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奢求，只是给予的品质，赞美杨柳顽强的生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力和不求索取的奉献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042920" y="2060640"/>
            <a:ext cx="7345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自古以来写杨柳的作品有很多，人们常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把杨柳作为春的象征，作者认为以杨柳为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原因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复件 细读感悟"/>
          <p:cNvPicPr/>
          <p:nvPr/>
        </p:nvPicPr>
        <p:blipFill>
          <a:blip r:embed="rId1"/>
          <a:stretch/>
        </p:blipFill>
        <p:spPr>
          <a:xfrm>
            <a:off x="1187280" y="1197000"/>
            <a:ext cx="208944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1:04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8:45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