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0500-5B78-4CD6-BD99-AD6C67D5C4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419F-06E8-48A1-A53F-83BAE78616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340-29BA-422A-A722-59BBB1A4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DF5-60B5-4C15-8196-5994F045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F70-FCD6-4582-837E-944FDE84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B08-D725-4667-8961-C21A035F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991-2D87-4138-A266-235700D7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CAEA-EDC4-491E-96A1-2E53A324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C3F7-1B6C-413C-9A0B-2C95172F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297D-C2C6-4463-89EF-60B15AB1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15E2-469B-4D61-877E-D5BE8C4C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5116-FF65-4A44-B156-1920098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186-28C7-4BEC-AF7A-2350390F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750-95D1-42B0-856C-62B145FB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3A3D-5533-4BA6-9082-64FAE79063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0.xml"/><Relationship Id="rId8" Type="http://schemas.openxmlformats.org/officeDocument/2006/relationships/image" Target="../media/image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华文隶书"/>
                <a:ea typeface="华文隶书"/>
              </a:rPr>
              <a:t>有趣的班会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829880" y="5562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lip_image002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5"/>
          <p:cNvSpPr/>
          <p:nvPr/>
        </p:nvSpPr>
        <p:spPr>
          <a:xfrm>
            <a:off x="0" y="380880"/>
            <a:ext cx="940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读课文，感悟班会的“趣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19320" y="1523880"/>
            <a:ext cx="66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用自己喜欢的方式读课文，并勾画出文中你认为有趣的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447920" y="28954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、讨论：这次班会的“趣”体现在哪些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lip_image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826920" y="304920"/>
          <a:ext cx="7632720" cy="6010200"/>
        </p:xfrm>
        <a:graphic>
          <a:graphicData uri="http://schemas.openxmlformats.org/drawingml/2006/table">
            <a:tbl>
              <a:tblPr/>
              <a:tblGrid>
                <a:gridCol w="1152360"/>
                <a:gridCol w="3529080"/>
                <a:gridCol w="2951280"/>
              </a:tblGrid>
              <a:tr h="7272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 rowSpan="5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31"/>
          <p:cNvSpPr/>
          <p:nvPr/>
        </p:nvSpPr>
        <p:spPr>
          <a:xfrm>
            <a:off x="1295280" y="30492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奇思妙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5943600" y="304920"/>
            <a:ext cx="18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2057400" y="10666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明像金箍棒似的书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856440" y="1143000"/>
            <a:ext cx="9118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同 来 学 们 的 奇 思 妙 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5715000" y="10666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变大变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6"/>
          <p:cNvSpPr/>
          <p:nvPr/>
        </p:nvSpPr>
        <p:spPr>
          <a:xfrm>
            <a:off x="2057400" y="17524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明会说话的钥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7"/>
          <p:cNvSpPr/>
          <p:nvPr/>
        </p:nvSpPr>
        <p:spPr>
          <a:xfrm>
            <a:off x="5715000" y="16765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自己说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2133720" y="2438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明像气球样的旅行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9"/>
          <p:cNvSpPr/>
          <p:nvPr/>
        </p:nvSpPr>
        <p:spPr>
          <a:xfrm>
            <a:off x="5651640" y="2421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悬在空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0"/>
          <p:cNvSpPr/>
          <p:nvPr/>
        </p:nvSpPr>
        <p:spPr>
          <a:xfrm>
            <a:off x="2209680" y="3276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明不怕摔的眼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867280" y="314172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摔倒地上能自动弹到手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2268360" y="414972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马路安个拉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5580000" y="414972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随时打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6721200" y="685800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也想发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3989160" y="54450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也想发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971640" y="4869000"/>
            <a:ext cx="9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的奇思妙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clip_image002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811080" y="6094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读课文，体会句子含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066680" y="18288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发明，从来不拒绝那些奇思妙想的设想。只要敢于去想，即使实现不了也没什么要紧，重要的是锻炼我们突破条条框框的思维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lip_image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2994120" y="1897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2971800" y="152388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685800" y="1523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句话告诉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们大胆奇妙的设想虽然不一定会实现，但却能锻炼我们的思维能力。使我们的思想打破我们已知的规律定理的限制，把不可能的设想变为可能，科学上的发明创造往往源自于那些奇妙的想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042920" y="2421000"/>
            <a:ext cx="720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分角色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以小组为单位，说说自己还知道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些发明创造也是源自奇思妙想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68360" y="1125360"/>
            <a:ext cx="424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总结全文，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1201680" y="564048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F53C-9117-4A3E-A734-E48F8C8295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68360" y="1628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正确读写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个生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正确读写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邀、年幼、钱包、钥匙、旅行、动弹、拒绝、思维、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朗读课文，理解课文内容。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自学自悟，讨论交流，体会这次班会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趣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感受童年的童真，童趣，激发热爱生活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03280" y="84132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11280" y="1268280"/>
            <a:ext cx="6337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重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体会这次班会的“趣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难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体会老师最后说的那段话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学要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由读课文，把课文读通、读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能给课文标小节，圈出本课会认的生字，并给生字注音、组词。互相交流一下自学收获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能利用工具书或结合课文说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奇思妙想、特邀、年幼、专利、嘉宾、争先恐后、大汗淋漓、  海阔天空、稀奇古怪、条条框框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词语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说说课文讲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520" y="4572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能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yāo   zhì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găo             yò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特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邀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制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作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搞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笑     年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qián       yào        l ǚ        xu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包 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钥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匙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旅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行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悬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tán       j ù        shè              w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弹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力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拒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绝  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 设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想     思 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lip_image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1747800" y="509760"/>
            <a:ext cx="287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我能理解词语意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523880" y="152388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特邀   年幼   专利     嘉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争先恐后    海阔天空  稀奇古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奇思妙想  条条框框   大汗淋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"/>
          <p:cNvSpPr/>
          <p:nvPr/>
        </p:nvSpPr>
        <p:spPr>
          <a:xfrm>
            <a:off x="1476360" y="1484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666080" y="114300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ā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666080" y="20080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ǎ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751120" y="109224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鲜花）（新鲜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747880" y="200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鲜为人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932000" y="1628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>
            <a:off x="5292720" y="1484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581800" y="1339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511240" y="19875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6685560" y="119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弹琴）（弹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6685560" y="191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子弹）（弹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880920" y="3879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1332000" y="37162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1529640" y="35193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1602720" y="42400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à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2534040" y="3521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锁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2462400" y="416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钥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0"/>
          <p:cNvSpPr/>
          <p:nvPr/>
        </p:nvSpPr>
        <p:spPr>
          <a:xfrm>
            <a:off x="4860000" y="3716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1"/>
          <p:cNvSpPr/>
          <p:nvPr/>
        </p:nvSpPr>
        <p:spPr>
          <a:xfrm>
            <a:off x="5292720" y="3573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5510520" y="32846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5509440" y="40766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h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6400080" y="328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钥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6728760" y="40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汤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952200" y="5753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7"/>
          <p:cNvSpPr/>
          <p:nvPr/>
        </p:nvSpPr>
        <p:spPr>
          <a:xfrm>
            <a:off x="1332000" y="558972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1600560" y="53197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1562760" y="6111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0"/>
          <p:cNvSpPr/>
          <p:nvPr/>
        </p:nvSpPr>
        <p:spPr>
          <a:xfrm>
            <a:off x="2529720" y="53211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提问）（提水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1"/>
          <p:cNvSpPr/>
          <p:nvPr/>
        </p:nvSpPr>
        <p:spPr>
          <a:xfrm>
            <a:off x="2173680" y="6040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提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2"/>
          <p:cNvSpPr/>
          <p:nvPr/>
        </p:nvSpPr>
        <p:spPr>
          <a:xfrm>
            <a:off x="4860720" y="54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3"/>
          <p:cNvSpPr/>
          <p:nvPr/>
        </p:nvSpPr>
        <p:spPr>
          <a:xfrm>
            <a:off x="5219640" y="5300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5510880" y="50846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5510880" y="5948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6685560" y="51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埋伏）（埋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7"/>
          <p:cNvSpPr/>
          <p:nvPr/>
        </p:nvSpPr>
        <p:spPr>
          <a:xfrm>
            <a:off x="6658200" y="595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埋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lip_image002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5"/>
          <p:cNvSpPr/>
          <p:nvPr/>
        </p:nvSpPr>
        <p:spPr>
          <a:xfrm>
            <a:off x="762120" y="5335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143000" y="6094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思考： 课文主要写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52480" y="24382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讲的是一次有趣的班会，同学们围绕“奇思妙想出发明” 纷纷畅谈自己的奇思妙想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字词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19320" y="1905120"/>
            <a:ext cx="2133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争先恐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奇思妙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大汗淋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没完没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稀奇古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海阔天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条条框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57600" y="19051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20051010193901677"/>
          <p:cNvPicPr/>
          <p:nvPr/>
        </p:nvPicPr>
        <p:blipFill>
          <a:blip r:embed="rId8"/>
          <a:stretch/>
        </p:blipFill>
        <p:spPr>
          <a:xfrm>
            <a:off x="2819520" y="2438280"/>
            <a:ext cx="5238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4T14:15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5:29Z</dcterms:modified>
  <cp:revision>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