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633-2C0B-4138-8D2E-5C9A14A6A3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C39-51DE-43BD-A61B-87245ABFB8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453-D7E5-40D6-B390-D2F47547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945-4298-4444-91E5-69A4336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92E-489B-4CFF-AEFA-197F7A7A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C8C-BDC2-400C-B2EA-40B3BF6F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BAA-8FD9-498E-8E6C-2F1261C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80E-8116-4145-BFB8-D1FF364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47A-17B9-4726-9232-0B639F2E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AD0-1057-4D6B-A223-CC58056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2D5-71B3-4D72-80B8-AE796A7E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EBF-AEC5-4388-B579-057CF53A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4FD-4683-47AA-9FBC-960CD7D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13E-392C-45E2-82C3-81442F7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6B1D-DEAA-42DF-8576-DEEE3804A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18270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990360"/>
            <a:ext cx="9220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认一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猛兽     撕开    堤岸     波峰    惊心动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糊涂     迅速     油漆     剥离    秩序井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9680" y="609120"/>
            <a:ext cx="84567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精读课文，深入理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了解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自由读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，用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----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画出描写洪水来临的句子，并想想你从中体会到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方正楷体_GBK"/>
              </a:rPr>
              <a:t>像猛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方正楷体_GBK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方正楷体_GBK"/>
              </a:rPr>
              <a:t>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方正楷体_GBK"/>
              </a:rPr>
              <a:t>体会洪水来势凶猛，大而急，把江堤冲出了一道口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洪水像猛兽撕开了江堤，垸内一片汪洋。”谁能照样子说几个形象的比喻句？用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句式练习说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此时此刻，人们是怎样做的，又会怎样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课文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凝望着水中的家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想像人们的心情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188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知蚁球漂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洪水来势如此的凶猛，弱小的蚂蚁是怎样自救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蚂蚁的顽强勇敢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………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蚁球漂流，跳着、滚着。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蚁球在波峰上跳着，在波谷里滚着，那是多么扣人心弦的一幕啊！洪水来了，它们密匝匝的紧紧抱在一起。洪水越来越猛，浪头越来越高。如果是我们，该怎么应对这样的危险呢？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团蚂蚁被浪头打开，像铁器上的油漆片儿剥离开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联系生活实际想像铁栏杆、篮球架等油漆片儿剥落的情景，思考：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团蚂蚁像油漆片儿一样被洪水剥离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扣住“像油漆片儿”理解蚂蚁是成片成片的牺牲，从中体会蚂蚁在洪水中求生的努力，感悟它们的英勇无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小小的蚂蚁与洪水做着顽强的斗争，它们多么团结，多么勇敢。你们能把这种感受读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领悟团结就是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弱小的蚂蚁与狂暴的洪水进行了顽强的斗争，结果怎么样了呢？请同学们自由读课文最后一自然段，找出最令你感动的句子，反复读一读，并想想你为什么感动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12193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团结就是力量，弱小的蚂蚁通过团结协作，绝大部分得救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蚂蚁"/>
          <p:cNvPicPr/>
          <p:nvPr/>
        </p:nvPicPr>
        <p:blipFill>
          <a:blip r:embed="rId1"/>
          <a:stretch/>
        </p:blipFill>
        <p:spPr>
          <a:xfrm>
            <a:off x="3352680" y="281952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延伸，升华感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看着这一切，聚在堤岸上的人们会想些什么？又会说些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向朋友复述蚁球漂流的经过并谈谈自己的感受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1587600" y="567360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E1E-1ADE-449D-B187-C4611CFD1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认识、会写本课生字，理解掌握有生字组成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朗读课文；背诵课文最后两个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体会到只要团结协作，就没有克服不了的困难和灾难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同学们，你们知道什么是“漂流”吗？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漂流2"/>
          <p:cNvPicPr/>
          <p:nvPr/>
        </p:nvPicPr>
        <p:blipFill>
          <a:blip r:embed="rId1"/>
          <a:stretch/>
        </p:blipFill>
        <p:spPr>
          <a:xfrm>
            <a:off x="1905120" y="2209680"/>
            <a:ext cx="4724280" cy="314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你们看到过“蚁球”吗？想像一下它会是什么样的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00807291626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220968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437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_GBK"/>
              </a:rPr>
              <a:t>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_GBK"/>
              </a:rPr>
              <a:t>蚁球漂流”到底是怎么回事呢？让我们一起到课文中去寻找答案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初读课文，整体感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读课文，读准字音，读通句子，画出含有生字的词语多读几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思考：课文主要写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968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拼一拼   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měng  sī     dī    bō   mǒ  h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猛      撕    堤    波     抹    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tú     xùn  sù   fēng   qī   b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涂      迅    速    峰      漆   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52280"/>
            <a:ext cx="90676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猛兽  凶猛    撕开  撕破    堤坝 河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波浪  风波    抹黑  抹粉    糊涂 模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涂改  涂抹    迅速  迅步    速度  光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峰  高峰    油漆  漆树    剥离  剥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10:57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2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