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6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FFE-97B2-4B4E-B5ED-F4128FC708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D806-45FF-4337-BC2C-75045BD8A3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873-C785-46D4-A441-1008A08D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999-3A74-446A-A84C-7413D3B0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EC6-7D20-4C01-9A8C-78D9E018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40B-B25D-4212-AB9B-F00A79B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DF7-7198-494C-929F-710D124E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944-F905-40C0-B3CA-463E72A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D33-6AEB-455B-B9A4-67DC478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D36-BC72-4AF4-BE01-431A42F9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AE7-1D43-4087-8761-FCE42D4A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07A-21EB-4695-B294-BAA03FE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556-AC32-43A1-8A3E-E2095D8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F78-A62A-425C-B385-BDEC592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1C5-D032-4F00-BC95-8A9DF971E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" Target="slide4.xml"/><Relationship Id="rId8" Type="http://schemas.openxmlformats.org/officeDocument/2006/relationships/slide" Target="slide1.xml"/><Relationship Id="rId9" Type="http://schemas.openxmlformats.org/officeDocument/2006/relationships/slide" Target="slide5.xml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" Target="slide1.xml"/><Relationship Id="rId5" Type="http://schemas.openxmlformats.org/officeDocument/2006/relationships/image" Target="../media/image8.wmf"/><Relationship Id="rId6" Type="http://schemas.openxmlformats.org/officeDocument/2006/relationships/slide" Target="slide1.xml"/><Relationship Id="rId7" Type="http://schemas.openxmlformats.org/officeDocument/2006/relationships/image" Target="../media/image8.wmf"/><Relationship Id="rId8" Type="http://schemas.openxmlformats.org/officeDocument/2006/relationships/slide" Target="slide12.xml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9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124000" y="1557360"/>
            <a:ext cx="4464000" cy="215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c000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中宋"/>
              </a:rPr>
              <a:t>元日</a:t>
            </a:r>
            <a:endParaRPr b="1" lang="en-US" sz="8800" spc="1" strike="noStrike">
              <a:ln w="12600">
                <a:solidFill>
                  <a:srgbClr val="000000"/>
                </a:solidFill>
                <a:round/>
              </a:ln>
              <a:solidFill>
                <a:srgbClr val="c000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95400" y="53388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341360"/>
            <a:ext cx="854064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加点字选择正确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计算在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去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除法运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曈曈日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太阳初升时光亮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目光闪烁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主要描写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正月初一一派除旧布新的景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反映了人们欢欣鼓舞迎新春的喜庆气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达了作者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执政变法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除旧布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强国富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感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51230103649153"/>
          <p:cNvPicPr/>
          <p:nvPr/>
        </p:nvPicPr>
        <p:blipFill>
          <a:blip r:embed="rId1"/>
          <a:stretch/>
        </p:blipFill>
        <p:spPr>
          <a:xfrm>
            <a:off x="179280" y="744480"/>
            <a:ext cx="8785440" cy="5924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284720" y="765000"/>
            <a:ext cx="4537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读古诗，闭上眼睛想象一下，你眼前出现了怎样一幅画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新春贺喜 - 新年歌曲联唱(高胜美) 　.mp3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56090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（ ）代诗人（ ）的作品。诗的第一句渲染了（           ）的气氛。第三句写旭日的光辉普照千家万户，象征了（      ）的前景。第四句既写当时的民间风俗，又寓含了（      ）的意思。诗的第一句“爆竹声中一岁除”与第四句“总把新桃换旧符”能动脑筋改成一幅对联吗？（爆竹除旧岁）新桃换旧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（ 宋）代诗人（王安石 ）的作品。诗的第一句渲染了（春节热闹欢乐）的气氛。第三句写旭日的光辉普照千家万户，象征了（美好光明）的前景。第四句既写当时的民间风俗，又寓含了（除旧迎新）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的第一句“爆竹声中一岁除”与第四句“总把新桃换旧符”能动脑筋改成一幅对联吗？（爆竹除旧岁，新桃换旧符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599840"/>
            <a:ext cx="7621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安石其他有名的诗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05320" y="2286000"/>
            <a:ext cx="4572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墙角数枝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凌寒独自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遥知不是雪，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有暗香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179600" y="1066680"/>
            <a:ext cx="15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梅花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泊船瓜洲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2285640"/>
            <a:ext cx="441936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风又绿江南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月何时照我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登飞来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43200" y="18288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来峰上千寻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闻说鸡鸣见日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畏浮云遮望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缘身在最高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79280" y="765000"/>
            <a:ext cx="87854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年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相传在远古时候，有一种凶残的野兽叫“年”，每年冬天，它就闯入村庄，猎食人和牲畜。人们发现，年怕三种东西：红色、火光、响声。于是在冬天，人们在自家门上挂上红色的桃木板，门口烧火堆，夜里通宵不睡，敲敲打打。这天夜里，“年”闯进村庄，见到家家有红色和火光，听见震天的响声，吓得跑回深山，再也不敢出来。为了纪念这次胜利，以后每到冬天的这个时间，家家户户都在门上贴红纸对联，点灯笼，敲锣打鼓，燃放鞭炮烟花。夜里，通宵守夜。第二天，大清早互相祝贺道喜。这样就成了“过年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2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907920"/>
            <a:ext cx="854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拓展练习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日是一年的第一天，所以这一天常使古人抒情感怀。请读背下列诗人的诗作，体会诗人的心境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秀故春色，梅艳昔年妆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李世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今朝一岁大家添，不是人间偏我老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 陆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兰花 元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夜半梅花添一岁，梦中爆竹报残更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 杨万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丑改元开禧元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诗两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安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竹声中一岁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风送暖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门万户曈曈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把新桃换旧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柳宗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山鸟飞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径人踪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蓑笠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钓寒江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些古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34936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日课堂写古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掌握方法非难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炼押韵字数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信你来试一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116000" y="1484280"/>
            <a:ext cx="619128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、朗读、背诵、默写古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宋体"/>
              </a:rPr>
              <a:t>、收集几首描写我国传统节日的古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981000"/>
            <a:ext cx="8540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800" spc="-1" strike="noStrike">
                <a:solidFill>
                  <a:srgbClr val="009999"/>
                </a:solidFill>
                <a:latin typeface="Arial"/>
              </a:rPr>
              <a:t>元</a:t>
            </a:r>
            <a:r>
              <a:rPr b="1" lang="zh-CN" sz="1600" spc="-1" strike="noStrike">
                <a:solidFill>
                  <a:srgbClr val="009999"/>
                </a:solidFill>
                <a:latin typeface="Arial"/>
              </a:rPr>
              <a:t>日：农历正月初一，即春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爆竹：古人烧竹子时发出的爆裂声。用来驱鬼避邪，后来演变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鞭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一岁除：一年已尽。除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屠苏：药酒名。古代习俗，大年初一全家合饮这种用屠苏草浸泡的酒，以驱邪避瘟疫，求得长寿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曈曈：日出时光亮的样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：桃符，古代一种风俗，农历正月初一时人们用桃木板写上神茶、郁垒两位神灵的名字，悬挂在门旁，用来压邪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35344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门万户曈曈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句承接前面诗意，是说家家户户都沐浴在初春朝阳的光照之中。“曈曈日”，指由暗转明的朝阳。结尾一句描述转发议论。桃符：指画有神荼、郁垒两个神像或写有这两个神像名字的桃木板，正月初一清晨挂在门上，以求“避邪”。这也是古代民间的一种习俗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把新桃换旧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040" y="167652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个压缩省略的句式，“新桃”省略了“符”字，“旧符”省略了“桃”字，交替运用，这是因为七绝每句字数限制的缘故。意思是：都是用新桃符替换了旧桃符。以桃符的更换揭示出“除旧布新”的主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1730520" y="5000760"/>
            <a:ext cx="62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475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日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主要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首写古代迎接新年的即景之作，取材于民间习俗，敏感地摄取老百姓过春节时的典型素材，抓住有代表性的生活细节：点燃爆竹，饮屠苏酒，换新桃符，充分表现出年节的欢乐气氛，富有浓厚的生活气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日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主要思想情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8284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表现的意境和现实，还自有它的比喻象征意义，它是以除旧迎新来比喻和歌颂新法的胜利推行。这首诗正是赞美新事物的诞生如同“春风送暖”那样充满生机。其中含也有深刻哲理，指出新生事物总是要取代没落事物的这一规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07-02-12_174018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801040"/>
          </a:xfrm>
          <a:prstGeom prst="rect">
            <a:avLst/>
          </a:prstGeom>
          <a:ln w="0">
            <a:noFill/>
          </a:ln>
        </p:spPr>
      </p:pic>
      <p:sp>
        <p:nvSpPr>
          <p:cNvPr id="141" name="Oval 3"/>
          <p:cNvSpPr/>
          <p:nvPr/>
        </p:nvSpPr>
        <p:spPr>
          <a:xfrm>
            <a:off x="5508720" y="3933720"/>
            <a:ext cx="1150920" cy="7905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08360" y="836640"/>
            <a:ext cx="3781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爆竹声中一岁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春风送暖入屠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千门万户曈曈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总把新桃换旧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7093080" y="148428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ff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元</a:t>
            </a:r>
            <a:endParaRPr b="1" lang="en-US" sz="6000" spc="1" strike="noStrike">
              <a:ln w="12600">
                <a:solidFill>
                  <a:srgbClr val="ffff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7164360" y="2852640"/>
            <a:ext cx="6955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ffff"/>
                  </a:solidFill>
                  <a:round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日</a:t>
            </a:r>
            <a:endParaRPr b="1" lang="en-US" sz="5400" spc="1" strike="noStrike">
              <a:ln w="12600">
                <a:solidFill>
                  <a:srgbClr val="ffffff"/>
                </a:solidFill>
                <a:round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467680" y="1268280"/>
            <a:ext cx="12776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</a:rPr>
              <a:t>（宋）王安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2007-02-13_100603"/>
          <p:cNvPicPr/>
          <p:nvPr/>
        </p:nvPicPr>
        <p:blipFill>
          <a:blip r:embed="rId6"/>
          <a:stretch/>
        </p:blipFill>
        <p:spPr>
          <a:xfrm>
            <a:off x="4500720" y="4508640"/>
            <a:ext cx="657000" cy="552240"/>
          </a:xfrm>
          <a:prstGeom prst="rect">
            <a:avLst/>
          </a:prstGeom>
          <a:ln w="0">
            <a:noFill/>
          </a:ln>
        </p:spPr>
      </p:pic>
      <p:sp>
        <p:nvSpPr>
          <p:cNvPr id="147" name="Cloud">
            <a:hlinkClick r:id="rId7" action="ppaction://hlinksldjump"/>
          </p:cNvPr>
          <p:cNvSpPr/>
          <p:nvPr/>
        </p:nvSpPr>
        <p:spPr>
          <a:xfrm>
            <a:off x="179280" y="5877000"/>
            <a:ext cx="1008000" cy="67464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loud">
            <a:hlinkClick r:id="rId8" action="ppaction://hlinksldjump"/>
          </p:cNvPr>
          <p:cNvSpPr/>
          <p:nvPr/>
        </p:nvSpPr>
        <p:spPr>
          <a:xfrm>
            <a:off x="1547640" y="5877000"/>
            <a:ext cx="1008360" cy="67464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loud">
            <a:hlinkClick r:id="rId9" action="ppaction://hlinksldjump"/>
          </p:cNvPr>
          <p:cNvSpPr/>
          <p:nvPr/>
        </p:nvSpPr>
        <p:spPr>
          <a:xfrm>
            <a:off x="2843280" y="5877000"/>
            <a:ext cx="1008000" cy="67464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9966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24000" y="6021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作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692360" y="6021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学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059280" y="60213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学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新春贺喜 - 新年歌曲联唱(高胜美) 　.mp3" descr=""/>
          <p:cNvPicPr/>
          <p:nvPr/>
        </p:nvPicPr>
        <p:blipFill>
          <a:blip r:embed="rId10"/>
          <a:stretch/>
        </p:blipFill>
        <p:spPr>
          <a:xfrm>
            <a:off x="6659640" y="5173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56090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作背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341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时王安石不顾官僚大地主的反对实行改革。推行新的政法，这样，既可以农民不再受大地主的剥削，日子比较好过一点，也巩固宋王朝的统治，增加国家的收入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首诗就是他做宰相推行新法成功是写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想象一下，他当时的心情。他要表达怎样的思想感情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902991_1805370933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元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31640" y="1988640"/>
            <a:ext cx="6135480" cy="35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爆竹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岁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暖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屠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门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户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曈曈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把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桃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∕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旧符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77880" y="15238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安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D86-C646-436B-ACD6-91DC2DD5E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-02-12_175128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57787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4356000" y="765000"/>
            <a:ext cx="4608720" cy="575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00720" y="836640"/>
            <a:ext cx="43192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王安石，字介甫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号半山，抚州临川人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北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杰出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政治家、思想家、文学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“唐宋八大家”之一。在文学方面，王安石不仅在理论上独树一帜，而且在创作实践上别具一格，给后人留下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54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首诗歌、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80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篇散文的丰富文化遗产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>
            <a:hlinkClick r:id="rId3" action="ppaction://hlinksldjump"/>
          </p:cNvPr>
          <p:cNvSpPr/>
          <p:nvPr/>
        </p:nvSpPr>
        <p:spPr>
          <a:xfrm rot="10800000">
            <a:off x="8316720" y="6021360"/>
            <a:ext cx="50292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ng-0152"/>
          <p:cNvPicPr/>
          <p:nvPr/>
        </p:nvPicPr>
        <p:blipFill>
          <a:blip r:embed="rId1"/>
          <a:stretch/>
        </p:blipFill>
        <p:spPr>
          <a:xfrm>
            <a:off x="7667640" y="1844640"/>
            <a:ext cx="1300320" cy="17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png-0159"/>
          <p:cNvPicPr/>
          <p:nvPr/>
        </p:nvPicPr>
        <p:blipFill>
          <a:blip r:embed="rId2"/>
          <a:stretch/>
        </p:blipFill>
        <p:spPr>
          <a:xfrm>
            <a:off x="7518240" y="3213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png-0154"/>
          <p:cNvPicPr/>
          <p:nvPr/>
        </p:nvPicPr>
        <p:blipFill>
          <a:blip r:embed="rId3"/>
          <a:stretch/>
        </p:blipFill>
        <p:spPr>
          <a:xfrm>
            <a:off x="7667640" y="4724280"/>
            <a:ext cx="1476360" cy="1619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09760" y="38466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由朗读古诗，小组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8200" y="1360440"/>
            <a:ext cx="705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读读古诗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你知道古人是怎样过年的吗？从诗中哪些地方知道？把它画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54120" y="31273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燃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爆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957400" y="31273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饮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屠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478480" y="31273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换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新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BANK-20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90840" y="4998960"/>
            <a:ext cx="863280" cy="8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BANK-2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22840" y="4998960"/>
            <a:ext cx="865080" cy="86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BANK-2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910120" y="499896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1878120" y="5288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110120" y="52880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054840" y="52149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想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08720" cy="568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124000" y="4941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png-0252"/>
          <p:cNvPicPr/>
          <p:nvPr/>
        </p:nvPicPr>
        <p:blipFill>
          <a:blip r:embed="rId1"/>
          <a:stretch/>
        </p:blipFill>
        <p:spPr>
          <a:xfrm>
            <a:off x="7524720" y="4076640"/>
            <a:ext cx="1368360" cy="1508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png-0253"/>
          <p:cNvPicPr/>
          <p:nvPr/>
        </p:nvPicPr>
        <p:blipFill>
          <a:blip r:embed="rId2"/>
          <a:stretch/>
        </p:blipFill>
        <p:spPr>
          <a:xfrm>
            <a:off x="7093080" y="5157720"/>
            <a:ext cx="187164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ng-035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5638680"/>
            <a:ext cx="1513080" cy="12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1523880" y="10936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爆竹声中一岁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春风送暖入屠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523880" y="2389320"/>
            <a:ext cx="54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阵阵鞭炮声中，送走了旧年迎来了新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人们迎着和煦的春风，开怀畅饮屠苏美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44600" y="23176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句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31880" y="44766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读读诗句，你感受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452600" y="51260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春节热闹欢乐的气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7020000" y="61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5694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ng-0541"/>
          <p:cNvPicPr/>
          <p:nvPr/>
        </p:nvPicPr>
        <p:blipFill>
          <a:blip r:embed="rId1"/>
          <a:stretch/>
        </p:blipFill>
        <p:spPr>
          <a:xfrm>
            <a:off x="7294680" y="3789360"/>
            <a:ext cx="184932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ng-0538"/>
          <p:cNvPicPr/>
          <p:nvPr/>
        </p:nvPicPr>
        <p:blipFill>
          <a:blip r:embed="rId2"/>
          <a:stretch/>
        </p:blipFill>
        <p:spPr>
          <a:xfrm>
            <a:off x="7451640" y="3429000"/>
            <a:ext cx="1506600" cy="1506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2185920" y="716040"/>
            <a:ext cx="46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千门万户曈曈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总把新桃换旧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74640" y="19400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句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898640" y="1797120"/>
            <a:ext cx="52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旭日的光辉普照千家万户，家家户户都取下了旧桃符，换上新桃符，迎接新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46280" y="34527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从诗句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96800" y="40831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象更新，前景光明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png-05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97560" y="4941720"/>
            <a:ext cx="1667160" cy="1916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7740720" y="5734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72680" y="473076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哪一名既反映民间风俗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又寓含除旧布新的意思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1747080" y="51814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总把新桃换旧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1:16Z</dcterms:modified>
  <cp:revision>2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