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1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7.jpeg" ContentType="image/jpeg"/>
  <Override PartName="/ppt/media/image15.gif" ContentType="image/gif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51BC-9A58-41C7-97B3-91B69251F6B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F93E-51B1-4216-B225-8673018087B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227-B3E5-40FE-B3B6-FBB04870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B71-DC40-4B84-9A7B-B3634C2F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B61-8C1D-4F75-907A-5467BA94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5A7-F723-4897-B9A4-A5D12C7C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CEC-2108-49C5-9CB7-63B3A7C5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480-AAC2-45A0-BE71-5E4633CD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32C-C9A9-462A-BCA4-C5203CAD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4F0-587C-4491-BF3F-FB53FFB0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060-2D06-421B-8C90-3027B420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4EC-AC1E-4898-B2F1-20E4B5F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B4E-81E3-4ED2-B01A-B55515FC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901-9469-4665-A1AA-D10A20C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EE11-01A1-49EC-B1E7-A93863DF7C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" Target="slide8.xml"/><Relationship Id="rId5" Type="http://schemas.openxmlformats.org/officeDocument/2006/relationships/image" Target="../media/image10.png"/><Relationship Id="rId6" Type="http://schemas.openxmlformats.org/officeDocument/2006/relationships/slide" Target="slide10.xml"/><Relationship Id="rId7" Type="http://schemas.openxmlformats.org/officeDocument/2006/relationships/image" Target="../media/image11.jpeg"/><Relationship Id="rId8" Type="http://schemas.openxmlformats.org/officeDocument/2006/relationships/slide" Target="slide12.xml"/><Relationship Id="rId9" Type="http://schemas.openxmlformats.org/officeDocument/2006/relationships/image" Target="../media/image12.jpeg"/><Relationship Id="rId10" Type="http://schemas.openxmlformats.org/officeDocument/2006/relationships/slide" Target="slide14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19160" y="1916280"/>
            <a:ext cx="73152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隶书"/>
                <a:ea typeface="隶书"/>
              </a:rPr>
              <a:t>要是你在野外迷了路</a:t>
            </a:r>
            <a:endParaRPr b="0" lang="en-US" sz="8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958400" y="5688000"/>
            <a:ext cx="53794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4000" spc="-1" strike="noStrike">
                <a:solidFill>
                  <a:srgbClr val="336600"/>
                </a:solidFill>
                <a:latin typeface="微软雅黑"/>
                <a:ea typeface="微软雅黑"/>
              </a:rPr>
              <a:t>http://www.eeppt.com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9" presetSubtype="10" repeatCount="400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3880" y="22096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2286000" y="251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62120" y="1295280"/>
            <a:ext cx="761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"/>
              </a:rPr>
              <a:t>要是碰上阴雨天，　　</a:t>
            </a:r>
            <a:endParaRPr b="0" lang="en-US" sz="54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"/>
              </a:rPr>
              <a:t>大树也会来帮忙。　　</a:t>
            </a:r>
            <a:endParaRPr b="0" lang="en-US" sz="54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"/>
              </a:rPr>
              <a:t>枝叶稠密的一面是南方，　　枝叶稀疏的一面是北方。</a:t>
            </a:r>
            <a:endParaRPr b="0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381797e965dadf78435d1a066235c81d"/>
          <p:cNvPicPr/>
          <p:nvPr/>
        </p:nvPicPr>
        <p:blipFill>
          <a:blip r:embed="rId2"/>
          <a:stretch/>
        </p:blipFill>
        <p:spPr>
          <a:xfrm>
            <a:off x="914400" y="0"/>
            <a:ext cx="9144000" cy="7380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61722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稀</a:t>
            </a:r>
            <a:endParaRPr b="0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752480" y="295596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稠</a:t>
            </a:r>
            <a:endParaRPr b="0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095880" y="188928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33"/>
                </a:solidFill>
                <a:latin typeface="隶书"/>
                <a:ea typeface="隶书"/>
              </a:rPr>
              <a:t>北方</a:t>
            </a:r>
            <a:endParaRPr b="0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90720" y="1752480"/>
            <a:ext cx="2209680" cy="1008360"/>
          </a:xfrm>
          <a:prstGeom prst="rect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南方</a:t>
            </a:r>
            <a:endParaRPr b="0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AutoShape 8">
            <a:hlinkClick r:id="rId3" action="ppaction://hlinksldjump"/>
          </p:cNvPr>
          <p:cNvSpPr/>
          <p:nvPr/>
        </p:nvSpPr>
        <p:spPr>
          <a:xfrm>
            <a:off x="8305920" y="6172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76320" y="996840"/>
            <a:ext cx="906768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雪特别怕太阳，　　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沟渠里的积雪也会给你指点方向。　　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看看哪边的雪化得快，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哪边的雪化得慢，　　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就可以分辨北方和南方。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要是你在野外迷了路_图2"/>
          <p:cNvPicPr/>
          <p:nvPr/>
        </p:nvPicPr>
        <p:blipFill>
          <a:blip r:embed="rId1"/>
          <a:stretch/>
        </p:blipFill>
        <p:spPr>
          <a:xfrm>
            <a:off x="0" y="0"/>
            <a:ext cx="9144000" cy="4881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22240" y="535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4881600"/>
            <a:ext cx="9144000" cy="19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346480" y="-248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494820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雪化得快的一边是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化得慢的一边是　　　。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629320" y="50306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北边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181480" y="5683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南边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5638680" y="5638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5105520" y="63244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9" name="Picture 11" descr="太阳"/>
          <p:cNvPicPr/>
          <p:nvPr/>
        </p:nvPicPr>
        <p:blipFill>
          <a:blip r:embed="rId2"/>
          <a:stretch/>
        </p:blipFill>
        <p:spPr>
          <a:xfrm>
            <a:off x="6248520" y="3808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Line 12"/>
          <p:cNvSpPr/>
          <p:nvPr/>
        </p:nvSpPr>
        <p:spPr>
          <a:xfrm flipH="1">
            <a:off x="2514600" y="990720"/>
            <a:ext cx="3657600" cy="2361960"/>
          </a:xfrm>
          <a:prstGeom prst="line">
            <a:avLst/>
          </a:prstGeom>
          <a:ln w="38160">
            <a:solidFill>
              <a:srgbClr val="ffff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193680" y="6324480"/>
            <a:ext cx="67406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33520" y="990720"/>
            <a:ext cx="8076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要是你在野外迷了路，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可千万别慌张， 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大自然有很多天然的指南针，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需要你细细观察，多多去想。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2F95-2294-4B9F-BF3F-FE0D63B109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09480" y="2057400"/>
            <a:ext cx="815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天然      指南针      辨别      忠实      向导 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树影      一盏灯     北极星     稠          稀  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沟渠        分辨         需要     观察     慌张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碰见       积雪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2" name="Picture 3" descr="01-09-010-03"/>
          <p:cNvPicPr/>
          <p:nvPr/>
        </p:nvPicPr>
        <p:blipFill>
          <a:blip r:embed="rId1"/>
          <a:stretch/>
        </p:blipFill>
        <p:spPr>
          <a:xfrm>
            <a:off x="533520" y="3049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963800" y="533520"/>
            <a:ext cx="3809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谁能闯关？</a:t>
            </a:r>
            <a:endParaRPr b="0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0472894410"/>
          <p:cNvPicPr/>
          <p:nvPr/>
        </p:nvPicPr>
        <p:blipFill>
          <a:blip r:embed="rId1"/>
          <a:stretch/>
        </p:blipFill>
        <p:spPr>
          <a:xfrm>
            <a:off x="1143000" y="2666880"/>
            <a:ext cx="2895480" cy="2293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85768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6" name="Picture 4" descr="91"/>
          <p:cNvPicPr/>
          <p:nvPr/>
        </p:nvPicPr>
        <p:blipFill>
          <a:blip r:embed="rId2"/>
          <a:stretch/>
        </p:blipFill>
        <p:spPr>
          <a:xfrm>
            <a:off x="228600" y="6095880"/>
            <a:ext cx="8763120" cy="609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429000" y="10666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cc"/>
                </a:solidFill>
                <a:latin typeface="_x000b__x000c_"/>
                <a:ea typeface="Arial Unicode MS"/>
              </a:rPr>
              <a:t>指南针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8" name="Picture 6" descr="46"/>
          <p:cNvPicPr/>
          <p:nvPr/>
        </p:nvPicPr>
        <p:blipFill>
          <a:blip r:embed="rId3"/>
          <a:stretch/>
        </p:blipFill>
        <p:spPr>
          <a:xfrm>
            <a:off x="1219320" y="533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u=754799871,2347230369&amp;fm=116&amp;gp=0"/>
          <p:cNvPicPr/>
          <p:nvPr/>
        </p:nvPicPr>
        <p:blipFill>
          <a:blip r:embed="rId4"/>
          <a:stretch/>
        </p:blipFill>
        <p:spPr>
          <a:xfrm>
            <a:off x="4421160" y="2666880"/>
            <a:ext cx="34210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野外12"/>
          <p:cNvPicPr/>
          <p:nvPr/>
        </p:nvPicPr>
        <p:blipFill>
          <a:blip r:embed="rId1"/>
          <a:stretch/>
        </p:blipFill>
        <p:spPr>
          <a:xfrm>
            <a:off x="4680" y="0"/>
            <a:ext cx="91458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28600" y="708120"/>
            <a:ext cx="9220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要是你在野外迷了路，</a:t>
            </a:r>
            <a:endParaRPr b="0" lang="en-US" sz="5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可千万别慌张， </a:t>
            </a:r>
            <a:endParaRPr b="0" lang="en-US" sz="5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大自然有很多天然的指南针，</a:t>
            </a:r>
            <a:endParaRPr b="0" lang="en-US" sz="5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会帮助你辨别方向。</a:t>
            </a:r>
            <a:endParaRPr b="0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343400" y="2689200"/>
            <a:ext cx="480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天然的指南针，</a:t>
            </a:r>
            <a:endParaRPr b="0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问号"/>
          <p:cNvPicPr/>
          <p:nvPr/>
        </p:nvPicPr>
        <p:blipFill>
          <a:blip r:embed="rId1"/>
          <a:stretch/>
        </p:blipFill>
        <p:spPr>
          <a:xfrm>
            <a:off x="395280" y="404640"/>
            <a:ext cx="1873080" cy="111312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"/>
          <p:cNvGrpSpPr/>
          <p:nvPr/>
        </p:nvGrpSpPr>
        <p:grpSpPr>
          <a:xfrm>
            <a:off x="808200" y="2666880"/>
            <a:ext cx="874440" cy="1855800"/>
            <a:chOff x="808200" y="2666880"/>
            <a:chExt cx="874440" cy="1855800"/>
          </a:xfrm>
        </p:grpSpPr>
        <p:pic>
          <p:nvPicPr>
            <p:cNvPr id="65" name="Picture 4" descr="XQ_060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200" y="266688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5"/>
            <p:cNvSpPr/>
            <p:nvPr/>
          </p:nvSpPr>
          <p:spPr>
            <a:xfrm>
              <a:off x="892440" y="38192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太阳</a:t>
              </a:r>
              <a:endParaRPr b="0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7" name="Group 6"/>
          <p:cNvGrpSpPr/>
          <p:nvPr/>
        </p:nvGrpSpPr>
        <p:grpSpPr>
          <a:xfrm>
            <a:off x="2502000" y="2666880"/>
            <a:ext cx="1441440" cy="1855800"/>
            <a:chOff x="2502000" y="2666880"/>
            <a:chExt cx="1441440" cy="1855800"/>
          </a:xfrm>
        </p:grpSpPr>
        <p:pic>
          <p:nvPicPr>
            <p:cNvPr id="68" name="Picture 7" descr="北极星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502000" y="2666880"/>
              <a:ext cx="14414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8"/>
            <p:cNvSpPr/>
            <p:nvPr/>
          </p:nvSpPr>
          <p:spPr>
            <a:xfrm>
              <a:off x="2594880" y="38192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极星</a:t>
              </a:r>
              <a:endParaRPr b="0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4419720" y="2666880"/>
            <a:ext cx="1512720" cy="1855800"/>
            <a:chOff x="4419720" y="2666880"/>
            <a:chExt cx="1512720" cy="1855800"/>
          </a:xfrm>
        </p:grpSpPr>
        <p:pic>
          <p:nvPicPr>
            <p:cNvPr id="71" name="Picture 10" descr="大树图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419720" y="2666880"/>
              <a:ext cx="15127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4734000" y="38192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大树</a:t>
              </a:r>
              <a:endParaRPr b="0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6324480" y="2666880"/>
            <a:ext cx="1512720" cy="1855800"/>
            <a:chOff x="6324480" y="2666880"/>
            <a:chExt cx="1512720" cy="1855800"/>
          </a:xfrm>
        </p:grpSpPr>
        <p:pic>
          <p:nvPicPr>
            <p:cNvPr id="74" name="Picture 13" descr="雪景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6324480" y="2666880"/>
              <a:ext cx="151272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4"/>
            <p:cNvSpPr/>
            <p:nvPr/>
          </p:nvSpPr>
          <p:spPr>
            <a:xfrm>
              <a:off x="6675480" y="38192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积雪</a:t>
              </a:r>
              <a:endParaRPr b="0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6" name="AutoShape 15"/>
          <p:cNvSpPr/>
          <p:nvPr/>
        </p:nvSpPr>
        <p:spPr>
          <a:xfrm>
            <a:off x="826920" y="4653000"/>
            <a:ext cx="1008360" cy="64764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24" h="21600">
                <a:moveTo>
                  <a:pt x="0" y="0"/>
                </a:moveTo>
                <a:lnTo>
                  <a:pt x="33624" y="0"/>
                </a:lnTo>
                <a:lnTo>
                  <a:pt x="33624" y="21600"/>
                </a:lnTo>
                <a:lnTo>
                  <a:pt x="0" y="21600"/>
                </a:lnTo>
                <a:close/>
              </a:path>
              <a:path fill="lightenLess" w="33624" h="21600">
                <a:moveTo>
                  <a:pt x="0" y="0"/>
                </a:moveTo>
                <a:lnTo>
                  <a:pt x="33624" y="0"/>
                </a:lnTo>
                <a:lnTo>
                  <a:pt x="32224" y="1400"/>
                </a:lnTo>
                <a:lnTo>
                  <a:pt x="1400" y="1400"/>
                </a:lnTo>
                <a:close/>
              </a:path>
              <a:path fill="darken" w="33624" h="21600">
                <a:moveTo>
                  <a:pt x="33624" y="0"/>
                </a:moveTo>
                <a:lnTo>
                  <a:pt x="33624" y="21600"/>
                </a:lnTo>
                <a:lnTo>
                  <a:pt x="32224" y="20200"/>
                </a:lnTo>
                <a:lnTo>
                  <a:pt x="32224" y="1400"/>
                </a:lnTo>
                <a:close/>
              </a:path>
              <a:path fill="darkenLess" w="33624" h="21600">
                <a:moveTo>
                  <a:pt x="3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4" y="20200"/>
                </a:lnTo>
                <a:close/>
              </a:path>
              <a:path fill="lighten" w="3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2627280" y="465300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AutoShape 17"/>
          <p:cNvSpPr/>
          <p:nvPr/>
        </p:nvSpPr>
        <p:spPr>
          <a:xfrm>
            <a:off x="4643280" y="4653000"/>
            <a:ext cx="1008360" cy="64764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24" h="21600">
                <a:moveTo>
                  <a:pt x="0" y="0"/>
                </a:moveTo>
                <a:lnTo>
                  <a:pt x="33624" y="0"/>
                </a:lnTo>
                <a:lnTo>
                  <a:pt x="33624" y="21600"/>
                </a:lnTo>
                <a:lnTo>
                  <a:pt x="0" y="21600"/>
                </a:lnTo>
                <a:close/>
              </a:path>
              <a:path fill="lightenLess" w="33624" h="21600">
                <a:moveTo>
                  <a:pt x="0" y="0"/>
                </a:moveTo>
                <a:lnTo>
                  <a:pt x="33624" y="0"/>
                </a:lnTo>
                <a:lnTo>
                  <a:pt x="32224" y="1400"/>
                </a:lnTo>
                <a:lnTo>
                  <a:pt x="1400" y="1400"/>
                </a:lnTo>
                <a:close/>
              </a:path>
              <a:path fill="darken" w="33624" h="21600">
                <a:moveTo>
                  <a:pt x="33624" y="0"/>
                </a:moveTo>
                <a:lnTo>
                  <a:pt x="33624" y="21600"/>
                </a:lnTo>
                <a:lnTo>
                  <a:pt x="32224" y="20200"/>
                </a:lnTo>
                <a:lnTo>
                  <a:pt x="32224" y="1400"/>
                </a:lnTo>
                <a:close/>
              </a:path>
              <a:path fill="darkenLess" w="33624" h="21600">
                <a:moveTo>
                  <a:pt x="3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4" y="20200"/>
                </a:lnTo>
                <a:close/>
              </a:path>
              <a:path fill="lighten" w="3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6588000" y="4653000"/>
            <a:ext cx="1008360" cy="64764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24" h="21600">
                <a:moveTo>
                  <a:pt x="0" y="0"/>
                </a:moveTo>
                <a:lnTo>
                  <a:pt x="33624" y="0"/>
                </a:lnTo>
                <a:lnTo>
                  <a:pt x="33624" y="21600"/>
                </a:lnTo>
                <a:lnTo>
                  <a:pt x="0" y="21600"/>
                </a:lnTo>
                <a:close/>
              </a:path>
              <a:path fill="lightenLess" w="33624" h="21600">
                <a:moveTo>
                  <a:pt x="0" y="0"/>
                </a:moveTo>
                <a:lnTo>
                  <a:pt x="33624" y="0"/>
                </a:lnTo>
                <a:lnTo>
                  <a:pt x="32224" y="1400"/>
                </a:lnTo>
                <a:lnTo>
                  <a:pt x="1400" y="1400"/>
                </a:lnTo>
                <a:close/>
              </a:path>
              <a:path fill="darken" w="33624" h="21600">
                <a:moveTo>
                  <a:pt x="33624" y="0"/>
                </a:moveTo>
                <a:lnTo>
                  <a:pt x="33624" y="21600"/>
                </a:lnTo>
                <a:lnTo>
                  <a:pt x="32224" y="20200"/>
                </a:lnTo>
                <a:lnTo>
                  <a:pt x="32224" y="1400"/>
                </a:lnTo>
                <a:close/>
              </a:path>
              <a:path fill="darkenLess" w="33624" h="21600">
                <a:moveTo>
                  <a:pt x="3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4" y="20200"/>
                </a:lnTo>
                <a:close/>
              </a:path>
              <a:path fill="lighten" w="3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AutoShape 19">
            <a:hlinkClick r:id="rId10" action="ppaction://hlinksldjump"/>
          </p:cNvPr>
          <p:cNvSpPr/>
          <p:nvPr/>
        </p:nvSpPr>
        <p:spPr>
          <a:xfrm>
            <a:off x="8077320" y="64008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21954996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486080" y="119376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太阳是个忠实的向导，它在天空给你指点方向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447920" y="304812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中午的时候它在南边，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地上的树影正指着北方。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场景042018"/>
          <p:cNvPicPr/>
          <p:nvPr/>
        </p:nvPicPr>
        <p:blipFill>
          <a:blip r:embed="rId1">
            <a:alphaModFix amt="68000"/>
          </a:blip>
          <a:stretch/>
        </p:blipFill>
        <p:spPr>
          <a:xfrm>
            <a:off x="-147600" y="-71280"/>
            <a:ext cx="9520200" cy="7005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太阳"/>
          <p:cNvPicPr/>
          <p:nvPr/>
        </p:nvPicPr>
        <p:blipFill>
          <a:blip r:embed="rId2"/>
          <a:stretch/>
        </p:blipFill>
        <p:spPr>
          <a:xfrm>
            <a:off x="5943600" y="457200"/>
            <a:ext cx="1219320" cy="1219320"/>
          </a:xfrm>
          <a:prstGeom prst="rect">
            <a:avLst/>
          </a:prstGeom>
          <a:ln w="0">
            <a:noFill/>
          </a:ln>
        </p:spPr>
      </p:pic>
      <p:cxnSp>
        <p:nvCxnSpPr>
          <p:cNvPr id="86" name="AutoShape 4"/>
          <p:cNvCxnSpPr/>
          <p:nvPr/>
        </p:nvCxnSpPr>
        <p:spPr>
          <a:xfrm flipH="1">
            <a:off x="1599840" y="1447920"/>
            <a:ext cx="4191840" cy="4604400"/>
          </a:xfrm>
          <a:prstGeom prst="straightConnector1">
            <a:avLst/>
          </a:prstGeom>
          <a:ln w="57240">
            <a:solidFill>
              <a:srgbClr val="ffff99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87" name="Text Box 5"/>
          <p:cNvSpPr/>
          <p:nvPr/>
        </p:nvSpPr>
        <p:spPr>
          <a:xfrm>
            <a:off x="3886200" y="9907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04920" y="44956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905120" y="1752480"/>
            <a:ext cx="4419360" cy="3733920"/>
          </a:xfrm>
          <a:prstGeom prst="line">
            <a:avLst/>
          </a:prstGeom>
          <a:ln w="38160">
            <a:solidFill>
              <a:srgbClr val="ffff99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629400" y="54864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西</a:t>
            </a:r>
            <a:endParaRPr b="0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33520" y="60948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东</a:t>
            </a:r>
            <a:endParaRPr b="0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8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38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38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8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38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447920" y="1143000"/>
            <a:ext cx="6781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"/>
              </a:rPr>
              <a:t>北极星是盏指路灯，　　　　　　　　　　　　　　　　　　　　　它永远高挂在北方。　　　　　　　　　　　　　　　　　　　　　要是你能认出它，　　　　　　　就不会在黑夜里乱闯。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8229600" y="6172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981080" y="838080"/>
            <a:ext cx="2743200" cy="990720"/>
            <a:chOff x="1981080" y="838080"/>
            <a:chExt cx="2743200" cy="990720"/>
          </a:xfrm>
        </p:grpSpPr>
        <p:pic>
          <p:nvPicPr>
            <p:cNvPr id="97" name="Picture 4" descr="star"/>
            <p:cNvPicPr/>
            <p:nvPr/>
          </p:nvPicPr>
          <p:blipFill>
            <a:blip r:embed="rId2"/>
            <a:stretch/>
          </p:blipFill>
          <p:spPr>
            <a:xfrm>
              <a:off x="1981080" y="8380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star"/>
            <p:cNvPicPr/>
            <p:nvPr/>
          </p:nvPicPr>
          <p:blipFill>
            <a:blip r:embed="rId3"/>
            <a:stretch/>
          </p:blipFill>
          <p:spPr>
            <a:xfrm>
              <a:off x="2666880" y="8380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star"/>
            <p:cNvPicPr/>
            <p:nvPr/>
          </p:nvPicPr>
          <p:blipFill>
            <a:blip r:embed="rId4"/>
            <a:stretch/>
          </p:blipFill>
          <p:spPr>
            <a:xfrm>
              <a:off x="3124080" y="99036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7" descr="star"/>
            <p:cNvPicPr/>
            <p:nvPr/>
          </p:nvPicPr>
          <p:blipFill>
            <a:blip r:embed="rId5"/>
            <a:stretch/>
          </p:blipFill>
          <p:spPr>
            <a:xfrm>
              <a:off x="3657600" y="114300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8" descr="star"/>
            <p:cNvPicPr/>
            <p:nvPr/>
          </p:nvPicPr>
          <p:blipFill>
            <a:blip r:embed="rId6"/>
            <a:stretch/>
          </p:blipFill>
          <p:spPr>
            <a:xfrm>
              <a:off x="3886200" y="160020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9" descr="star"/>
            <p:cNvPicPr/>
            <p:nvPr/>
          </p:nvPicPr>
          <p:blipFill>
            <a:blip r:embed="rId7"/>
            <a:stretch/>
          </p:blipFill>
          <p:spPr>
            <a:xfrm>
              <a:off x="4495680" y="15238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star"/>
            <p:cNvPicPr/>
            <p:nvPr/>
          </p:nvPicPr>
          <p:blipFill>
            <a:blip r:embed="rId8"/>
            <a:stretch/>
          </p:blipFill>
          <p:spPr>
            <a:xfrm>
              <a:off x="4495680" y="99036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11" descr="62MC4IBXTN_100"/>
          <p:cNvPicPr/>
          <p:nvPr/>
        </p:nvPicPr>
        <p:blipFill>
          <a:blip r:embed="rId9"/>
          <a:stretch/>
        </p:blipFill>
        <p:spPr>
          <a:xfrm>
            <a:off x="533520" y="609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2"/>
          <p:cNvSpPr/>
          <p:nvPr/>
        </p:nvSpPr>
        <p:spPr>
          <a:xfrm>
            <a:off x="0" y="1523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北极星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AutoShape 13"/>
          <p:cNvSpPr/>
          <p:nvPr/>
        </p:nvSpPr>
        <p:spPr>
          <a:xfrm rot="3704400">
            <a:off x="688680" y="1272960"/>
            <a:ext cx="741240" cy="163800"/>
          </a:xfrm>
          <a:prstGeom prst="leftArrow">
            <a:avLst>
              <a:gd name="adj1" fmla="val 50000"/>
              <a:gd name="adj2" fmla="val 1130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95400" y="2666880"/>
            <a:ext cx="5790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</a:rPr>
              <a:t>北极星又叫启明星，是晚上最亮的一颗星，晚上让我们可以辨别方向，它所在的位置就在北边，为人们指路。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7696080" y="5943600"/>
            <a:ext cx="914400" cy="838080"/>
          </a:xfrm>
          <a:custGeom>
            <a:avLst/>
            <a:gdLst/>
            <a:ahLst/>
            <a:rect l="l" t="t" r="r" b="b"/>
            <a:pathLst>
              <a:path w="914400" h="838200">
                <a:moveTo>
                  <a:pt x="0" y="320163"/>
                </a:moveTo>
                <a:lnTo>
                  <a:pt x="349271" y="320165"/>
                </a:lnTo>
                <a:lnTo>
                  <a:pt x="457200" y="0"/>
                </a:lnTo>
                <a:lnTo>
                  <a:pt x="565128" y="320165"/>
                </a:lnTo>
                <a:lnTo>
                  <a:pt x="914399" y="320163"/>
                </a:lnTo>
                <a:lnTo>
                  <a:pt x="631831" y="518033"/>
                </a:lnTo>
                <a:lnTo>
                  <a:pt x="739764" y="838197"/>
                </a:lnTo>
                <a:lnTo>
                  <a:pt x="457200" y="640323"/>
                </a:lnTo>
                <a:lnTo>
                  <a:pt x="174635" y="838197"/>
                </a:lnTo>
                <a:lnTo>
                  <a:pt x="282568" y="51803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3:16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4:32Z</dcterms:modified>
  <cp:revision>8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