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whoosh.wav" ContentType="audio/x-wav"/>
  <Override PartName="/ppt/media/chimes.wav" ContentType="audio/x-wav"/>
  <Override PartName="/ppt/media/image6.jpeg" ContentType="image/jpeg"/>
  <Override PartName="/ppt/media/image5.jpeg" ContentType="image/jpeg"/>
  <Override PartName="/ppt/media/image4.jpeg" ContentType="image/jpeg"/>
  <Override PartName="/ppt/media/image11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laser.wav" ContentType="audio/x-wav"/>
  <Override PartName="/ppt/media/type.wav" ContentType="audio/x-wav"/>
  <Override PartName="/ppt/media/image14.gif" ContentType="image/gif"/>
  <Override PartName="/ppt/media/image17.png" ContentType="image/png"/>
  <Override PartName="/ppt/media/image19.png" ContentType="image/png"/>
  <Override PartName="/ppt/media/image16.gif" ContentType="image/gif"/>
  <Override PartName="/ppt/media/image13.png" ContentType="image/png"/>
  <Override PartName="/ppt/media/image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0000"/>
                </a:solidFill>
                <a:latin typeface="黑体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026-980C-467B-AFB2-B3263826E498}" type="slidenum">
              <a:rPr b="0" lang="zh-CN" sz="1200" spc="-1" strike="noStrike">
                <a:solidFill>
                  <a:srgbClr val="ff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8974-F193-4A00-846B-931F8EF63D72}" type="slidenum">
              <a:rPr b="0" lang="zh-CN" sz="1200" spc="-1" strike="noStrike">
                <a:solidFill>
                  <a:srgbClr val="ff0000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76EA-8FCC-415C-8A44-D414E7DC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F5C-FD71-44CD-9958-C0AE8F2A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E39-1B09-494A-9A4A-F38E8EA9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24B-09DF-40C9-965D-47269C3F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110-7B65-4F3E-B92A-854C3349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8D9-4AFD-4288-8AF5-448443F8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086-097A-40D2-A9E8-B4F1820B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D0E1-EC98-4AB5-9C75-C6794872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BFE-89BB-4CD9-BD02-CCFF51EF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16A-77A7-43C1-9072-6BDB0A1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3B9-4212-4B9C-942B-01F5B77E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CA3-3CA5-4F12-AA69-2F1565A0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EE1-5443-4BEC-AF3B-CE4C978A37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2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18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8.jpeg"/><Relationship Id="rId3" Type="http://schemas.openxmlformats.org/officeDocument/2006/relationships/hyperlink" Target="http://www.zbggw.com/Soft/jc/tb/chahua/200703/4179.html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8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要是你在野外</a:t>
            </a:r>
            <a:br>
              <a:rPr sz="7200"/>
            </a:br>
            <a:r>
              <a:rPr b="1" i="1" lang="zh-CN" sz="7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迷了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boy1"/>
          <p:cNvPicPr/>
          <p:nvPr/>
        </p:nvPicPr>
        <p:blipFill>
          <a:blip r:embed="rId1"/>
          <a:stretch/>
        </p:blipFill>
        <p:spPr>
          <a:xfrm>
            <a:off x="5762520" y="3733920"/>
            <a:ext cx="3381480" cy="2895480"/>
          </a:xfrm>
          <a:prstGeom prst="rect">
            <a:avLst/>
          </a:prstGeom>
          <a:ln w="0">
            <a:noFill/>
          </a:ln>
        </p:spPr>
      </p:pic>
      <p:sp>
        <p:nvSpPr>
          <p:cNvPr id="50" name="矩形 7"/>
          <p:cNvSpPr/>
          <p:nvPr/>
        </p:nvSpPr>
        <p:spPr>
          <a:xfrm>
            <a:off x="1220400" y="52578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星星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3"/>
          <p:cNvGrpSpPr/>
          <p:nvPr/>
        </p:nvGrpSpPr>
        <p:grpSpPr>
          <a:xfrm>
            <a:off x="1981080" y="838080"/>
            <a:ext cx="2743200" cy="990360"/>
            <a:chOff x="1981080" y="838080"/>
            <a:chExt cx="2743200" cy="990360"/>
          </a:xfrm>
        </p:grpSpPr>
        <p:pic>
          <p:nvPicPr>
            <p:cNvPr id="106" name="Picture 4" descr="star"/>
            <p:cNvPicPr/>
            <p:nvPr/>
          </p:nvPicPr>
          <p:blipFill>
            <a:blip r:embed="rId2"/>
            <a:stretch/>
          </p:blipFill>
          <p:spPr>
            <a:xfrm>
              <a:off x="19810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5" descr="star"/>
            <p:cNvPicPr/>
            <p:nvPr/>
          </p:nvPicPr>
          <p:blipFill>
            <a:blip r:embed="rId3"/>
            <a:stretch/>
          </p:blipFill>
          <p:spPr>
            <a:xfrm>
              <a:off x="2666880" y="8380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6" descr="star"/>
            <p:cNvPicPr/>
            <p:nvPr/>
          </p:nvPicPr>
          <p:blipFill>
            <a:blip r:embed="rId4"/>
            <a:stretch/>
          </p:blipFill>
          <p:spPr>
            <a:xfrm>
              <a:off x="31240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7" descr="star"/>
            <p:cNvPicPr/>
            <p:nvPr/>
          </p:nvPicPr>
          <p:blipFill>
            <a:blip r:embed="rId5"/>
            <a:stretch/>
          </p:blipFill>
          <p:spPr>
            <a:xfrm>
              <a:off x="3657240" y="11426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8" descr="star"/>
            <p:cNvPicPr/>
            <p:nvPr/>
          </p:nvPicPr>
          <p:blipFill>
            <a:blip r:embed="rId6"/>
            <a:stretch/>
          </p:blipFill>
          <p:spPr>
            <a:xfrm>
              <a:off x="3885840" y="159984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star"/>
            <p:cNvPicPr/>
            <p:nvPr/>
          </p:nvPicPr>
          <p:blipFill>
            <a:blip r:embed="rId7"/>
            <a:stretch/>
          </p:blipFill>
          <p:spPr>
            <a:xfrm>
              <a:off x="4495680" y="1523880"/>
              <a:ext cx="22860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10" descr="star"/>
            <p:cNvPicPr/>
            <p:nvPr/>
          </p:nvPicPr>
          <p:blipFill>
            <a:blip r:embed="rId8"/>
            <a:stretch/>
          </p:blipFill>
          <p:spPr>
            <a:xfrm>
              <a:off x="4495680" y="990360"/>
              <a:ext cx="22860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Picture 11" descr="62MC4IBXTN_100"/>
          <p:cNvPicPr/>
          <p:nvPr/>
        </p:nvPicPr>
        <p:blipFill>
          <a:blip r:embed="rId9"/>
          <a:stretch/>
        </p:blipFill>
        <p:spPr>
          <a:xfrm>
            <a:off x="3733920" y="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5"/>
          <p:cNvSpPr/>
          <p:nvPr/>
        </p:nvSpPr>
        <p:spPr>
          <a:xfrm>
            <a:off x="-2292480" y="1219320"/>
            <a:ext cx="94554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找一找：         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能找到哪边是北，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哪边是南吗？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15" name="AutoShape 16"/>
          <p:cNvSpPr/>
          <p:nvPr/>
        </p:nvSpPr>
        <p:spPr>
          <a:xfrm rot="3704400">
            <a:off x="3738240" y="745920"/>
            <a:ext cx="741240" cy="163800"/>
          </a:xfrm>
          <a:prstGeom prst="leftArrow">
            <a:avLst>
              <a:gd name="adj1" fmla="val 50000"/>
              <a:gd name="adj2" fmla="val 1130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1523880" y="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北极星</a:t>
            </a: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894560" y="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黑体"/>
              </a:rPr>
              <a:t>北</a:t>
            </a:r>
            <a:endParaRPr b="0" lang="en-US" sz="66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1447920" y="1143000"/>
            <a:ext cx="678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极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盏指路灯，　　　　　　　　　　　　　　　　　　　　　它永远高挂在北方。　　　　　　　　　　　　　　　　　　　　　要是你能认出它，　　　　　　　就不会在黑夜里乱闯。 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1295280" y="2666880"/>
            <a:ext cx="5562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场景042017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19320" y="2362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</a:rPr>
              <a:t>稠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467480" y="213372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</a:rPr>
              <a:t>稀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952920" y="350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茂密）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004520" y="3352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稀疏）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pic>
        <p:nvPicPr>
          <p:cNvPr id="126" name="Picture 7" descr="381797e965dadf78435d1a066235c81d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80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964800" y="1219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黑体"/>
              </a:rPr>
              <a:t>南方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441920" y="9144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黑体"/>
              </a:rPr>
              <a:t>北方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1295280" y="144792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碰上阴雨天，　　　　　　　　　　　　　　　　　　　　　大树也会来帮忙。　　　　　　　　　　　　　　　　　　　　　枝叶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面是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南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枝叶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面是</a:t>
            </a:r>
            <a:r>
              <a:rPr b="1" lang="zh-CN" sz="5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北方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1" name="AutoShape 4">
            <a:hlinkClick r:id="rId2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152280" y="190440"/>
            <a:ext cx="92203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特别怕太阳，　　　　　　　　　　　　　　　　　　　　　 沟渠里的积雪会给你指点方向。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看哪边的雪化得快，哪边化得慢，　　　　　　　　　　　　　　　　　　　　　就可以分辨北方和南方。 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3808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要是你在野外迷了路_图2"/>
          <p:cNvPicPr/>
          <p:nvPr/>
        </p:nvPicPr>
        <p:blipFill>
          <a:blip r:embed="rId1"/>
          <a:stretch/>
        </p:blipFill>
        <p:spPr>
          <a:xfrm>
            <a:off x="15840" y="0"/>
            <a:ext cx="9144000" cy="4889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822240" y="578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346480" y="-24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04920" y="4181400"/>
            <a:ext cx="83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　　　　　　　　　　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化得快的一边是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＿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得慢的一边是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</a:rPr>
              <a:t>＿＿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19920" y="477504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方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57800" y="5613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南方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pic>
        <p:nvPicPr>
          <p:cNvPr id="140" name="Picture 12" descr="太阳"/>
          <p:cNvPicPr/>
          <p:nvPr/>
        </p:nvPicPr>
        <p:blipFill>
          <a:blip r:embed="rId2"/>
          <a:stretch/>
        </p:blipFill>
        <p:spPr>
          <a:xfrm>
            <a:off x="6248520" y="3808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Line 13"/>
          <p:cNvSpPr/>
          <p:nvPr/>
        </p:nvSpPr>
        <p:spPr>
          <a:xfrm flipH="1">
            <a:off x="2514600" y="990720"/>
            <a:ext cx="3657600" cy="2361960"/>
          </a:xfrm>
          <a:prstGeom prst="line">
            <a:avLst/>
          </a:prstGeom>
          <a:ln w="38160">
            <a:solidFill>
              <a:srgbClr val="ffff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374840" y="2514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北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7623000" y="29685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</a:rPr>
              <a:t>南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822240" y="739800"/>
            <a:ext cx="6188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更多免费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PPT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模板尽在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</a:rPr>
              <a:t>http://www.eeppt.com</a:t>
            </a:r>
            <a:endParaRPr b="0" lang="en-US" sz="2000" spc="-1" strike="noStrike">
              <a:solidFill>
                <a:srgbClr val="ff0000"/>
              </a:solidFill>
              <a:latin typeface="黑体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要是在野外迷了路，怎么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450864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586728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什么时候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观察什么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怎样辨别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42"/>
          <p:cNvSpPr/>
          <p:nvPr/>
        </p:nvSpPr>
        <p:spPr>
          <a:xfrm>
            <a:off x="60948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白天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48" name="Text Box 45"/>
          <p:cNvSpPr/>
          <p:nvPr/>
        </p:nvSpPr>
        <p:spPr>
          <a:xfrm>
            <a:off x="1752480" y="27432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太阳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49" name="Text Box 46"/>
          <p:cNvSpPr/>
          <p:nvPr/>
        </p:nvSpPr>
        <p:spPr>
          <a:xfrm>
            <a:off x="2819520" y="27432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中午时，太阳在南边 ；树影指北方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0" name="Text Box 50"/>
          <p:cNvSpPr/>
          <p:nvPr/>
        </p:nvSpPr>
        <p:spPr>
          <a:xfrm>
            <a:off x="533520" y="3581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黑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1" name="Text Box 51"/>
          <p:cNvSpPr/>
          <p:nvPr/>
        </p:nvSpPr>
        <p:spPr>
          <a:xfrm>
            <a:off x="1523880" y="3581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北极星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2" name="Text Box 52"/>
          <p:cNvSpPr/>
          <p:nvPr/>
        </p:nvSpPr>
        <p:spPr>
          <a:xfrm>
            <a:off x="2819520" y="3581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永远高挂在北方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3" name="Text Box 53"/>
          <p:cNvSpPr/>
          <p:nvPr/>
        </p:nvSpPr>
        <p:spPr>
          <a:xfrm>
            <a:off x="457200" y="4419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阴雨天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4" name="Text Box 54"/>
          <p:cNvSpPr/>
          <p:nvPr/>
        </p:nvSpPr>
        <p:spPr>
          <a:xfrm>
            <a:off x="1676520" y="42670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大树枝叶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5" name="Text Box 55"/>
          <p:cNvSpPr/>
          <p:nvPr/>
        </p:nvSpPr>
        <p:spPr>
          <a:xfrm>
            <a:off x="289548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稠的一面是南方 ，稀的一面是北方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6" name="Text Box 56"/>
          <p:cNvSpPr/>
          <p:nvPr/>
        </p:nvSpPr>
        <p:spPr>
          <a:xfrm>
            <a:off x="304920" y="5272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下雪天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7" name="Text Box 57"/>
          <p:cNvSpPr/>
          <p:nvPr/>
        </p:nvSpPr>
        <p:spPr>
          <a:xfrm>
            <a:off x="1600200" y="51814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沟渠里的积雪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58" name="Text Box 58"/>
          <p:cNvSpPr/>
          <p:nvPr/>
        </p:nvSpPr>
        <p:spPr>
          <a:xfrm>
            <a:off x="2971800" y="54100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化得快的是北，化得慢的是南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990000"/>
                </a:solidFill>
                <a:latin typeface="Arial"/>
              </a:rPr>
              <a:t>讨论交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一个小朋友中午在森林里迷了路，你怎么帮助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小伙伴在晚上迷路了，你会怎样帮助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下雨天你迷路了，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大雪过后，一位老爷爷找不到回家的路了，你会对他说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1143000" y="762120"/>
            <a:ext cx="71629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</a:t>
            </a: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还知道哪些辨别方向的方法？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752480" y="380880"/>
            <a:ext cx="6933960" cy="5714640"/>
            <a:chOff x="1752480" y="380880"/>
            <a:chExt cx="6933960" cy="5714640"/>
          </a:xfrm>
        </p:grpSpPr>
        <p:pic>
          <p:nvPicPr>
            <p:cNvPr id="164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1850040" y="380880"/>
              <a:ext cx="6836400" cy="57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4"/>
            <p:cNvSpPr/>
            <p:nvPr/>
          </p:nvSpPr>
          <p:spPr>
            <a:xfrm>
              <a:off x="1752480" y="456840"/>
              <a:ext cx="2539440" cy="110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510360" y="567000"/>
              <a:ext cx="3027600" cy="4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</p:grpSp>
      <p:sp>
        <p:nvSpPr>
          <p:cNvPr id="167" name="Text Box 6"/>
          <p:cNvSpPr/>
          <p:nvPr/>
        </p:nvSpPr>
        <p:spPr>
          <a:xfrm>
            <a:off x="0" y="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852720" y="22096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窄</a:t>
            </a:r>
            <a:r>
              <a:rPr b="1" lang="en-US" sz="60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—</a:t>
            </a:r>
            <a:r>
              <a:rPr b="1" lang="zh-CN" sz="60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北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095880" y="259092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Times New Roman"/>
                <a:ea typeface="楷体_GB2312"/>
              </a:rPr>
              <a:t>宽</a:t>
            </a:r>
            <a:r>
              <a:rPr b="1" lang="en-US" sz="60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—</a:t>
            </a:r>
            <a:r>
              <a:rPr b="1" lang="zh-CN" sz="6000" spc="-1" strike="noStrike">
                <a:solidFill>
                  <a:srgbClr val="66ccff"/>
                </a:solidFill>
                <a:latin typeface="Times New Roman"/>
                <a:ea typeface="楷体_GB2312"/>
              </a:rPr>
              <a:t>南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7367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楷体_GB2312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0" y="1773360"/>
            <a:ext cx="197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ulimChe"/>
              </a:rPr>
              <a:t>h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GulimChe"/>
              </a:rPr>
              <a:t>ng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慌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057400" y="1752480"/>
            <a:ext cx="151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针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51280" y="1773360"/>
            <a:ext cx="172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忠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0360" y="1700280"/>
            <a:ext cx="11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dǎo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导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380360" y="1700280"/>
            <a:ext cx="143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盏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160" y="3716280"/>
            <a:ext cx="139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pèng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碰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910520" y="3789360"/>
            <a:ext cx="1390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chóu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稠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962520" y="3581280"/>
            <a:ext cx="152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x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GulimChe"/>
              </a:rPr>
              <a:t>ī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稀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099840" y="3716280"/>
            <a:ext cx="77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j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GulimChe"/>
              </a:rPr>
              <a:t>ī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  <a:ea typeface="楷体_GB2312"/>
              </a:rPr>
              <a:t>积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007101400215569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295280" y="326088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5105520" y="32608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阳光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0"/>
            <a:ext cx="4648320" cy="3505320"/>
            <a:chOff x="0" y="0"/>
            <a:chExt cx="4648320" cy="3505320"/>
          </a:xfrm>
        </p:grpSpPr>
        <p:pic>
          <p:nvPicPr>
            <p:cNvPr id="174" name="Picture 5" descr="未命名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5520" y="0"/>
              <a:ext cx="458280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6"/>
            <p:cNvSpPr/>
            <p:nvPr/>
          </p:nvSpPr>
          <p:spPr>
            <a:xfrm>
              <a:off x="0" y="46440"/>
              <a:ext cx="1702080" cy="67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1178280" y="114120"/>
              <a:ext cx="2029320" cy="27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</p:grpSp>
      <p:pic>
        <p:nvPicPr>
          <p:cNvPr id="177" name="Picture 12" descr="346_43542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2007101400215569025"/>
          <p:cNvPicPr/>
          <p:nvPr/>
        </p:nvPicPr>
        <p:blipFill>
          <a:blip r:embed="rId4"/>
          <a:stretch/>
        </p:blipFill>
        <p:spPr>
          <a:xfrm>
            <a:off x="0" y="358128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15843414428757881"/>
          <p:cNvPicPr/>
          <p:nvPr/>
        </p:nvPicPr>
        <p:blipFill>
          <a:blip r:embed="rId5"/>
          <a:stretch/>
        </p:blipFill>
        <p:spPr>
          <a:xfrm>
            <a:off x="4648320" y="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914400" y="1066680"/>
            <a:ext cx="7620120" cy="28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：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外阅读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万个为什么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中国少儿百科全书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书，了解大自然的奥秘。  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3C1-5856-4269-AD73-8B0F2E9478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Arial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忠   导    盏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积   稀    稠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针   碰    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0000"/>
              </a:solidFill>
              <a:latin typeface="黑体"/>
            </a:endParaRPr>
          </a:p>
        </p:txBody>
      </p:sp>
      <p:pic>
        <p:nvPicPr>
          <p:cNvPr id="64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Oval 7"/>
          <p:cNvSpPr/>
          <p:nvPr/>
        </p:nvSpPr>
        <p:spPr>
          <a:xfrm>
            <a:off x="2819520" y="380880"/>
            <a:ext cx="1218960" cy="1295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2438280" y="2819520"/>
            <a:ext cx="403884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4419720" y="914400"/>
            <a:ext cx="0" cy="38098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grpSp>
        <p:nvGrpSpPr>
          <p:cNvPr id="68" name="Group 16"/>
          <p:cNvGrpSpPr/>
          <p:nvPr/>
        </p:nvGrpSpPr>
        <p:grpSpPr>
          <a:xfrm>
            <a:off x="2438280" y="914400"/>
            <a:ext cx="4038840" cy="3809880"/>
            <a:chOff x="2438280" y="914400"/>
            <a:chExt cx="4038840" cy="3809880"/>
          </a:xfrm>
        </p:grpSpPr>
        <p:sp>
          <p:nvSpPr>
            <p:cNvPr id="69" name="Rectangle 11"/>
            <p:cNvSpPr/>
            <p:nvPr/>
          </p:nvSpPr>
          <p:spPr>
            <a:xfrm>
              <a:off x="2438280" y="914400"/>
              <a:ext cx="4038840" cy="3809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  <p:sp>
          <p:nvSpPr>
            <p:cNvPr id="70" name="Line 14"/>
            <p:cNvSpPr/>
            <p:nvPr/>
          </p:nvSpPr>
          <p:spPr>
            <a:xfrm>
              <a:off x="2438280" y="2819520"/>
              <a:ext cx="4038840" cy="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  <p:sp>
          <p:nvSpPr>
            <p:cNvPr id="71" name="Line 15"/>
            <p:cNvSpPr/>
            <p:nvPr/>
          </p:nvSpPr>
          <p:spPr>
            <a:xfrm>
              <a:off x="4419720" y="914400"/>
              <a:ext cx="0" cy="3809880"/>
            </a:xfrm>
            <a:prstGeom prst="line">
              <a:avLst/>
            </a:prstGeom>
            <a:ln cap="rnd" w="381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ff0000"/>
                </a:solidFill>
                <a:latin typeface="黑体"/>
              </a:endParaRPr>
            </a:p>
          </p:txBody>
        </p:sp>
      </p:grpSp>
      <p:sp>
        <p:nvSpPr>
          <p:cNvPr id="72" name="Text Box 17"/>
          <p:cNvSpPr/>
          <p:nvPr/>
        </p:nvSpPr>
        <p:spPr>
          <a:xfrm>
            <a:off x="2666880" y="609480"/>
            <a:ext cx="3429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盏</a:t>
            </a:r>
            <a:endParaRPr b="0" lang="en-US" sz="26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-451080" y="25560"/>
            <a:ext cx="102927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zh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ng   d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o   zh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n       j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ī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忠      导     盏        积    </a:t>
            </a: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ch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u xī zhēn  p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è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</a:rPr>
              <a:t>ng  huāng</a:t>
            </a: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稠    稀   针    碰     慌    </a:t>
            </a: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162864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黑体"/>
              </a:rPr>
              <a:t>忠实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黑体"/>
              </a:rPr>
              <a:t>忠诚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340000" y="1700280"/>
            <a:ext cx="187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向导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指导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4572000" y="162864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一盏灯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灯盏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020000" y="1557360"/>
            <a:ext cx="187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积极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积雪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79280" y="48769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稠密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稀稠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979640" y="493704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稀饭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稀少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851280" y="4937040"/>
            <a:ext cx="21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指南针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别针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651640" y="5013360"/>
            <a:ext cx="19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碰到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碰巧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667640" y="4937040"/>
            <a:ext cx="216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慌张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</a:rPr>
              <a:t>慌忙</a:t>
            </a: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0"/>
            <a:ext cx="27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我会读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907920"/>
            <a:ext cx="13344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慌张 天然 指南针 北极星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辨别  忠实  向导 一盏灯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碰上  稠密  稀疏  积雪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57200" y="1066680"/>
            <a:ext cx="82296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60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了哪些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然指南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1" lang="zh-CN" sz="8800" spc="-1" strike="noStrike">
                <a:solidFill>
                  <a:srgbClr val="cc6600"/>
                </a:solidFill>
                <a:latin typeface="黑体"/>
              </a:rPr>
              <a:t> </a:t>
            </a:r>
            <a:endParaRPr b="0" lang="en-US" sz="8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876240" y="4038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</a:rPr>
              <a:t>太阳  北极星  大树  积雪</a:t>
            </a:r>
            <a:endParaRPr b="0" lang="en-US" sz="4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太阳图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241960" y="2438280"/>
            <a:ext cx="146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南</a:t>
            </a:r>
            <a:endParaRPr b="0" lang="en-US" sz="8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640320" y="5454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北</a:t>
            </a:r>
            <a:endParaRPr b="0" lang="en-US" sz="9600" spc="-1" strike="noStrike">
              <a:solidFill>
                <a:srgbClr val="ff0000"/>
              </a:solidFill>
              <a:latin typeface="黑体"/>
            </a:endParaRPr>
          </a:p>
        </p:txBody>
      </p:sp>
      <p:pic>
        <p:nvPicPr>
          <p:cNvPr id="91" name="Picture 5" descr="200703081006176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0"/>
            <a:ext cx="1657440" cy="1592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368640" y="395280"/>
            <a:ext cx="85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南</a:t>
            </a:r>
            <a:r>
              <a:rPr b="1" lang="zh-CN" sz="4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267200" y="990720"/>
            <a:ext cx="103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北</a:t>
            </a:r>
            <a:r>
              <a:rPr b="1" lang="zh-CN" sz="2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ff0000"/>
              </a:solidFill>
              <a:latin typeface="黑体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-95400" y="152280"/>
          <a:ext cx="3828960" cy="1554120"/>
        </p:xfrm>
        <a:graphic>
          <a:graphicData uri="http://schemas.openxmlformats.org/drawingml/2006/table">
            <a:tbl>
              <a:tblPr/>
              <a:tblGrid>
                <a:gridCol w="3828960"/>
              </a:tblGrid>
              <a:tr h="1554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中午时，太阳在</a:t>
                      </a:r>
                      <a:endParaRPr b="0" lang="en-US" sz="32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(   )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边，树影正指着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(   )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方。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ff0000"/>
                        </a:solidFill>
                        <a:latin typeface="黑体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14"/>
          <p:cNvSpPr/>
          <p:nvPr/>
        </p:nvSpPr>
        <p:spPr>
          <a:xfrm>
            <a:off x="3962520" y="46483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96" name="AutoShape 15"/>
          <p:cNvSpPr/>
          <p:nvPr/>
        </p:nvSpPr>
        <p:spPr>
          <a:xfrm rot="17872800">
            <a:off x="4062240" y="4515840"/>
            <a:ext cx="2359080" cy="486000"/>
          </a:xfrm>
          <a:prstGeom prst="leftRightArrow">
            <a:avLst>
              <a:gd name="adj1" fmla="val 50000"/>
              <a:gd name="adj2" fmla="val 970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990720" y="4191120"/>
            <a:ext cx="3352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990720" y="304812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219549961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371600" y="1219320"/>
            <a:ext cx="64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是个忠实的向导，它在天空给你指点方向：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447920" y="3048120"/>
            <a:ext cx="693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午的时候它在</a:t>
            </a:r>
            <a:r>
              <a:rPr b="1" lang="zh-CN" sz="48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南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上的树影正指着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北方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523880" y="3809880"/>
            <a:ext cx="5715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1447920" y="4572000"/>
            <a:ext cx="6095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400" spc="-1" strike="noStrike">
              <a:solidFill>
                <a:srgbClr val="ff0000"/>
              </a:solidFill>
              <a:latin typeface="黑体"/>
            </a:endParaRPr>
          </a:p>
        </p:txBody>
      </p:sp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0T13:16:3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34:27Z</dcterms:modified>
  <cp:revision>10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