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3E02-FBFC-4429-9922-B41DC70CF0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775-CF49-44FC-AC9C-BEFEB007DD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14B-6D55-4961-9E8B-DFB199DC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C44-8129-4F56-9DE0-264E3E22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A18-B2FC-4CB2-AF9B-6C3A3300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9B4-CCB5-4A30-9E3B-0CFCE235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44D-C341-494C-B08B-2B97A4AF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9DF-53D2-4A0E-B227-C989B12C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94D-E147-4294-BA8A-99548CE9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A15-C3C5-4DD0-9F00-A8C950D1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5E8-9D0D-4B73-8822-1B45DFC9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6F3-B45B-4712-9244-D6CFD5A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BAA-A183-408D-A8A2-40BD44C1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BF2-629A-48E6-838A-DC0E5870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90D1-A2FF-4EAD-85BB-AA7047C12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914400" y="1015920"/>
            <a:ext cx="504504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849320" y="607068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86360" y="609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059200" y="1600200"/>
            <a:ext cx="6379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噪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凌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礼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梳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326280" y="1600200"/>
            <a:ext cx="6379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铺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洗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修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篱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努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33520" y="5029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坑坑洼洼    平平整整    眉清目秀     面貌一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30225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289548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由读课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----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读懂了什么，还有什么疑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2286000" y="4952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14400" y="10666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一天，老师对小姑娘说：“明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上学之前，你把头发梳理好，行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3520" y="2514600"/>
          <a:ext cx="8305560" cy="3174840"/>
        </p:xfrm>
        <a:graphic>
          <a:graphicData uri="http://schemas.openxmlformats.org/drawingml/2006/table">
            <a:tbl>
              <a:tblPr/>
              <a:tblGrid>
                <a:gridCol w="2323800"/>
                <a:gridCol w="59817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变    化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爸爸、妈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邻   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居民们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盖茨大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97"/>
          <p:cNvSpPr/>
          <p:nvPr/>
        </p:nvSpPr>
        <p:spPr>
          <a:xfrm>
            <a:off x="685800" y="914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习要求：小组的同学先读一读这一部分的内容，再讨论表格中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57200" y="380880"/>
            <a:ext cx="4419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09480" y="220968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干什么用的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指着桌布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"/>
          <p:cNvSpPr/>
          <p:nvPr/>
        </p:nvSpPr>
        <p:spPr>
          <a:xfrm>
            <a:off x="357120" y="5234040"/>
            <a:ext cx="63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57200" y="380880"/>
            <a:ext cx="4419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57200" y="1488960"/>
            <a:ext cx="82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老师对小姑娘说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上学之前，你把头发梳理好，行吗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57200" y="4251240"/>
            <a:ext cx="82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干什么用的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指着桌布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01C-EBA6-452A-A1C4-BA74E35AB0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3:56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51Z</dcterms:modified>
  <cp:revision>8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