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000B-C99C-4515-B53B-20AEA3E753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C101-B8CC-44E3-A4E9-EADDB7EB6F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2EC-C583-41A9-95BD-A4810098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A09-76C0-469B-9225-EDE177AC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C38-E56D-40E4-AB61-5613F114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FFF-747A-42F8-AA77-9A7876CE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90F-CE01-49F4-893E-96304113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659-9ACE-4A92-8A89-B6614263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87B8-5FB6-464E-91C0-764C21B3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6A1-0AD5-4B71-876A-325C605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27A-9EF8-429A-B4F0-9B42D8DD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F6D-96CE-4FA2-8019-8327CF0D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691-FDEA-4F38-A83E-0D122450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D28-377B-4399-AA1E-52C92E84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4A4F-E150-4944-81F1-4EDF945930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2425680" y="1982880"/>
            <a:ext cx="4191120" cy="4190760"/>
          </a:xfrm>
          <a:prstGeom prst="rect">
            <a:avLst/>
          </a:prstGeom>
          <a:ln w="0">
            <a:noFill/>
          </a:ln>
        </p:spPr>
      </p:pic>
      <p:pic>
        <p:nvPicPr>
          <p:cNvPr id="49" name="美丽的苗乡.mp3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417600" y="8380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 </a:t>
            </a: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一条新裙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1775880" y="6173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6157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23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整体感知回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条新裙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盖茨大街    旧貌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——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貌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——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290080" y="2878200"/>
            <a:ext cx="4586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MCj04452180000[1]"/>
          <p:cNvPicPr/>
          <p:nvPr/>
        </p:nvPicPr>
        <p:blipFill>
          <a:blip r:embed="rId1"/>
          <a:stretch/>
        </p:blipFill>
        <p:spPr>
          <a:xfrm>
            <a:off x="5599080" y="1484280"/>
            <a:ext cx="3294000" cy="4032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346040" y="4175280"/>
            <a:ext cx="4590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MCj04452060000[1]"/>
          <p:cNvPicPr/>
          <p:nvPr/>
        </p:nvPicPr>
        <p:blipFill>
          <a:blip r:embed="rId2"/>
          <a:stretch/>
        </p:blipFill>
        <p:spPr>
          <a:xfrm>
            <a:off x="685800" y="3141720"/>
            <a:ext cx="2157480" cy="2725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第一自然段。联系上下文思考以下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盖茨大街原来是什么样子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愿意生活在这样的城市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MCj04452180000[1]"/>
          <p:cNvPicPr/>
          <p:nvPr/>
        </p:nvPicPr>
        <p:blipFill>
          <a:blip r:embed="rId1"/>
          <a:stretch/>
        </p:blipFill>
        <p:spPr>
          <a:xfrm>
            <a:off x="6012000" y="2205000"/>
            <a:ext cx="2206440" cy="3384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332000" y="2637000"/>
            <a:ext cx="417672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盖茨大街旧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脏、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路面坑坑洼洼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没有路灯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噪音、尘埃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183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校里，小姑娘们大都穿着整洁的衣衫，而来自盖茨 大街的一个小女孩，却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每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穿着睛件脏兮兮的衣服，脸上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么脏，头发也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老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么凌乱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读以上句子你能体会到什么？加点词语说明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993040" y="3500280"/>
            <a:ext cx="33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盖茨大街人们的生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穿着极不讲究，不讲究卫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942280" y="4724280"/>
            <a:ext cx="371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加点词的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小女孩一直以来都是这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读第二自然段理解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读第三至五自然段。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1916280"/>
            <a:ext cx="8540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老师对这个小女孩提出了什么要求？给予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帮助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老师要小女孩把头发梳理好，把衣服洗干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当小女孩仍穿脏衣服上学时，老师给小姑娘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了一条新裙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新裙子给小女孩家庭带来什么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饭桌铺桌布、洗刷地板、修理篱笆、清除杂草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栽一花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女孩家给邻居们带来什么变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粉刷房子、打扫房子、整理院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居民们的行动给盖茨大街带来什么变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路面铺得王平平整整，大街小巷装上路灯，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家户户都用上自来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1280" y="3141720"/>
            <a:ext cx="799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47840" y="4292640"/>
            <a:ext cx="8156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84360" y="5445000"/>
            <a:ext cx="7920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0" y="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8074080" y="1844640"/>
            <a:ext cx="4586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MCj04452060000[1]"/>
          <p:cNvPicPr/>
          <p:nvPr/>
        </p:nvPicPr>
        <p:blipFill>
          <a:blip r:embed="rId1"/>
          <a:stretch/>
        </p:blipFill>
        <p:spPr>
          <a:xfrm>
            <a:off x="6084720" y="1989000"/>
            <a:ext cx="288000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习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-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段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请同学们先读读这一部分的内容，再讨论下面的问题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　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变　　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爸爸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：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邻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居民们：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盖茨大街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读最后一自然段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227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出一条新裙子带来的面貌的惊喜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0"/>
            <a:ext cx="85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细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MCj04451600000[1]"/>
          <p:cNvPicPr/>
          <p:nvPr/>
        </p:nvPicPr>
        <p:blipFill>
          <a:blip r:embed="rId1"/>
          <a:stretch/>
        </p:blipFill>
        <p:spPr>
          <a:xfrm>
            <a:off x="900000" y="2781360"/>
            <a:ext cx="604836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有一天，老师对小姑娘说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明天上学之前，你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头发梳理好，行吗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’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这句话中用了哪些标点符号？有什么作用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句话中用了冒号、双引号、问号。冒号后加双引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  示下面是引用的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这是干什么用的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爸爸指着桌布问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引用话前面有提示语，要用冒号；引用话前面没有提示语就不用冒号。　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、深入理解，请联系上下文的内容回答以下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1773000"/>
            <a:ext cx="74912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盖茨大街为什么能旧貌换新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0" y="0"/>
            <a:ext cx="845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拓展延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0920" y="2565360"/>
            <a:ext cx="7796160" cy="36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人们从小姑娘穿上新衣服而变得漂亮受到启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一条新裙子为什么会带来这么大的变化？（同桌同学进行讨论、交流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环境促使人的改变，人又改变了环境，环境与人是相互影响的；爱心与劳动可以使生活变得更加美好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这里你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只要人人都有爱美之心，都愿意为创建美好家园而各尽所能，人们生活的环境就会越来越美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给课文对话打上标点符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老师嘱咐孩子     亲爱的宝贝   回家让妈妈给你洗洗衣服吧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 这是干什么用的       爸爸指着桌布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0"/>
            <a:ext cx="73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练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MCj04451540000[1]"/>
          <p:cNvPicPr/>
          <p:nvPr/>
        </p:nvPicPr>
        <p:blipFill>
          <a:blip r:embed="rId1"/>
          <a:stretch/>
        </p:blipFill>
        <p:spPr>
          <a:xfrm>
            <a:off x="1116000" y="3789360"/>
            <a:ext cx="1577880" cy="1347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MCj04451540000[1]"/>
          <p:cNvPicPr/>
          <p:nvPr/>
        </p:nvPicPr>
        <p:blipFill>
          <a:blip r:embed="rId2"/>
          <a:stretch/>
        </p:blipFill>
        <p:spPr>
          <a:xfrm>
            <a:off x="3419640" y="4292640"/>
            <a:ext cx="1577880" cy="134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Cj04451540000[1]"/>
          <p:cNvPicPr/>
          <p:nvPr/>
        </p:nvPicPr>
        <p:blipFill>
          <a:blip r:embed="rId3"/>
          <a:stretch/>
        </p:blipFill>
        <p:spPr>
          <a:xfrm>
            <a:off x="5724360" y="4149720"/>
            <a:ext cx="1578240" cy="1347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0200" y="609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722760" y="1844640"/>
            <a:ext cx="9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208560" y="191628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001400" y="2421000"/>
            <a:ext cx="57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258920" y="292428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4427640" y="299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图片1"/>
          <p:cNvPicPr/>
          <p:nvPr/>
        </p:nvPicPr>
        <p:blipFill>
          <a:blip r:embed="rId1">
            <a:lum bright="12000"/>
          </a:blip>
          <a:srcRect l="0" t="0" r="0" b="-51"/>
          <a:stretch/>
        </p:blipFill>
        <p:spPr>
          <a:xfrm>
            <a:off x="0" y="45720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050920" y="2209680"/>
            <a:ext cx="6266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同学们真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美丽苗乡.mp3" descr=""/>
          <p:cNvPicPr/>
          <p:nvPr/>
        </p:nvPicPr>
        <p:blipFill>
          <a:blip r:embed="rId2"/>
          <a:stretch/>
        </p:blipFill>
        <p:spPr>
          <a:xfrm>
            <a:off x="7236000" y="465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美丽苗乡.mp3" descr=""/>
          <p:cNvPicPr/>
          <p:nvPr/>
        </p:nvPicPr>
        <p:blipFill>
          <a:blip r:embed="rId3"/>
          <a:stretch/>
        </p:blipFill>
        <p:spPr>
          <a:xfrm>
            <a:off x="745164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4861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48616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540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谢谢同学们的精彩表现！</a:t>
            </a:r>
            <a:br>
              <a:rPr sz="5400"/>
            </a:b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下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7245360"/>
            <a:ext cx="854064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859280" y="3722760"/>
            <a:ext cx="34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311120" y="3362400"/>
            <a:ext cx="196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u=1138294747,1715155331&amp;fm=0&amp;gp=0"/>
          <p:cNvPicPr/>
          <p:nvPr/>
        </p:nvPicPr>
        <p:blipFill>
          <a:blip r:embed="rId1"/>
          <a:stretch/>
        </p:blipFill>
        <p:spPr>
          <a:xfrm>
            <a:off x="720720" y="1905120"/>
            <a:ext cx="2532240" cy="425268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"/>
          <p:cNvSpPr/>
          <p:nvPr/>
        </p:nvSpPr>
        <p:spPr>
          <a:xfrm>
            <a:off x="3252960" y="4511520"/>
            <a:ext cx="57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1871-C600-4392-A654-5B856F179A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2193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认识、会写本课生字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正确、流利、有感情地朗读课文，默读课文；读懂课文内容；体会标点符号的用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领悟整洁是生活中的美，环境是可以因人而改变的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554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认一认，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3360" y="1557000"/>
            <a:ext cx="8540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ā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duān         zào             lí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脏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脏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端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噪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噪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凌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凌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ào         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ū            pū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             sh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貌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礼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梳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梳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铺（铺床） 刷（洗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                bā              xiū             n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篱（篱笆） 笆（篱笆）修（修理）努（努力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195640" y="26028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9640" y="522936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端、脏乱、噪音、尘埃、凌乱、礼貌、梳理、洗刷、修理、篱笆、努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0" y="0"/>
            <a:ext cx="71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检查自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92120" y="990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认一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脏兮兮 一端  噪音  凌乱  礼貌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梳理   铺上  洗刷  修理  篱笆 努力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360" y="9907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形近字比较、组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脏（  ）噪（  ）梳（  ）铺（  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庄（  ）澡（  ）流（  ）捕（  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初读课文，了解内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选择自己喜欢的方式读课文，边读边想：课文围绕一条新裙子讲了哪些内容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760" y="764640"/>
            <a:ext cx="88423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检查自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900000" y="270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一条新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 flipH="1">
            <a:off x="6732720" y="2708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的故事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03480" y="2714760"/>
            <a:ext cx="47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带给盖茨大街居民们生活习惯和生活环境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4356000" y="3357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</a:rPr>
              <a:t>送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条新裙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14400" y="3357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455840" y="335772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了改变一位女孩脏的面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084720" y="3357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孩子的父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50920" y="400536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发现自己有一个漂亮的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364000" y="400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父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6084720" y="40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开始打扫屋子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916360" y="4005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了干净漂亮的女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50920" y="465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他们的带动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442764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居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493236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都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5435640" y="465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努力地打扫房子，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231840" y="530064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理院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1042920" y="530064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很多人的帮助下，盖茨大街变得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4500720" y="530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面貌一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2" descr="MCj04452060000[1]"/>
          <p:cNvPicPr/>
          <p:nvPr/>
        </p:nvPicPr>
        <p:blipFill>
          <a:blip r:embed="rId1"/>
          <a:stretch/>
        </p:blipFill>
        <p:spPr>
          <a:xfrm>
            <a:off x="5651640" y="5229360"/>
            <a:ext cx="3241440" cy="115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3"/>
          <p:cNvSpPr/>
          <p:nvPr/>
        </p:nvSpPr>
        <p:spPr>
          <a:xfrm>
            <a:off x="6372360" y="692280"/>
            <a:ext cx="230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4" descr="MCj04452180000[1]"/>
          <p:cNvPicPr/>
          <p:nvPr/>
        </p:nvPicPr>
        <p:blipFill>
          <a:blip r:embed="rId2"/>
          <a:stretch/>
        </p:blipFill>
        <p:spPr>
          <a:xfrm>
            <a:off x="6300720" y="765000"/>
            <a:ext cx="2303640" cy="1943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5"/>
          <p:cNvSpPr/>
          <p:nvPr/>
        </p:nvSpPr>
        <p:spPr>
          <a:xfrm>
            <a:off x="2050920" y="479736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 flipV="1" rot="10797000">
            <a:off x="1907640" y="4646160"/>
            <a:ext cx="294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脏乱有名的盖茨大街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836280"/>
            <a:ext cx="85406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快速阅读课文，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些自然段写小姑娘穿新裙子前盖茨大街的旧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些自然段写小姑娘穿新裙子后盖茨大街的新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58920" y="4941720"/>
            <a:ext cx="289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整体感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1T11:17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00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