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6409-1733-4224-BFAC-C64DD9A87C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6F95-CF4F-4F5D-A611-9FDD6B8332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505-A194-4D9E-A865-32B1D387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F54-CBE8-4571-AC1A-FBDA6D9D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500-C662-4621-B707-74B5FA45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C71-BCAA-4197-BBF3-F0A5F16B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C3A-50A7-4263-BF71-76AE5BA0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B42-BCB5-4303-9202-D0FCF956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358-E28B-4518-AEA0-E4510BB6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0EC-07FF-45DF-86A2-6BDE15B9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FA3-CABA-49D7-B034-7D2397C1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CF0-8DC0-45C5-8FDA-05F24450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4CD-97F3-4E2D-9D0B-11948E1E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0D3-6EFF-4F6C-BF9A-658B5ABE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7DC9-F23E-4328-AC58-C1F4BA8F3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74400" y="2496960"/>
            <a:ext cx="4800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66"/>
                </a:solidFill>
                <a:latin typeface="方正舒体"/>
                <a:ea typeface="方正舒体"/>
              </a:rPr>
              <a:t>愿 望</a:t>
            </a:r>
            <a:r>
              <a:rPr b="0" lang="zh-CN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362320" y="2209680"/>
            <a:ext cx="4647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ff0066"/>
                </a:solidFill>
                <a:latin typeface="宋体"/>
              </a:rPr>
              <a:t>湘教版小语文三年级上册</a:t>
            </a:r>
            <a:endParaRPr b="1" lang="en-US" sz="3200" spc="-1" strike="noStrike">
              <a:ln w="0">
                <a:noFill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941120" y="51879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探究学习，深化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探究学习方楠写下自己的愿望时的内心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看方楠的愿望是什么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同学们再把这个句子读一读，想想方楠的内心感受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阅读中认真体会方楠的心情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请一位同学来范读，其他同学思考问题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下面由老师来范读，同学们认真听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讨论：读完后，你仿佛看到了怎么样的一个方楠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3520" y="5335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细读课文，体会感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要总结课文主要讲了一件什么事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交流：课文的哪些地方使自己感动了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读课文，看课文的哪些地方自己读不明白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问题进行明确归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在自己读书的过程中，有不明白的地方，请用笔画下来，由老师来解答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各小组汇报自己小组对问题的思考，研讨结果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联系起来谈谈感受：读了这篇课文，你从中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角色扮演，深入理解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老师和同学们到底是怎么做的？请同学们结合当时的情景，想象一下老师说的话，然后同桌合作，表演出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力培养，练习朗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己练习后，由老师来组织进行朗读评析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评析的重点：老师和同学们的神态，动作表现，最后妈妈的话和短信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读的方式：单个读，然后练习分角色读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拓展谈话，升华情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什么是友善？结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愿望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谈谈自己的看法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说你在生活中遇到的充满友善的事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45AF-F556-4C40-B5C2-4F58D78468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62120" y="990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设情境，导入新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天我们要学习的一篇课文，写的是发生在班级里的故事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005-01-07_22-04-30_0"/>
          <p:cNvPicPr/>
          <p:nvPr/>
        </p:nvPicPr>
        <p:blipFill>
          <a:blip r:embed="rId1"/>
          <a:stretch/>
        </p:blipFill>
        <p:spPr>
          <a:xfrm>
            <a:off x="2590920" y="3276720"/>
            <a:ext cx="41148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007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查预习，掌握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检查朗读。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同学们，课前老师要求你们去读这篇课文，现在大家读得怎么样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请两个组的同学用开火车的形式来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一个同学读第一个自然段，其他同学认真听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"/>
          <p:cNvSpPr/>
          <p:nvPr/>
        </p:nvSpPr>
        <p:spPr>
          <a:xfrm>
            <a:off x="2057400" y="3276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òng   qiáng    wàng     jí    yuàn    bè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弄      墙       望      级     愿     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í      pī     gǎn      tóu   yǒng   jiā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      批      感       投    涌     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416680" y="2463840"/>
            <a:ext cx="469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自　笑眯眯　湿润　邀　紧紧　友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19320" y="11430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你谈谈你对这些词的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8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流阅读感受，质疑问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想一想，从课文中你知道了什么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再读课文，想想还有什么疑问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3:19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5:46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